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A6548-5900-4556-8D19-1862F3F67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2D61A-F22E-45DF-85B7-4CBE58372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135A3-5568-4041-858F-23AAA1DD8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C635A-FFC3-43F5-B80C-07F39C364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046B1-62D9-4A41-9718-918116E2C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EC9BD-63E4-4B43-BBE6-7ED7B71C2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8EBE6-49B4-4B57-8A1B-00B2119CC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5D007-16FC-46C5-9943-34995F005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A2295-111C-4B0F-B657-A26DD7214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C025E-B561-487A-9315-37125CDCA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D6575-A8EF-491B-AC78-5F281041A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9CB0-3DE5-47AB-ABB4-F0F252857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0B43A-656D-49A6-959C-9010C858F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027DD-AA64-46DE-B1A8-47F6D030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72AC7-050C-4E5F-A065-F10384FE4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83A88F-C338-4561-9CDF-695820C8A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71E4E-159C-4897-A0EA-B7A9AD411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977A8-2ED7-4DCA-B5EC-385C57365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2B481-1B7A-4158-A436-95E2D80E1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34FA8-AD59-406F-8BC9-E9F632585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65EF-2A54-4FDE-95E8-3DC04467C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BF01-F9A7-4312-8AD5-B45212D5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774BF-6082-45AD-B780-B761F4D8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2CD6F-48F5-4DE6-A997-A9D9B61F3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0CAF-9F6A-4BFC-AF1B-7F13B9AA74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9CD0-8C8E-4EAA-8EDE-4E313C7045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000"/>
            <a:ext cx="7772400" cy="35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Le droit à la santé :</a:t>
            </a:r>
            <a:br>
              <a:rPr sz="5400"/>
            </a:br>
            <a:r>
              <a:rPr b="0" lang="en-US" sz="5400" spc="-1" strike="noStrike">
                <a:solidFill>
                  <a:srgbClr val="ccecff"/>
                </a:solidFill>
                <a:latin typeface="Arial"/>
              </a:rPr>
              <a:t>Fondements en droit international</a:t>
            </a: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Dr Rabah TOUAIBI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RGANISATION MONDIALE DE LA SANTE</a:t>
            </a:r>
            <a:endParaRPr b="0" lang="en-US" sz="36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46, San Francisco : signature par 61 pays d’une convention pour constituer l’O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46 – 1948: Commission Intérimaire réunissant les bureaux sanitair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 Juin 1948: 1</a:t>
            </a:r>
            <a:r>
              <a:rPr b="0" lang="en-US" sz="3200" spc="-1" strike="noStrike" baseline="30000">
                <a:solidFill>
                  <a:srgbClr val="ffffff"/>
                </a:solidFill>
                <a:latin typeface="Arial"/>
              </a:rPr>
              <a:t>ère</a:t>
            </a:r>
            <a:r>
              <a:rPr b="0" lang="en-US" sz="3200" spc="-1" strike="noStrike">
                <a:solidFill>
                  <a:srgbClr val="ffffff"/>
                </a:solidFill>
                <a:latin typeface="Arial"/>
              </a:rPr>
              <a:t> Assemblée mondiale de la sant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MS: 1948 – 1972 :</a:t>
            </a:r>
            <a:br>
              <a:rPr sz="4000"/>
            </a:br>
            <a:r>
              <a:rPr b="0" lang="en-US" sz="4000" spc="-1" strike="noStrike">
                <a:solidFill>
                  <a:srgbClr val="ccecff"/>
                </a:solidFill>
                <a:latin typeface="Arial"/>
              </a:rPr>
              <a:t>Les premiers défis</a:t>
            </a:r>
            <a:endParaRPr b="0" lang="en-US" sz="40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priorités internationales et la mise en œuvre en droit interne:</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 programmes nationaux de santé</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s programmes sociaux</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es priorités mondiales face aux priorités nationale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iminer les grandes maladies endémiques (paludisme, hépatite…):</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méliorer l’hygiène de la maternité et de l’enfance</a:t>
            </a:r>
            <a:endParaRPr b="0" lang="en-US" sz="14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Éradiquer la tuberculose</a:t>
            </a:r>
            <a:endParaRPr b="0" lang="en-US" sz="14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rrêter la propagation des maladies vénériennes</a:t>
            </a:r>
            <a:endParaRPr b="0" lang="en-US" sz="1400" spc="-1" strike="noStrike">
              <a:solidFill>
                <a:srgbClr val="ffffff"/>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Améliorer l’administration de la santé publiqu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iminer les maladies parasitaire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Eliminer les maladies virale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Favoriser la recherche et l’amélioration des traitements en santé menta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1978 : Déclaration d’Alma Ata</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finition des soins de santé primaires: « On entend par soins de santé primaires des soins essentiels universellement accessibles à tous les individus et à toutes les familles de la communauté par des moyens qui leur sont acceptables, avec leur pleine participation et à un coût abordable pour la communauté et le pays. Les soins de santé primaires font partie intégrante du système de santé du pays, dont ils constituent le noyau, ainsi que du développement social et économique global de la communaut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es soins de santé primaires comprennent :</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éducation aux problèmes de santé et à leur prévention; la promotion de l’importance de la nutri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pprovisionnement en eau sai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protection maternelle et infantile y compris la planification familial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vaccination contre les grandes maladies infectieus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traitement des maladies courant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fourniture des médicaments essentie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538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Émergence des relations internationales </a:t>
            </a:r>
            <a:br>
              <a:rPr sz="5400"/>
            </a:br>
            <a:r>
              <a:rPr b="0" lang="en-US" sz="5400" spc="-1" strike="noStrike">
                <a:solidFill>
                  <a:srgbClr val="ffff00"/>
                </a:solidFill>
                <a:latin typeface="Arial"/>
              </a:rPr>
              <a:t>en matière de santé</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suites de la création de l’ONSH</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23: Création de l’Organisation d’Hygiène de la Société des Nations (ONSH):</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verture de bureaux sanitaires à l’échelle de la planèt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 études épidémiologiques,</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développement de la recherche sur :</a:t>
            </a:r>
            <a:endParaRPr b="0" lang="en-US" sz="18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maladies infectieuses,</a:t>
            </a: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maladies endémiques (paludisme,…)</a:t>
            </a: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 cancers…</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création d’un système d’information de santé,</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doption de standardisation biologiqu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évision et l’administration des conventions internationales sur la navigation maritime (1926) et aérienne (193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ecff"/>
                </a:solidFill>
                <a:latin typeface="Arial"/>
              </a:rPr>
              <a:t>Les effets de la création de l’ONSH</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ide technique aux pays membres pour :</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mise en place de services de santé dans les pay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développement de politiques de santé publiqu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interventions directes des experts (prévention des épidémies; approvisionnement sanitaire et médical; consultations techniques…)</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La conception de la santé dans les textes internationaux:</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nclusion du droit à la santé dans la charte des Nations Unies au titre de droit fondamental nécessaire à la stabilité mondiale (Conférence internationale de New-York – 194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4951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CHARTE DES NATIONS UNIES</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 55</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n vue de créer les conditions de stabilité et de bien être nécessaires pour assurer entre les nations des relations pacifiques et amicales fondées sur le respect du principe de l’égalité des droits des peuples et de leur droit à disposer d’eux – mêmes, les Nations Unies favorisen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 Le relèvement des niveaux de vie, le plein emploi et des conditions de progrès et de développement dans l’ordre économique et social;</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 la solution des problèmes internationaux dans les domaines économique, social, de la santé publique et autres problèmes connexes, et à la coopération internationale dans les domaines de la culture intellectuelle et de l’éducation;</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 Le respect universel et effectif des droits de l’homme et ds libertés fondamentales pour tous, sans distinction de race, de sexe, de langue ou de relig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t. 57</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es diverses institutions spécialisées crées par accords intergouvernementaux et pourvues, aux termes de leurs statuts, d’attributions internationales étendues dans les domaines économique, social, de la culture intellectuelle et de l’éducation, de la santé publique et autres domaines connexes sont reliées à l’Organisation conformément aux dispositions de l’Art. 6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Les institutions ainsi reliées à l’Organisation sont désignées ci-après par l’expression « institutions spécialisé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éclaration universelle des droits de l’homme</a:t>
            </a: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3 : Tout individu a droit à la vie, à la liberté et à la sûreté de sa personne.</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 25 : </a:t>
            </a:r>
            <a:endParaRPr b="0" lang="en-US" sz="24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Toute personne a droit à un niveau de vie suffisant pour assurer sa santé, son bien-être et ceux de sa famille, notamment pour l’alimentation, l’habillement, le logement, les soins médicaux ainsi que pour les services sociaux nécessaires; elle a droit à la sécurité en cas de chômage, de maladie, d’invalidité, de veuvage, de vieillesse ou dans les autres cas de perte de moyens de subsistance, par la suite de circonstances indépendantes de sa volonté.</a:t>
            </a:r>
            <a:endParaRPr b="0" lang="en-US" sz="2000" spc="-1" strike="noStrike">
              <a:solidFill>
                <a:srgbClr val="ffffff"/>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maternité et l’enfance ont droit à une assistance spéciale. Tous les enfants qu’ils soient nés dans le mariage ou hors du mariage jouissent de la protection socia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acte international relatif aux droits économiques, sociaux et culturels</a:t>
            </a:r>
            <a:endParaRPr b="0" lang="en-US" sz="3600" spc="-1" strike="noStrike">
              <a:solidFill>
                <a:srgbClr val="ccecff"/>
              </a:solidFill>
              <a:latin typeface="Arial"/>
            </a:endParaRPr>
          </a:p>
        </p:txBody>
      </p:sp>
      <p:sp>
        <p:nvSpPr>
          <p:cNvPr id="225" name="PlaceHolder 2"/>
          <p:cNvSpPr>
            <a:spLocks noGrp="1"/>
          </p:cNvSpPr>
          <p:nvPr>
            <p:ph/>
          </p:nvPr>
        </p:nvSpPr>
        <p:spPr>
          <a:xfrm>
            <a:off x="468360" y="1412640"/>
            <a:ext cx="8229600" cy="54450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rt. 12</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1. Les Etats parties au présent Pacte reconnaissent le droit qu’a toute personne de jouir du meilleur état de santé physique et mental qu’elle soit capable d’atteindr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2. Les mesures que les Etats parties au présent Pacte prendront en vue d’assurer le plein exercice de ce droit devront comprendre les mesures nécessaires pour assurer :</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 la diminution de la mortinatalité et de la mortalité infantile, ainsi que le développement suivi de l’enfant;</a:t>
            </a:r>
            <a:endParaRPr b="0" lang="en-US" sz="1800" spc="-1" strike="noStrike">
              <a:solidFill>
                <a:srgbClr val="ffffff"/>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 l’amélioration de tous les aspects de l’hygiène du milieu et de l’hygiène industrielle;</a:t>
            </a:r>
            <a:endParaRPr b="0" lang="en-US" sz="1800" spc="-1" strike="noStrike">
              <a:solidFill>
                <a:srgbClr val="ffffff"/>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 la prophylaxie et le traitement des maladies épidémiques, endémiques, professionnelles et autres, ainsi que la lutte contre ces maladies;</a:t>
            </a:r>
            <a:endParaRPr b="0" lang="en-US" sz="1800" spc="-1" strike="noStrike">
              <a:solidFill>
                <a:srgbClr val="ffffff"/>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8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 la création de conditions propres à assurer tous les services médicaux et une aide médicale en cas de maladi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9T22:55:21Z</dcterms:created>
  <dc:creator>TOUAIBIA Rabah</dc:creator>
  <dc:description/>
  <dc:language>en-US</dc:language>
  <cp:lastModifiedBy>TOUAIBIA Rabah</cp:lastModifiedBy>
  <dcterms:modified xsi:type="dcterms:W3CDTF">2008-05-10T00:17:03Z</dcterms:modified>
  <cp:revision>4</cp:revision>
  <dc:subject/>
  <dc:title>Le droit à la santé : Fondements en droit international</dc:title>
</cp:coreProperties>
</file>