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9.gif" ContentType="image/gif"/>
  <Override PartName="/ppt/media/image1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Eres%20un%20regalito%20de%20Dios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047F-A1CE-4174-B9C8-C1F2C48A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5BE6-053A-4C9A-9BAD-4E2BE77F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4C7-2DC1-46C5-8B0C-38DF757A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E4F-3B62-498D-9EC7-0D0572EE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5F8-9285-4E99-8C84-76009B31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CD3-DE2A-4FEF-A8A7-F40D3BCC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342-D501-440E-A80C-6A77AA18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7BDF-4EE5-466F-B973-A742E513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320-530A-4761-9FC1-90ADE2F8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786-6675-4F46-A992-D5A872EE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B38-5E99-44A0-ADD4-06D9082C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4A24-C8EC-406B-94A4-78008F1C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E2CC-D1F7-4AB1-85F2-D5E7882B2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Eres%20un%20regalito%20de%20Dio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0504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lfaen"/>
                <a:ea typeface="David"/>
              </a:rPr>
              <a:t>Over honden en over mense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87640" y="2565360"/>
            <a:ext cx="295272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Eres%20un%20regalito%20de%20Dio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3333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e00"/>
                </a:solidFill>
                <a:latin typeface="Sylfaen"/>
              </a:rPr>
              <a:t>Als ik in onsterfelijkheid zou geloven, geloofde ik dat bepaalde honden die ik gekend heb, naar de hemel zijn gegaan. En maar héél, héél weinig mensen.</a:t>
            </a:r>
            <a:r>
              <a:rPr b="1" lang="en-US" sz="2000" spc="-1" strike="noStrike">
                <a:solidFill>
                  <a:srgbClr val="007e00"/>
                </a:solidFill>
                <a:latin typeface="Sylfaen"/>
              </a:rPr>
              <a:t>                                        </a:t>
            </a:r>
            <a:r>
              <a:rPr b="0" lang="en-US" sz="2000" spc="-1" strike="noStrike">
                <a:solidFill>
                  <a:srgbClr val="007e00"/>
                </a:solidFill>
                <a:latin typeface="Sylfaen"/>
              </a:rPr>
              <a:t>                                                 James Thur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1280" y="981000"/>
            <a:ext cx="324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Mijn hond is erg bezorgd, omdat de prijs van een zak Doggi met 3€ omhoog is gegaan. Dat is bijna 21€ in hondeng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Joe Wein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1989000"/>
            <a:ext cx="264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Als uw hond te dik is, doet u te weinig aan lichaamsbeweg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365720"/>
            <a:ext cx="2050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Mijn doel in het leven is zo´n goed mens te worden, als dat mijn hond denkt dat ik 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4762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Honden houden van hun vrienden en bijten hun vijanden. Bijna tegengest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aan de mensen, die ertoe neigen liefde en haat door elkaar te goo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Sigmund Fre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38080" y="31240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33360"/>
            <a:ext cx="205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Honden zijn niet alles in het leven, maar ze maken het wel compl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Roger Ca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077320" cy="5048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06640" y="415800"/>
            <a:ext cx="681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De reden waarom honden zoveel  vrienden hebb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is omdat ze hun staart bewegen in plaats van hun to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95008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0920" y="5445000"/>
            <a:ext cx="86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Vrouwen en katten doen waar ze zin in hebben, honden en mannen moeten zich ontspannen en maar aan dit idee wen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Robert A. Hein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315200" cy="4889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550000" cy="3429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0920" y="5157720"/>
            <a:ext cx="86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reden waarom je dit mailtje krijgt, is omdat 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 kilometers afstand een goed mens kunnen rui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79640" y="595008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970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Als honden niet naar de hemel gaa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wil ik na mijn dood naar de plaats waar ze wél heen ga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Will Ro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764520" y="20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你默默的回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43080" y="0"/>
            <a:ext cx="48578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133720"/>
            <a:ext cx="212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gemiddelde hond is beter dan de gemiddelde me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y Ro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404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Als je een hongerige hond van de straat plukt en eten geeft, zal hij je niet bij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Dat is het belangrijkste verschil tussen de hond en de me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Mark Tw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6160" y="1639800"/>
            <a:ext cx="93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Er is op de wereld geen betere psychiatrie, dan een hond die je gezicht aflik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Ben Willi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320" y="609480"/>
            <a:ext cx="91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De bewondering van een hond voor jou, wil niet zeg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dat je ook echt geweldig b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Ann La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890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ylfaen"/>
              </a:rPr>
              <a:t>Ik vraag me weleens af, of de meeste honden naar Poedels kij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ylfaen"/>
              </a:rPr>
              <a:t>alsof het leden zijn van een vreemde religieuze cult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ylfaen"/>
              </a:rPr>
              <a:t>Rita Rud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161856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Vraag je je weleens af wat onze honden van ons denken? Stel je eens voor: je komt thuis van de supermarkt met kippenbouten, biefstukken, hamlappen, karbonades. Ze moeten wel denken dat wij de beste jagers ter wereld zij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Anne Ty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45336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476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ylfaen"/>
              </a:rPr>
              <a:t>Iemand die niet weet hoe zeep smaakt, heeft nog nooit een hond gewass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Sylfaen"/>
              </a:rPr>
              <a:t>Franklin P. J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6:34:52Z</dcterms:created>
  <dc:creator/>
  <dc:description/>
  <dc:language>en-US</dc:language>
  <cp:lastModifiedBy>Smets</cp:lastModifiedBy>
  <dcterms:modified xsi:type="dcterms:W3CDTF">2008-10-15T18:49:49Z</dcterms:modified>
  <cp:revision>41</cp:revision>
  <dc:subject/>
  <dc:title>PowerPoint Presentation</dc:title>
</cp:coreProperties>
</file>