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camera.wav" ContentType="audio/x-wav"/>
  <Override PartName="/ppt/media/image6.png" ContentType="image/png"/>
  <Override PartName="/ppt/media/drumroll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D99-929D-4093-BDD3-BA6AC1E3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551-A417-4F71-92A9-0D73FF54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53B-96A2-4C33-B5F2-B26B0866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378-0372-4F44-BEB9-EE80AF6B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1DF-EC37-4753-A70E-B48736DC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C25-2E6C-4F7B-B505-EC37155B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578-261C-428D-B7DD-2112BB51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6C7-70A3-4483-B18E-FF74E1DA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388-5428-46B4-9AA1-1FB90E97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67E-5627-477A-8541-52DAA36C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029-2C13-4280-AFE7-8F38C5D3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A51-3F9F-4AE4-ABA4-47A9D823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94D0-1186-4652-8204-3E72EA9E794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0481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ff0000"/>
                </a:solidFill>
                <a:latin typeface="Palace Script MT"/>
              </a:rPr>
              <a:t>samen naar een PowerPoint presentatie kijken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18148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home sweet home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homeshome" descr=""/>
          <p:cNvPicPr/>
          <p:nvPr/>
        </p:nvPicPr>
        <p:blipFill>
          <a:blip r:embed="rId1"/>
          <a:srcRect l="0" t="18231" r="0" b="10507"/>
          <a:stretch/>
        </p:blipFill>
        <p:spPr>
          <a:xfrm>
            <a:off x="2438280" y="1447920"/>
            <a:ext cx="4267440" cy="3970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869000"/>
            <a:ext cx="8991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samen naar de sterren kijke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10039" r="6120" b="9660"/>
          <a:stretch/>
        </p:blipFill>
        <p:spPr>
          <a:xfrm>
            <a:off x="2705040" y="1447920"/>
            <a:ext cx="3733920" cy="3962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atenliggen" descr=""/>
          <p:cNvPicPr/>
          <p:nvPr/>
        </p:nvPicPr>
        <p:blipFill>
          <a:blip r:embed="rId1"/>
          <a:srcRect l="0" t="16952" r="0" b="10171"/>
          <a:stretch/>
        </p:blipFill>
        <p:spPr>
          <a:xfrm>
            <a:off x="2438280" y="1457280"/>
            <a:ext cx="4267440" cy="3952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518148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haar nog even laten ligge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checker dir="horz"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18148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altijd in elkaars gedachte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dachten" descr=""/>
          <p:cNvPicPr/>
          <p:nvPr/>
        </p:nvPicPr>
        <p:blipFill>
          <a:blip r:embed="rId1"/>
          <a:srcRect l="0" t="17277" r="-7072" b="11754"/>
          <a:stretch/>
        </p:blipFill>
        <p:spPr>
          <a:xfrm>
            <a:off x="2438280" y="1447920"/>
            <a:ext cx="457200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518148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hem op dieet zetten 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dieet" descr=""/>
          <p:cNvPicPr/>
          <p:nvPr/>
        </p:nvPicPr>
        <p:blipFill>
          <a:blip r:embed="rId1"/>
          <a:srcRect l="0" t="17528" r="0" b="9382"/>
          <a:stretch/>
        </p:blipFill>
        <p:spPr>
          <a:xfrm>
            <a:off x="2438280" y="14479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18148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stoppeltjes in het weekend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toppel" descr=""/>
          <p:cNvPicPr/>
          <p:nvPr/>
        </p:nvPicPr>
        <p:blipFill>
          <a:blip r:embed="rId1"/>
          <a:srcRect l="0" t="21526" r="0" b="7410"/>
          <a:stretch/>
        </p:blipFill>
        <p:spPr>
          <a:xfrm>
            <a:off x="2438280" y="1447920"/>
            <a:ext cx="4267440" cy="3979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518148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grenzeloos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renzeloos" descr=""/>
          <p:cNvPicPr/>
          <p:nvPr/>
        </p:nvPicPr>
        <p:blipFill>
          <a:blip r:embed="rId1"/>
          <a:srcRect l="0" t="17256" r="1998" b="9260"/>
          <a:stretch/>
        </p:blipFill>
        <p:spPr>
          <a:xfrm>
            <a:off x="2438280" y="14479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18148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hem heftig zoene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heftigzoenen" descr=""/>
          <p:cNvPicPr/>
          <p:nvPr/>
        </p:nvPicPr>
        <p:blipFill>
          <a:blip r:embed="rId1"/>
          <a:srcRect l="0" t="17464" r="0" b="11397"/>
          <a:stretch/>
        </p:blipFill>
        <p:spPr>
          <a:xfrm>
            <a:off x="2438280" y="14479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518148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hem verleide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verleiden" descr=""/>
          <p:cNvPicPr/>
          <p:nvPr/>
        </p:nvPicPr>
        <p:blipFill>
          <a:blip r:embed="rId1"/>
          <a:srcRect l="0" t="16824" r="0" b="11115"/>
          <a:stretch/>
        </p:blipFill>
        <p:spPr>
          <a:xfrm>
            <a:off x="2438280" y="14479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Palace Script MT"/>
              </a:rPr>
              <a:t>Liefde is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18148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…</a:t>
            </a:r>
            <a:r>
              <a:rPr b="1" lang="en-US" sz="8800" spc="-1" strike="noStrike">
                <a:solidFill>
                  <a:srgbClr val="ff0000"/>
                </a:solidFill>
                <a:latin typeface="Palace Script MT"/>
              </a:rPr>
              <a:t>onvoorwaardelijke trouw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onvw_trouw" descr=""/>
          <p:cNvPicPr/>
          <p:nvPr/>
        </p:nvPicPr>
        <p:blipFill>
          <a:blip r:embed="rId1"/>
          <a:srcRect l="0" t="16413" r="0" b="9260"/>
          <a:stretch/>
        </p:blipFill>
        <p:spPr>
          <a:xfrm>
            <a:off x="2438280" y="14479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4:15:15Z</dcterms:created>
  <dc:creator>Jan Vos</dc:creator>
  <dc:description/>
  <dc:language>en-US</dc:language>
  <cp:lastModifiedBy>Smets</cp:lastModifiedBy>
  <dcterms:modified xsi:type="dcterms:W3CDTF">2008-09-21T05:08:52Z</dcterms:modified>
  <cp:revision>30</cp:revision>
  <dc:subject/>
  <dc:title>Liefde is…</dc:title>
</cp:coreProperties>
</file>