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camera.wav" ContentType="audio/x-wav"/>
  <Override PartName="/ppt/media/image6.png" ContentType="image/png"/>
  <Override PartName="/ppt/media/drumroll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applause.wav" ContentType="audio/x-wav"/>
  <Override PartName="/ppt/media/image10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655A-B678-40F3-80EE-462AC400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55E0-9605-4DC8-993C-D71BC8D3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B3F3-2344-4118-803B-97053B290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F9D4-B616-4546-8CED-FFCFEEFF2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A11C-B5AA-4637-9D3B-4713217D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4E8D-6A98-467A-B9A8-4B4BA9A5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C571-3662-4D45-BA92-3AAAE2A8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0B8C-7357-44B1-B5FC-1D8636C6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7EB4-70E3-46CC-9198-1939FA30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DDA7-903B-45B4-AEF2-9A5CE309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E822-7F20-48B5-B653-DEE98E72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2319-10A3-4260-9C7A-20629853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1CB1-B359-44EB-B20C-DB14EF76424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ffff00"/>
                </a:solidFill>
                <a:latin typeface="Palace Script MT"/>
              </a:rPr>
              <a:t>Liefde is…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0481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ff0000"/>
                </a:solidFill>
                <a:latin typeface="Palace Script MT"/>
              </a:rPr>
              <a:t>samen naar een PowerPoint presentatie kijken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Palace Script MT"/>
              </a:rPr>
              <a:t>Liefde is…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5181480"/>
            <a:ext cx="8534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Palace Script MT"/>
              </a:rPr>
              <a:t>…</a:t>
            </a:r>
            <a:r>
              <a:rPr b="1" lang="en-US" sz="8800" spc="-1" strike="noStrike">
                <a:solidFill>
                  <a:srgbClr val="ff0000"/>
                </a:solidFill>
                <a:latin typeface="Palace Script MT"/>
              </a:rPr>
              <a:t>home sweet home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homeshome" descr=""/>
          <p:cNvPicPr/>
          <p:nvPr/>
        </p:nvPicPr>
        <p:blipFill>
          <a:blip r:embed="rId1"/>
          <a:srcRect l="0" t="18231" r="0" b="10507"/>
          <a:stretch/>
        </p:blipFill>
        <p:spPr>
          <a:xfrm>
            <a:off x="2438280" y="1447920"/>
            <a:ext cx="4267440" cy="39700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Palace Script MT"/>
              </a:rPr>
              <a:t>Liefde is…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869000"/>
            <a:ext cx="8991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Palace Script MT"/>
              </a:rPr>
              <a:t>…</a:t>
            </a:r>
            <a:r>
              <a:rPr b="1" lang="en-US" sz="8800" spc="-1" strike="noStrike">
                <a:solidFill>
                  <a:srgbClr val="ff0000"/>
                </a:solidFill>
                <a:latin typeface="Palace Script MT"/>
              </a:rPr>
              <a:t>samen naar de sterren kijken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0" t="10039" r="6120" b="9660"/>
          <a:stretch/>
        </p:blipFill>
        <p:spPr>
          <a:xfrm>
            <a:off x="2705040" y="1447920"/>
            <a:ext cx="3733920" cy="3962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197964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500"/>
                            </p:stCondLst>
                            <p:childTnLst>
                              <p:par>
                                <p:cTn id="25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500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Palace Script MT"/>
              </a:rPr>
              <a:t>Liefde is…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atenliggen" descr=""/>
          <p:cNvPicPr/>
          <p:nvPr/>
        </p:nvPicPr>
        <p:blipFill>
          <a:blip r:embed="rId1"/>
          <a:srcRect l="0" t="16952" r="0" b="10171"/>
          <a:stretch/>
        </p:blipFill>
        <p:spPr>
          <a:xfrm>
            <a:off x="2438280" y="1457280"/>
            <a:ext cx="4267440" cy="3952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920" y="5181480"/>
            <a:ext cx="8534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Palace Script MT"/>
              </a:rPr>
              <a:t>…</a:t>
            </a:r>
            <a:r>
              <a:rPr b="1" lang="en-US" sz="8800" spc="-1" strike="noStrike">
                <a:solidFill>
                  <a:srgbClr val="ff0000"/>
                </a:solidFill>
                <a:latin typeface="Palace Script MT"/>
              </a:rPr>
              <a:t>haar nog even laten liggen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checker dir="horz"/>
    <p:sndAc>
      <p:stSnd>
        <p:snd r:embed="rId2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Palace Script MT"/>
              </a:rPr>
              <a:t>Liefde is…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181480"/>
            <a:ext cx="8534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Palace Script MT"/>
              </a:rPr>
              <a:t>…</a:t>
            </a:r>
            <a:r>
              <a:rPr b="1" lang="en-US" sz="8800" spc="-1" strike="noStrike">
                <a:solidFill>
                  <a:srgbClr val="ff0000"/>
                </a:solidFill>
                <a:latin typeface="Palace Script MT"/>
              </a:rPr>
              <a:t>altijd in elkaars gedachten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gedachten" descr=""/>
          <p:cNvPicPr/>
          <p:nvPr/>
        </p:nvPicPr>
        <p:blipFill>
          <a:blip r:embed="rId1"/>
          <a:srcRect l="0" t="17277" r="-7072" b="11754"/>
          <a:stretch/>
        </p:blipFill>
        <p:spPr>
          <a:xfrm>
            <a:off x="2438280" y="1447920"/>
            <a:ext cx="4572000" cy="3962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Palace Script MT"/>
              </a:rPr>
              <a:t>Liefde is…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5181480"/>
            <a:ext cx="8534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Palace Script MT"/>
              </a:rPr>
              <a:t>…</a:t>
            </a:r>
            <a:r>
              <a:rPr b="1" lang="en-US" sz="8800" spc="-1" strike="noStrike">
                <a:solidFill>
                  <a:srgbClr val="ff0000"/>
                </a:solidFill>
                <a:latin typeface="Palace Script MT"/>
              </a:rPr>
              <a:t>hem op dieet zetten 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dieet" descr=""/>
          <p:cNvPicPr/>
          <p:nvPr/>
        </p:nvPicPr>
        <p:blipFill>
          <a:blip r:embed="rId1"/>
          <a:srcRect l="0" t="17528" r="0" b="9382"/>
          <a:stretch/>
        </p:blipFill>
        <p:spPr>
          <a:xfrm>
            <a:off x="2438280" y="1447920"/>
            <a:ext cx="4267440" cy="3962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Palace Script MT"/>
              </a:rPr>
              <a:t>Liefde is…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5181480"/>
            <a:ext cx="8534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Palace Script MT"/>
              </a:rPr>
              <a:t>…</a:t>
            </a:r>
            <a:r>
              <a:rPr b="1" lang="en-US" sz="8800" spc="-1" strike="noStrike">
                <a:solidFill>
                  <a:srgbClr val="ff0000"/>
                </a:solidFill>
                <a:latin typeface="Palace Script MT"/>
              </a:rPr>
              <a:t>stoppeltjes in het weekend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stoppel" descr=""/>
          <p:cNvPicPr/>
          <p:nvPr/>
        </p:nvPicPr>
        <p:blipFill>
          <a:blip r:embed="rId1"/>
          <a:srcRect l="0" t="21526" r="0" b="7410"/>
          <a:stretch/>
        </p:blipFill>
        <p:spPr>
          <a:xfrm>
            <a:off x="2438280" y="1447920"/>
            <a:ext cx="4267440" cy="39798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Palace Script MT"/>
              </a:rPr>
              <a:t>Liefde is…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5181480"/>
            <a:ext cx="853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Palace Script MT"/>
              </a:rPr>
              <a:t>…</a:t>
            </a:r>
            <a:r>
              <a:rPr b="1" lang="en-US" sz="8800" spc="-1" strike="noStrike">
                <a:solidFill>
                  <a:srgbClr val="ff0000"/>
                </a:solidFill>
                <a:latin typeface="Palace Script MT"/>
              </a:rPr>
              <a:t>grenzeloos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grenzeloos" descr=""/>
          <p:cNvPicPr/>
          <p:nvPr/>
        </p:nvPicPr>
        <p:blipFill>
          <a:blip r:embed="rId1"/>
          <a:srcRect l="0" t="17256" r="1998" b="9260"/>
          <a:stretch/>
        </p:blipFill>
        <p:spPr>
          <a:xfrm>
            <a:off x="2438280" y="1447920"/>
            <a:ext cx="4267440" cy="3962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Palace Script MT"/>
              </a:rPr>
              <a:t>Liefde is…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5181480"/>
            <a:ext cx="8534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Palace Script MT"/>
              </a:rPr>
              <a:t>…</a:t>
            </a:r>
            <a:r>
              <a:rPr b="1" lang="en-US" sz="8800" spc="-1" strike="noStrike">
                <a:solidFill>
                  <a:srgbClr val="ff0000"/>
                </a:solidFill>
                <a:latin typeface="Palace Script MT"/>
              </a:rPr>
              <a:t>hem heftig zoenen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heftigzoenen" descr=""/>
          <p:cNvPicPr/>
          <p:nvPr/>
        </p:nvPicPr>
        <p:blipFill>
          <a:blip r:embed="rId1"/>
          <a:srcRect l="0" t="17464" r="0" b="11397"/>
          <a:stretch/>
        </p:blipFill>
        <p:spPr>
          <a:xfrm>
            <a:off x="2438280" y="1447920"/>
            <a:ext cx="4267440" cy="3962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Palace Script MT"/>
              </a:rPr>
              <a:t>Liefde is…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5181480"/>
            <a:ext cx="8534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Palace Script MT"/>
              </a:rPr>
              <a:t>…</a:t>
            </a:r>
            <a:r>
              <a:rPr b="1" lang="en-US" sz="8800" spc="-1" strike="noStrike">
                <a:solidFill>
                  <a:srgbClr val="ff0000"/>
                </a:solidFill>
                <a:latin typeface="Palace Script MT"/>
              </a:rPr>
              <a:t>hem verleiden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verleiden" descr=""/>
          <p:cNvPicPr/>
          <p:nvPr/>
        </p:nvPicPr>
        <p:blipFill>
          <a:blip r:embed="rId1"/>
          <a:srcRect l="0" t="16824" r="0" b="11115"/>
          <a:stretch/>
        </p:blipFill>
        <p:spPr>
          <a:xfrm>
            <a:off x="2438280" y="1447920"/>
            <a:ext cx="4267440" cy="3962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Palace Script MT"/>
              </a:rPr>
              <a:t>Liefde is…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5181480"/>
            <a:ext cx="8534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Palace Script MT"/>
              </a:rPr>
              <a:t>…</a:t>
            </a:r>
            <a:r>
              <a:rPr b="1" lang="en-US" sz="8800" spc="-1" strike="noStrike">
                <a:solidFill>
                  <a:srgbClr val="ff0000"/>
                </a:solidFill>
                <a:latin typeface="Palace Script MT"/>
              </a:rPr>
              <a:t>onvoorwaardelijke trouw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onvw_trouw" descr=""/>
          <p:cNvPicPr/>
          <p:nvPr/>
        </p:nvPicPr>
        <p:blipFill>
          <a:blip r:embed="rId1"/>
          <a:srcRect l="0" t="16413" r="0" b="9260"/>
          <a:stretch/>
        </p:blipFill>
        <p:spPr>
          <a:xfrm>
            <a:off x="2438280" y="1447920"/>
            <a:ext cx="4267440" cy="3962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7T14:15:15Z</dcterms:created>
  <dc:creator>Jan Vos</dc:creator>
  <dc:description/>
  <dc:language>en-US</dc:language>
  <cp:lastModifiedBy>Smets</cp:lastModifiedBy>
  <dcterms:modified xsi:type="dcterms:W3CDTF">2008-09-21T05:08:52Z</dcterms:modified>
  <cp:revision>30</cp:revision>
  <dc:subject/>
  <dc:title>Liefde is…</dc:title>
</cp:coreProperties>
</file>