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Erik%20en%20Sanne%20-%20Het%20huis%20dat%20tussen%20rozen%20stond.wav" ContentType="audio/x-wav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7F-2F58-425D-9E17-4FF7B40F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E41-4018-4436-A2A0-1E5CC662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8FB-2840-4712-9487-8F097D6B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BEC-CCD0-40F0-B859-EEBD2D5D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27F-35AA-4634-B5E0-ABBFE71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F19-A538-4B47-8FB7-ABDA08D4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BB2-86A0-4910-8B59-629E5FA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432-C724-46A6-81DD-3145429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72F-4363-4DE3-80E5-36F5B7AC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872-2292-41E6-A38A-C30F8F7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BA1-545D-4872-B76E-BF5A5F7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15E-07FA-4AA5-959A-2DBDA03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DCA7-3603-4EDF-B5E1-A2685F85C158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rik%20en%20Sanne%20-%20Het%20huis%20dat%20tussen%20rozen%20sto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jdelijke aanduiding voor inhoud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Rechthoek 4" descr=""/>
          <p:cNvPicPr/>
          <p:nvPr/>
        </p:nvPicPr>
        <p:blipFill>
          <a:blip r:embed="rId2"/>
          <a:stretch/>
        </p:blipFill>
        <p:spPr>
          <a:xfrm>
            <a:off x="2146320" y="96840"/>
            <a:ext cx="4614840" cy="102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d"/>
    <p:sndAc>
      <p:stSnd>
        <p:snd r:embed="rId3" name="Erik%20en%20Sanne%20-%20Het%20huis%20dat%20tussen%20rozen%20sto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ijdelijke aanduiding voor inhoud 3" descr="10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ijdelijke aanduiding voor inhoud 3" descr="11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ijdelijke aanduiding voor inhoud 3" descr="12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ijdelijke aanduiding voor inhoud 3" descr="13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Tijdelijke aanduiding voor inhoud 3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15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72" name="Rechthoek 3" descr=""/>
          <p:cNvPicPr/>
          <p:nvPr/>
        </p:nvPicPr>
        <p:blipFill>
          <a:blip r:embed="rId2"/>
          <a:stretch/>
        </p:blipFill>
        <p:spPr>
          <a:xfrm>
            <a:off x="4979880" y="7211880"/>
            <a:ext cx="714600" cy="3206880"/>
          </a:xfrm>
          <a:prstGeom prst="rect">
            <a:avLst/>
          </a:prstGeom>
          <a:ln w="0">
            <a:noFill/>
          </a:ln>
        </p:spPr>
      </p:pic>
      <p:pic>
        <p:nvPicPr>
          <p:cNvPr id="73" name="Rechthoek 4" descr=""/>
          <p:cNvPicPr/>
          <p:nvPr/>
        </p:nvPicPr>
        <p:blipFill>
          <a:blip r:embed="rId3"/>
          <a:stretch/>
        </p:blipFill>
        <p:spPr>
          <a:xfrm>
            <a:off x="6864480" y="6119640"/>
            <a:ext cx="1919160" cy="622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Tijdelijke aanduiding voor inhoud 3" descr="2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184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Tijdelijke aanduiding voor inhoud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inhoud 3" descr="4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ijdelijke aanduiding voor inhoud 3" descr="6.jpg"/>
          <p:cNvPicPr/>
          <p:nvPr/>
        </p:nvPicPr>
        <p:blipFill>
          <a:blip r:embed="rId1"/>
          <a:stretch/>
        </p:blipFill>
        <p:spPr>
          <a:xfrm>
            <a:off x="0" y="0"/>
            <a:ext cx="10399680" cy="689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3" descr="7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Tijdelijke aanduiding voor inhoud 3" descr="8.jpg"/>
          <p:cNvPicPr/>
          <p:nvPr/>
        </p:nvPicPr>
        <p:blipFill>
          <a:blip r:embed="rId1"/>
          <a:stretch/>
        </p:blipFill>
        <p:spPr>
          <a:xfrm>
            <a:off x="0" y="0"/>
            <a:ext cx="9723600" cy="7291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ijdelijke aanduiding voor inhoud 3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769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02:46Z</dcterms:created>
  <dc:creator>Jeaninne Roosen</dc:creator>
  <dc:description/>
  <dc:language>en-US</dc:language>
  <cp:lastModifiedBy>Jeaninne Roosen</cp:lastModifiedBy>
  <dcterms:modified xsi:type="dcterms:W3CDTF">2010-04-09T19:07:32Z</dcterms:modified>
  <cp:revision>2</cp:revision>
  <dc:subject/>
  <dc:title>Dia 1</dc:title>
</cp:coreProperties>
</file>