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Erik%20en%20Sanne%20-%20Het%20huis%20dat%20tussen%20rozen%20stond.wav" ContentType="audio/x-wav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A84-3FFC-4A05-8E41-0AF6DCF4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E13-AD7B-4828-B2E0-A369A623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057-287A-435A-9357-47A1BBC1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ED6-32CB-4C93-8455-020D7328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F39-0045-4663-ADEF-CDEEDEE5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BEF-7247-4954-9D10-5CE8CC54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5A8-DC96-4C44-8270-F6C7017B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9636-9534-4D75-A8B8-6E65D264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EC2-A669-4513-998E-93D11DE5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E90-E3D9-4628-91AD-CD39950B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356-341E-4D67-A4D5-1D5EA23E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406-D51F-4FD6-B2C0-CE6F785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664A-E731-4530-B9C3-D61E7C9E58DD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rik%20en%20Sanne%20-%20Het%20huis%20dat%20tussen%20rozen%20sto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jdelijke aanduiding voor inhoud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Rechthoek 4" descr=""/>
          <p:cNvPicPr/>
          <p:nvPr/>
        </p:nvPicPr>
        <p:blipFill>
          <a:blip r:embed="rId2"/>
          <a:stretch/>
        </p:blipFill>
        <p:spPr>
          <a:xfrm>
            <a:off x="2146320" y="96840"/>
            <a:ext cx="4614840" cy="102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d"/>
    <p:sndAc>
      <p:stSnd>
        <p:snd r:embed="rId3" name="Erik%20en%20Sanne%20-%20Het%20huis%20dat%20tussen%20rozen%20sto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ijdelijke aanduiding voor inhoud 3" descr="10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Tijdelijke aanduiding voor inhoud 3" descr="11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Tijdelijke aanduiding voor inhoud 3" descr="12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ijdelijke aanduiding voor inhoud 3" descr="13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Tijdelijke aanduiding voor inhoud 3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ijdelijke aanduiding voor inhoud 3" descr="15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72" name="Rechthoek 3" descr=""/>
          <p:cNvPicPr/>
          <p:nvPr/>
        </p:nvPicPr>
        <p:blipFill>
          <a:blip r:embed="rId2"/>
          <a:stretch/>
        </p:blipFill>
        <p:spPr>
          <a:xfrm>
            <a:off x="4979880" y="7211880"/>
            <a:ext cx="714600" cy="3206880"/>
          </a:xfrm>
          <a:prstGeom prst="rect">
            <a:avLst/>
          </a:prstGeom>
          <a:ln w="0">
            <a:noFill/>
          </a:ln>
        </p:spPr>
      </p:pic>
      <p:pic>
        <p:nvPicPr>
          <p:cNvPr id="73" name="Rechthoek 4" descr=""/>
          <p:cNvPicPr/>
          <p:nvPr/>
        </p:nvPicPr>
        <p:blipFill>
          <a:blip r:embed="rId3"/>
          <a:stretch/>
        </p:blipFill>
        <p:spPr>
          <a:xfrm>
            <a:off x="6864480" y="6119640"/>
            <a:ext cx="1919160" cy="622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Tijdelijke aanduiding voor inhoud 3" descr="2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184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Tijdelijke aanduiding voor inhoud 3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ijdelijke aanduiding voor inhoud 3" descr="4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ijdelijke aanduiding voor inhoud 3" descr="6.jpg"/>
          <p:cNvPicPr/>
          <p:nvPr/>
        </p:nvPicPr>
        <p:blipFill>
          <a:blip r:embed="rId1"/>
          <a:stretch/>
        </p:blipFill>
        <p:spPr>
          <a:xfrm>
            <a:off x="0" y="0"/>
            <a:ext cx="10399680" cy="6894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3" descr="7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Tijdelijke aanduiding voor inhoud 3" descr="8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ijdelijke aanduiding voor inhoud 3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769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02:46Z</dcterms:created>
  <dc:creator>Jeaninne Roosen</dc:creator>
  <dc:description/>
  <dc:language>en-US</dc:language>
  <cp:lastModifiedBy>Jeaninne Roosen</cp:lastModifiedBy>
  <dcterms:modified xsi:type="dcterms:W3CDTF">2010-04-09T19:07:32Z</dcterms:modified>
  <cp:revision>2</cp:revision>
  <dc:subject/>
  <dc:title>Dia 1</dc:title>
</cp:coreProperties>
</file>