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CEB-550C-4FE9-B9CB-D372C49C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DB2-29C1-4788-89F1-44CA63B7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FC9-C553-4270-92BE-8F6D9588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CCA0-F55C-48ED-B7D1-4B64BCC1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ACBE-0CEF-406F-AB95-29A14028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939C-68AE-4DDC-B19F-DD06DAFB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F557-93A9-4797-89F3-677D27C3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92E1-9025-4D2C-B0DD-E30CEFF0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4D26-368D-4227-9785-1F800668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C2FB-7374-4F73-ABD3-F45A20A3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EC3B-7FC5-4E52-A35B-119EA69C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D97-5925-4CFD-AB8E-E11D265A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CC1A-7BBC-4A4C-A504-9F047180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2282-B2B5-4E87-ABB1-25C6FA42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29F4-8744-4265-BE72-BA5C750F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89EE-F742-499E-9668-2CBAA67E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53EA-21C0-4B64-8CEC-E3F352B5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D1D9-4E05-40EF-9396-CC44BFAA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B0C-5E66-47D6-95E5-D4DDDBCB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0E89-37E7-4F0A-A812-82597DC4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CDD-8845-4CEA-A77A-77DE05E1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EE5-9466-4426-9F44-E14BA3E0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0ACF-1BAF-43CE-B6EC-36286855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629-488E-4F0C-B052-DE785788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160A-E0BC-481C-BE6C-59268C063B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9F27-B766-4CE2-BDDC-2773CABF68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74320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Tahoma"/>
              </a:rPr>
              <a:t>Tema V: Fundamentos de la conversión electromecánica de energía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escudo%20uniovi%20color%20transp" descr=""/>
          <p:cNvPicPr/>
          <p:nvPr/>
        </p:nvPicPr>
        <p:blipFill>
          <a:blip r:embed="rId1"/>
          <a:stretch/>
        </p:blipFill>
        <p:spPr>
          <a:xfrm>
            <a:off x="533520" y="388800"/>
            <a:ext cx="1726920" cy="136368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</p:pic>
      <p:sp>
        <p:nvSpPr>
          <p:cNvPr id="90" name=""/>
          <p:cNvSpPr/>
          <p:nvPr/>
        </p:nvSpPr>
        <p:spPr>
          <a:xfrm>
            <a:off x="2210040" y="846000"/>
            <a:ext cx="497952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cc66"/>
                </a:solidFill>
                <a:latin typeface="Arial"/>
              </a:rPr>
              <a:t>Universidad de Oviedo</a:t>
            </a:r>
            <a:r>
              <a:rPr b="1" lang="en-US" sz="3600" spc="-1" strike="noStrike">
                <a:solidFill>
                  <a:srgbClr val="2700a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029200"/>
            <a:ext cx="5867280" cy="149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pto. de Ingeniería Eléctrica, Electrónica de Computadores y Sistemas</a:t>
            </a:r>
            <a:r>
              <a:rPr b="1" lang="en-US" sz="3600" spc="-1" strike="noStrike">
                <a:solidFill>
                  <a:srgbClr val="2700a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320" y="457200"/>
            <a:ext cx="8991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cc66"/>
                </a:solidFill>
                <a:latin typeface="Tahoma"/>
              </a:rPr>
              <a:t>5.1. La conversión electromecánica I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09480" y="1905120"/>
            <a:ext cx="8226360" cy="4701960"/>
            <a:chOff x="609480" y="1905120"/>
            <a:chExt cx="8226360" cy="4701960"/>
          </a:xfrm>
        </p:grpSpPr>
        <p:sp>
          <p:nvSpPr>
            <p:cNvPr id="94" name=""/>
            <p:cNvSpPr/>
            <p:nvPr/>
          </p:nvSpPr>
          <p:spPr>
            <a:xfrm>
              <a:off x="609480" y="1905120"/>
              <a:ext cx="7924680" cy="449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609480" y="1905120"/>
            <a:ext cx="8226360" cy="470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905120"/>
                      <a:ext cx="8226360" cy="470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>
              <a:off x="6095880" y="5418000"/>
              <a:ext cx="2000160" cy="664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GENERADO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3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ELEMENT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320" y="304920"/>
            <a:ext cx="8991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cc66"/>
                </a:solidFill>
                <a:latin typeface="Tahoma"/>
              </a:rPr>
              <a:t>5.1. La conversión electromecánica II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33520" y="1752480"/>
            <a:ext cx="8229600" cy="4800600"/>
            <a:chOff x="533520" y="1752480"/>
            <a:chExt cx="8229600" cy="4800600"/>
          </a:xfrm>
        </p:grpSpPr>
        <p:sp>
          <p:nvSpPr>
            <p:cNvPr id="100" name=""/>
            <p:cNvSpPr/>
            <p:nvPr/>
          </p:nvSpPr>
          <p:spPr>
            <a:xfrm>
              <a:off x="533520" y="1752480"/>
              <a:ext cx="8229600" cy="48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01" name=""/>
            <p:cNvGraphicFramePr/>
            <p:nvPr/>
          </p:nvGraphicFramePr>
          <p:xfrm>
            <a:off x="533520" y="1752480"/>
            <a:ext cx="8226360" cy="470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752480"/>
                      <a:ext cx="8226360" cy="470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" name=""/>
            <p:cNvSpPr/>
            <p:nvPr/>
          </p:nvSpPr>
          <p:spPr>
            <a:xfrm>
              <a:off x="6553080" y="5562360"/>
              <a:ext cx="1828800" cy="6642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MO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3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ELEMENT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320" y="380880"/>
            <a:ext cx="8991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cc66"/>
                </a:solidFill>
                <a:latin typeface="Tahoma"/>
              </a:rPr>
              <a:t>5.2. El principio de reversibilidad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300400"/>
            <a:ext cx="3384720" cy="119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das las máquinas eléctricas rotativas son reversi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51600" y="2286000"/>
            <a:ext cx="3384360" cy="119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ueden funcionar como motor o como gener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53040" y="2752560"/>
            <a:ext cx="685800" cy="517680"/>
          </a:xfrm>
          <a:prstGeom prst="rightArrow">
            <a:avLst>
              <a:gd name="adj1" fmla="val 50000"/>
              <a:gd name="adj2" fmla="val 33119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49320" y="4295880"/>
            <a:ext cx="1112760" cy="82548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90760" y="4103640"/>
            <a:ext cx="5197680" cy="82548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versión de Energía Eléctrica en Energía Mecá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410080"/>
            <a:ext cx="1889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ener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3160" y="5246640"/>
            <a:ext cx="519732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rsión de Energía Mecánica en Energía Eléct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01840" y="4272120"/>
            <a:ext cx="685800" cy="517320"/>
          </a:xfrm>
          <a:prstGeom prst="rightArrow">
            <a:avLst>
              <a:gd name="adj1" fmla="val 50000"/>
              <a:gd name="adj2" fmla="val 3314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5370480"/>
            <a:ext cx="685800" cy="517680"/>
          </a:xfrm>
          <a:prstGeom prst="rightArrow">
            <a:avLst>
              <a:gd name="adj1" fmla="val 50000"/>
              <a:gd name="adj2" fmla="val 33119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320" y="457200"/>
            <a:ext cx="8991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cc66"/>
                </a:solidFill>
                <a:latin typeface="Tahoma"/>
              </a:rPr>
              <a:t>5.3. Balance energético de una máquina rotativa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84320" y="3022560"/>
            <a:ext cx="668160" cy="965160"/>
          </a:xfrm>
          <a:prstGeom prst="rightArrow">
            <a:avLst>
              <a:gd name="adj1" fmla="val 49759"/>
              <a:gd name="adj2" fmla="val 47296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283440" y="3533760"/>
            <a:ext cx="1392120" cy="2382480"/>
            <a:chOff x="6283440" y="3533760"/>
            <a:chExt cx="1392120" cy="2382480"/>
          </a:xfrm>
        </p:grpSpPr>
        <p:sp>
          <p:nvSpPr>
            <p:cNvPr id="117" name=""/>
            <p:cNvSpPr/>
            <p:nvPr/>
          </p:nvSpPr>
          <p:spPr>
            <a:xfrm>
              <a:off x="6283440" y="5365800"/>
              <a:ext cx="1392120" cy="550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Pérdidas rotacional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24480" y="3533760"/>
              <a:ext cx="559080" cy="1828800"/>
            </a:xfrm>
            <a:prstGeom prst="downArrow">
              <a:avLst>
                <a:gd name="adj1" fmla="val 50000"/>
                <a:gd name="adj2" fmla="val 37436"/>
              </a:avLst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716360" y="3879720"/>
            <a:ext cx="1322640" cy="2272680"/>
            <a:chOff x="4716360" y="3879720"/>
            <a:chExt cx="1322640" cy="2272680"/>
          </a:xfrm>
        </p:grpSpPr>
        <p:sp>
          <p:nvSpPr>
            <p:cNvPr id="120" name=""/>
            <p:cNvSpPr/>
            <p:nvPr/>
          </p:nvSpPr>
          <p:spPr>
            <a:xfrm>
              <a:off x="4716360" y="5373720"/>
              <a:ext cx="1322640" cy="778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Pérdidas en el cobre del rotor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43600" y="3879720"/>
              <a:ext cx="558720" cy="1505160"/>
            </a:xfrm>
            <a:prstGeom prst="downArrow">
              <a:avLst>
                <a:gd name="adj1" fmla="val 50000"/>
                <a:gd name="adj2" fmla="val 41494"/>
              </a:avLst>
            </a:pr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295800" y="4214880"/>
            <a:ext cx="1047600" cy="1948680"/>
            <a:chOff x="3295800" y="4214880"/>
            <a:chExt cx="1047600" cy="1948680"/>
          </a:xfrm>
        </p:grpSpPr>
        <p:sp>
          <p:nvSpPr>
            <p:cNvPr id="123" name=""/>
            <p:cNvSpPr/>
            <p:nvPr/>
          </p:nvSpPr>
          <p:spPr>
            <a:xfrm>
              <a:off x="3295800" y="5384880"/>
              <a:ext cx="1047600" cy="778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Pérdidas en el hierro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43280" y="4214880"/>
              <a:ext cx="558720" cy="1179360"/>
            </a:xfrm>
            <a:prstGeom prst="downArrow">
              <a:avLst>
                <a:gd name="adj1" fmla="val 50000"/>
                <a:gd name="adj2" fmla="val 38356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728720" y="4662360"/>
            <a:ext cx="1273320" cy="1510560"/>
            <a:chOff x="1728720" y="4662360"/>
            <a:chExt cx="1273320" cy="1510560"/>
          </a:xfrm>
        </p:grpSpPr>
        <p:sp>
          <p:nvSpPr>
            <p:cNvPr id="126" name=""/>
            <p:cNvSpPr/>
            <p:nvPr/>
          </p:nvSpPr>
          <p:spPr>
            <a:xfrm>
              <a:off x="1728720" y="5394240"/>
              <a:ext cx="1271520" cy="77868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Pérdidas en el cobre del estator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43320" y="4662360"/>
              <a:ext cx="558720" cy="711360"/>
            </a:xfrm>
            <a:prstGeom prst="downArrow">
              <a:avLst>
                <a:gd name="adj1" fmla="val 50000"/>
                <a:gd name="adj2" fmla="val 31830"/>
              </a:avLst>
            </a:prstGeom>
            <a:solidFill>
              <a:srgbClr val="cc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752480" y="2620800"/>
            <a:ext cx="1105200" cy="204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2622600"/>
            <a:ext cx="1299960" cy="16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975040"/>
            <a:ext cx="15238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tencia eléctrica  consumida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P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159080" y="2622600"/>
            <a:ext cx="1300320" cy="1272960"/>
            <a:chOff x="4159080" y="2622600"/>
            <a:chExt cx="1300320" cy="1272960"/>
          </a:xfrm>
        </p:grpSpPr>
        <p:sp>
          <p:nvSpPr>
            <p:cNvPr id="132" name=""/>
            <p:cNvSpPr/>
            <p:nvPr/>
          </p:nvSpPr>
          <p:spPr>
            <a:xfrm>
              <a:off x="4159080" y="2622600"/>
              <a:ext cx="1300320" cy="1272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18160" y="2630520"/>
              <a:ext cx="101520" cy="1251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265480" y="213048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ST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32440" y="2111400"/>
            <a:ext cx="12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O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38880" y="2622600"/>
            <a:ext cx="1299960" cy="93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719760" y="2104920"/>
            <a:ext cx="1175040" cy="1739880"/>
            <a:chOff x="6719760" y="2104920"/>
            <a:chExt cx="1175040" cy="1739880"/>
          </a:xfrm>
        </p:grpSpPr>
        <p:sp>
          <p:nvSpPr>
            <p:cNvPr id="138" name=""/>
            <p:cNvSpPr/>
            <p:nvPr/>
          </p:nvSpPr>
          <p:spPr>
            <a:xfrm>
              <a:off x="6719760" y="2624040"/>
              <a:ext cx="443160" cy="708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62920" y="2104920"/>
              <a:ext cx="731880" cy="1739880"/>
            </a:xfrm>
            <a:prstGeom prst="rightArrow">
              <a:avLst>
                <a:gd name="adj1" fmla="val 40444"/>
                <a:gd name="adj2" fmla="val 58134"/>
              </a:avLst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7877160" y="2243160"/>
            <a:ext cx="134316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otencia mecánica útil del motor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(P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620120" y="3886200"/>
            <a:ext cx="1295280" cy="1247760"/>
            <a:chOff x="7620120" y="3886200"/>
            <a:chExt cx="1295280" cy="1247760"/>
          </a:xfrm>
        </p:grpSpPr>
        <p:sp>
          <p:nvSpPr>
            <p:cNvPr id="142" name=""/>
            <p:cNvSpPr/>
            <p:nvPr/>
          </p:nvSpPr>
          <p:spPr>
            <a:xfrm>
              <a:off x="7620120" y="3886200"/>
              <a:ext cx="1295280" cy="1219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7658280" y="3886200"/>
              <a:ext cx="950760" cy="852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7664400" y="4711680"/>
              <a:ext cx="1225440" cy="4222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9T16:58:02Z</dcterms:created>
  <dc:creator>Universidad de Oviedo</dc:creator>
  <dc:description>TEMA V</dc:description>
  <dc:language>en-US</dc:language>
  <cp:lastModifiedBy>p</cp:lastModifiedBy>
  <dcterms:modified xsi:type="dcterms:W3CDTF">2000-11-24T11:07:56Z</dcterms:modified>
  <cp:revision>1078</cp:revision>
  <dc:subject>Fundamentos de la conversión electromecánica de energía</dc:subject>
  <dc:title>Curso de Máquinas Eléctricas 5º Curso Mecánicos Máquinas</dc:title>
</cp:coreProperties>
</file>