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4863-89D1-479B-BAD5-47D31C404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E9AD-7F63-4056-B26A-BEDDE075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BD76-7290-41A8-B409-1A6154561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6424-32E5-4C36-8314-E2CE0D076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B79B-6A85-4763-866C-2C2C1F03B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5169-A928-43D2-BB64-773654B3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B6DB-81AA-43F4-8498-199AEA86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44EF-0726-4E81-A83D-D38815B1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5BB9-A7A7-4463-B8E4-C7F17150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5E40-99B6-42B6-8604-E14A1BE1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9255-9BCC-4563-B90E-E6DEA800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63CC-6862-47AA-9535-05426B0F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69CF-8236-4EF1-8712-1EBB01D1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9033-7F18-44AA-914A-11D5AAE2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A242-0316-44A2-9CEC-F661697D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7774-FA29-4918-A265-2A970598C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F3EF-381B-40DD-8B9A-48D9D9424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469E-A573-4A67-B54C-B3F74F0D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A8D6-767B-41B0-90C2-A20F0322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E797-F63D-4119-8865-D1DF3506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EEB4-7054-4644-B780-DAA964B3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A01C-FAD7-437C-8CB7-8C5A46A8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D8FA-4DAD-44BD-873A-05CD4192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3D0E-F6A5-43E7-90C5-A09D56DF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0996-979A-466E-B83A-343772C2BA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1240"/>
            <a:ext cx="16905240" cy="10793520"/>
            <a:chOff x="-7761240" y="1461240"/>
            <a:chExt cx="16905240" cy="1079352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1240"/>
              <a:ext cx="13452120" cy="1079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5" y="120"/>
                  </a:moveTo>
                  <a:arcTo wR="10800" hR="10800" stAng="-4887058" swAng="4887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5" y="120"/>
                  </a:moveTo>
                  <a:arcTo wR="10800" hR="10800" stAng="-4887058" swAng="4887058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49A9-3B4C-4C2A-B5FB-69DF16C03E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274320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Tahoma"/>
              </a:rPr>
              <a:t>Tema V: Fundamentos de la conversión electromecánica de energía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escudo%20uniovi%20color%20transp" descr=""/>
          <p:cNvPicPr/>
          <p:nvPr/>
        </p:nvPicPr>
        <p:blipFill>
          <a:blip r:embed="rId1"/>
          <a:stretch/>
        </p:blipFill>
        <p:spPr>
          <a:xfrm>
            <a:off x="533520" y="388800"/>
            <a:ext cx="1726920" cy="136368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</p:pic>
      <p:sp>
        <p:nvSpPr>
          <p:cNvPr id="90" name=""/>
          <p:cNvSpPr/>
          <p:nvPr/>
        </p:nvSpPr>
        <p:spPr>
          <a:xfrm>
            <a:off x="2210040" y="846000"/>
            <a:ext cx="497952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cc66"/>
                </a:solidFill>
                <a:latin typeface="Arial"/>
              </a:rPr>
              <a:t>Universidad de Oviedo</a:t>
            </a:r>
            <a:r>
              <a:rPr b="1" lang="en-US" sz="3600" spc="-1" strike="noStrike">
                <a:solidFill>
                  <a:srgbClr val="2700a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5029200"/>
            <a:ext cx="5867280" cy="149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Dpto. de Ingeniería Eléctrica, Electrónica de Computadores y Sistemas</a:t>
            </a:r>
            <a:r>
              <a:rPr b="1" lang="en-US" sz="3600" spc="-1" strike="noStrike">
                <a:solidFill>
                  <a:srgbClr val="2700a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6320" y="457200"/>
            <a:ext cx="8991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cc66"/>
                </a:solidFill>
                <a:latin typeface="Tahoma"/>
              </a:rPr>
              <a:t>5.1. La conversión electromecánica I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09480" y="1905120"/>
            <a:ext cx="8226360" cy="4701960"/>
            <a:chOff x="609480" y="1905120"/>
            <a:chExt cx="8226360" cy="4701960"/>
          </a:xfrm>
        </p:grpSpPr>
        <p:sp>
          <p:nvSpPr>
            <p:cNvPr id="94" name=""/>
            <p:cNvSpPr/>
            <p:nvPr/>
          </p:nvSpPr>
          <p:spPr>
            <a:xfrm>
              <a:off x="609480" y="1905120"/>
              <a:ext cx="7924680" cy="449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95" name=""/>
            <p:cNvGraphicFramePr/>
            <p:nvPr/>
          </p:nvGraphicFramePr>
          <p:xfrm>
            <a:off x="609480" y="1905120"/>
            <a:ext cx="8226360" cy="4701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1905120"/>
                      <a:ext cx="8226360" cy="470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" name=""/>
            <p:cNvSpPr/>
            <p:nvPr/>
          </p:nvSpPr>
          <p:spPr>
            <a:xfrm>
              <a:off x="6095880" y="5418000"/>
              <a:ext cx="2000160" cy="6642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GENERADOR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3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ELEMENT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320" y="304920"/>
            <a:ext cx="8991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cc66"/>
                </a:solidFill>
                <a:latin typeface="Tahoma"/>
              </a:rPr>
              <a:t>5.1. La conversión electromecánica II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33520" y="1752480"/>
            <a:ext cx="8229600" cy="4800600"/>
            <a:chOff x="533520" y="1752480"/>
            <a:chExt cx="8229600" cy="4800600"/>
          </a:xfrm>
        </p:grpSpPr>
        <p:sp>
          <p:nvSpPr>
            <p:cNvPr id="100" name=""/>
            <p:cNvSpPr/>
            <p:nvPr/>
          </p:nvSpPr>
          <p:spPr>
            <a:xfrm>
              <a:off x="533520" y="1752480"/>
              <a:ext cx="8229600" cy="480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01" name=""/>
            <p:cNvGraphicFramePr/>
            <p:nvPr/>
          </p:nvGraphicFramePr>
          <p:xfrm>
            <a:off x="533520" y="1752480"/>
            <a:ext cx="8226360" cy="4701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1752480"/>
                      <a:ext cx="8226360" cy="470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3" name=""/>
            <p:cNvSpPr/>
            <p:nvPr/>
          </p:nvSpPr>
          <p:spPr>
            <a:xfrm>
              <a:off x="6553080" y="5562360"/>
              <a:ext cx="1828800" cy="6642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MOT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3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ELEMENT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6320" y="380880"/>
            <a:ext cx="8991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cc66"/>
                </a:solidFill>
                <a:latin typeface="Tahoma"/>
              </a:rPr>
              <a:t>5.2. El principio de reversibilidad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2300400"/>
            <a:ext cx="3384720" cy="1191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odas las máquinas eléctricas rotativas son reversi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51600" y="2286000"/>
            <a:ext cx="3384360" cy="1191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ueden funcionar como motor o como gener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53040" y="2752560"/>
            <a:ext cx="685800" cy="517680"/>
          </a:xfrm>
          <a:prstGeom prst="rightArrow">
            <a:avLst>
              <a:gd name="adj1" fmla="val 50000"/>
              <a:gd name="adj2" fmla="val 33119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49320" y="4295880"/>
            <a:ext cx="1112760" cy="82548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o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90760" y="4103640"/>
            <a:ext cx="5197680" cy="82548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versión de Energía Eléctrica en Energía Mecán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5410080"/>
            <a:ext cx="18892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ener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3160" y="5246640"/>
            <a:ext cx="519732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versión de Energía Mecánica en Energía Eléctr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01840" y="4272120"/>
            <a:ext cx="685800" cy="517320"/>
          </a:xfrm>
          <a:prstGeom prst="rightArrow">
            <a:avLst>
              <a:gd name="adj1" fmla="val 50000"/>
              <a:gd name="adj2" fmla="val 33142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5370480"/>
            <a:ext cx="685800" cy="517680"/>
          </a:xfrm>
          <a:prstGeom prst="rightArrow">
            <a:avLst>
              <a:gd name="adj1" fmla="val 50000"/>
              <a:gd name="adj2" fmla="val 33119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6320" y="457200"/>
            <a:ext cx="8991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cc66"/>
                </a:solidFill>
                <a:latin typeface="Tahoma"/>
              </a:rPr>
              <a:t>5.3. Balance energético de una máquina rotativa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84320" y="3022560"/>
            <a:ext cx="668160" cy="965160"/>
          </a:xfrm>
          <a:prstGeom prst="rightArrow">
            <a:avLst>
              <a:gd name="adj1" fmla="val 49759"/>
              <a:gd name="adj2" fmla="val 47296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283440" y="3533760"/>
            <a:ext cx="1392120" cy="2382480"/>
            <a:chOff x="6283440" y="3533760"/>
            <a:chExt cx="1392120" cy="2382480"/>
          </a:xfrm>
        </p:grpSpPr>
        <p:sp>
          <p:nvSpPr>
            <p:cNvPr id="117" name=""/>
            <p:cNvSpPr/>
            <p:nvPr/>
          </p:nvSpPr>
          <p:spPr>
            <a:xfrm>
              <a:off x="6283440" y="5365800"/>
              <a:ext cx="1392120" cy="550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ahoma"/>
                </a:rPr>
                <a:t>Pérdidas rotacional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324480" y="3533760"/>
              <a:ext cx="559080" cy="1828800"/>
            </a:xfrm>
            <a:prstGeom prst="downArrow">
              <a:avLst>
                <a:gd name="adj1" fmla="val 50000"/>
                <a:gd name="adj2" fmla="val 37436"/>
              </a:avLst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716360" y="3879720"/>
            <a:ext cx="1322640" cy="2272680"/>
            <a:chOff x="4716360" y="3879720"/>
            <a:chExt cx="1322640" cy="2272680"/>
          </a:xfrm>
        </p:grpSpPr>
        <p:sp>
          <p:nvSpPr>
            <p:cNvPr id="120" name=""/>
            <p:cNvSpPr/>
            <p:nvPr/>
          </p:nvSpPr>
          <p:spPr>
            <a:xfrm>
              <a:off x="4716360" y="5373720"/>
              <a:ext cx="1322640" cy="778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ahoma"/>
                </a:rPr>
                <a:t>Pérdidas en el cobre del rotor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43600" y="3879720"/>
              <a:ext cx="558720" cy="1505160"/>
            </a:xfrm>
            <a:prstGeom prst="downArrow">
              <a:avLst>
                <a:gd name="adj1" fmla="val 50000"/>
                <a:gd name="adj2" fmla="val 41494"/>
              </a:avLst>
            </a:prstGeom>
            <a:solidFill>
              <a:srgbClr val="808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295800" y="4214880"/>
            <a:ext cx="1047600" cy="1948680"/>
            <a:chOff x="3295800" y="4214880"/>
            <a:chExt cx="1047600" cy="1948680"/>
          </a:xfrm>
        </p:grpSpPr>
        <p:sp>
          <p:nvSpPr>
            <p:cNvPr id="123" name=""/>
            <p:cNvSpPr/>
            <p:nvPr/>
          </p:nvSpPr>
          <p:spPr>
            <a:xfrm>
              <a:off x="3295800" y="5384880"/>
              <a:ext cx="1047600" cy="778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ahoma"/>
                </a:rPr>
                <a:t>Pérdidas en el hierro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43280" y="4214880"/>
              <a:ext cx="558720" cy="1179360"/>
            </a:xfrm>
            <a:prstGeom prst="downArrow">
              <a:avLst>
                <a:gd name="adj1" fmla="val 50000"/>
                <a:gd name="adj2" fmla="val 38356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728720" y="4662360"/>
            <a:ext cx="1273320" cy="1510560"/>
            <a:chOff x="1728720" y="4662360"/>
            <a:chExt cx="1273320" cy="1510560"/>
          </a:xfrm>
        </p:grpSpPr>
        <p:sp>
          <p:nvSpPr>
            <p:cNvPr id="126" name=""/>
            <p:cNvSpPr/>
            <p:nvPr/>
          </p:nvSpPr>
          <p:spPr>
            <a:xfrm>
              <a:off x="1728720" y="5394240"/>
              <a:ext cx="1271520" cy="77868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ahoma"/>
                </a:rPr>
                <a:t>Pérdidas en el cobre del estator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43320" y="4662360"/>
              <a:ext cx="558720" cy="711360"/>
            </a:xfrm>
            <a:prstGeom prst="downArrow">
              <a:avLst>
                <a:gd name="adj1" fmla="val 50000"/>
                <a:gd name="adj2" fmla="val 31830"/>
              </a:avLst>
            </a:prstGeom>
            <a:solidFill>
              <a:srgbClr val="cc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1752480" y="2620800"/>
            <a:ext cx="1105200" cy="2041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57680" y="2622600"/>
            <a:ext cx="1299960" cy="1628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975040"/>
            <a:ext cx="15238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otencia eléctrica  consumida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(P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159080" y="2622600"/>
            <a:ext cx="1300320" cy="1272960"/>
            <a:chOff x="4159080" y="2622600"/>
            <a:chExt cx="1300320" cy="1272960"/>
          </a:xfrm>
        </p:grpSpPr>
        <p:sp>
          <p:nvSpPr>
            <p:cNvPr id="132" name=""/>
            <p:cNvSpPr/>
            <p:nvPr/>
          </p:nvSpPr>
          <p:spPr>
            <a:xfrm>
              <a:off x="4159080" y="2622600"/>
              <a:ext cx="1300320" cy="1272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18160" y="2630520"/>
              <a:ext cx="101520" cy="12510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2265480" y="213048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ST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32440" y="2111400"/>
            <a:ext cx="12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O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38880" y="2622600"/>
            <a:ext cx="1299960" cy="93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719760" y="2104920"/>
            <a:ext cx="1175040" cy="1739880"/>
            <a:chOff x="6719760" y="2104920"/>
            <a:chExt cx="1175040" cy="1739880"/>
          </a:xfrm>
        </p:grpSpPr>
        <p:sp>
          <p:nvSpPr>
            <p:cNvPr id="138" name=""/>
            <p:cNvSpPr/>
            <p:nvPr/>
          </p:nvSpPr>
          <p:spPr>
            <a:xfrm>
              <a:off x="6719760" y="2624040"/>
              <a:ext cx="443160" cy="708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62920" y="2104920"/>
              <a:ext cx="731880" cy="1739880"/>
            </a:xfrm>
            <a:prstGeom prst="rightArrow">
              <a:avLst>
                <a:gd name="adj1" fmla="val 40444"/>
                <a:gd name="adj2" fmla="val 58134"/>
              </a:avLst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7877160" y="2243160"/>
            <a:ext cx="134316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Potencia mecánica útil del motor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(P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Tahoma"/>
              </a:rPr>
              <a:t>u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620120" y="3886200"/>
            <a:ext cx="1295280" cy="1247760"/>
            <a:chOff x="7620120" y="3886200"/>
            <a:chExt cx="1295280" cy="1247760"/>
          </a:xfrm>
        </p:grpSpPr>
        <p:sp>
          <p:nvSpPr>
            <p:cNvPr id="142" name=""/>
            <p:cNvSpPr/>
            <p:nvPr/>
          </p:nvSpPr>
          <p:spPr>
            <a:xfrm>
              <a:off x="7620120" y="3886200"/>
              <a:ext cx="1295280" cy="1219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7658280" y="3886200"/>
              <a:ext cx="950760" cy="8524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44" name="" descr=""/>
            <p:cNvPicPr/>
            <p:nvPr/>
          </p:nvPicPr>
          <p:blipFill>
            <a:blip r:embed="rId2"/>
            <a:stretch/>
          </p:blipFill>
          <p:spPr>
            <a:xfrm>
              <a:off x="7664400" y="4711680"/>
              <a:ext cx="1225440" cy="4222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</p:spTree>
  </p:cSld>
  <p:transition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9T16:58:02Z</dcterms:created>
  <dc:creator>Universidad de Oviedo</dc:creator>
  <dc:description>TEMA V</dc:description>
  <dc:language>en-US</dc:language>
  <cp:lastModifiedBy>p</cp:lastModifiedBy>
  <dcterms:modified xsi:type="dcterms:W3CDTF">2000-11-24T11:07:56Z</dcterms:modified>
  <cp:revision>1078</cp:revision>
  <dc:subject>Fundamentos de la conversión electromecánica de energía</dc:subject>
  <dc:title>Curso de Máquinas Eléctricas 5º Curso Mecánicos Máquinas</dc:title>
</cp:coreProperties>
</file>