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voltage.wav" ContentType="audio/x-wav"/>
  <Override PartName="/ppt/media/image22.gif" ContentType="image/gif"/>
  <Override PartName="/ppt/media/image17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387-E856-4039-A0C5-438385FE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C89A-6F58-4E39-A872-954178D5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F301-C659-4DF4-AE88-83F12038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278B-3443-4898-B183-E0E506D8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9878-8A3D-4EE5-9490-F62D6538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B8D-99DB-4619-A73B-6AF8341E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F935-942F-4EEA-8CC0-67A5CD4C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388-28A3-4ECE-B4A1-79E1B5B9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27D-D621-4EA2-BBBD-A62C18B0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5F47-B2CD-4EEA-BF19-935F5B44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8EB1-A1A9-491A-A30B-94DFFD86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2F9-4980-439D-B609-433ADEA8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1DA3-96C3-40DD-9AA2-80812DCFE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jpeg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audio" Target="../media/voltage.wav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57200" y="457200"/>
            <a:ext cx="8229600" cy="2592720"/>
            <a:chOff x="457200" y="457200"/>
            <a:chExt cx="8229600" cy="2592720"/>
          </a:xfrm>
        </p:grpSpPr>
        <p:sp>
          <p:nvSpPr>
            <p:cNvPr id="43" name=""/>
            <p:cNvSpPr/>
            <p:nvPr/>
          </p:nvSpPr>
          <p:spPr>
            <a:xfrm>
              <a:off x="457200" y="457200"/>
              <a:ext cx="8229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VNI-Bodon-Poster"/>
                  <a:ea typeface="Times New Roman"/>
                </a:rPr>
                <a:t>PHOØNG GIAÙO DUÏC QUAÄN TAÂN PHU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81080" y="1981080"/>
              <a:ext cx="4876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VNI-Stylus"/>
                  <a:ea typeface="Times New Roman"/>
                </a:rPr>
                <a:t>TRÖÔØNG THCS HUØNG VÖÔ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1523880" y="5207400"/>
            <a:ext cx="6096240" cy="847080"/>
          </a:xfrm>
          <a:custGeom>
            <a:avLst/>
            <a:gdLst>
              <a:gd name="textAreaLeft" fmla="*/ 0 w 6096240"/>
              <a:gd name="textAreaRight" fmla="*/ 6096600 w 6096240"/>
              <a:gd name="textAreaTop" fmla="*/ 109800 h 847080"/>
              <a:gd name="textAreaBottom" fmla="*/ 737280 h 84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8000"/>
                </a:solidFill>
                <a:latin typeface="VNI-Helve"/>
                <a:ea typeface="Times New Roman"/>
              </a:rPr>
              <a:t>Gv: N</a:t>
            </a:r>
            <a:r>
              <a:rPr b="1" lang="en-US" sz="3500" spc="-1" strike="noStrike">
                <a:solidFill>
                  <a:srgbClr val="008000"/>
                </a:solidFill>
                <a:latin typeface="VNI-Stylus"/>
                <a:ea typeface="Times New Roman"/>
              </a:rPr>
              <a:t>guyeãn Vaên Hö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2499840"/>
            <a:ext cx="6858000" cy="1442520"/>
          </a:xfrm>
          <a:custGeom>
            <a:avLst/>
            <a:gdLst>
              <a:gd name="textAreaLeft" fmla="*/ 0 w 6858000"/>
              <a:gd name="textAreaRight" fmla="*/ 6858360 w 6858000"/>
              <a:gd name="textAreaTop" fmla="*/ 186840 h 1442520"/>
              <a:gd name="textAreaBottom" fmla="*/ 1255680 h 1442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ff0000"/>
                </a:solidFill>
                <a:latin typeface="VNI-Helve"/>
                <a:ea typeface="Times New Roman"/>
              </a:rPr>
              <a:t>IAÙO AÙN ÑIEÄN TÖÛ – MOÂN ÑÒA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62320" y="6172200"/>
            <a:ext cx="4286160" cy="62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C42-33B9-4404-9F81-1220F147372F}" type="slidenum">
              <a:t>1</a:t>
            </a:fld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4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181080"/>
            <a:ext cx="7467480" cy="6676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27000" y="0"/>
            <a:ext cx="47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NI-Heather"/>
                <a:ea typeface="Times New Roman"/>
              </a:rPr>
              <a:t>II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NI-Heather"/>
                <a:ea typeface="Times New Roman"/>
              </a:rPr>
              <a:t>ÑAËC ÑIEÅM TÖÏ NHIEÂN</a:t>
            </a:r>
            <a:r>
              <a:rPr b="1" lang="en-US" sz="2400" spc="-1" strike="noStrike">
                <a:solidFill>
                  <a:srgbClr val="000000"/>
                </a:solidFill>
                <a:latin typeface="VNI-Heather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VNI-Heather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295280" y="2666880"/>
            <a:ext cx="4496040" cy="3429000"/>
            <a:chOff x="1295280" y="2666880"/>
            <a:chExt cx="4496040" cy="3429000"/>
          </a:xfrm>
        </p:grpSpPr>
        <p:sp>
          <p:nvSpPr>
            <p:cNvPr id="112" name=""/>
            <p:cNvSpPr/>
            <p:nvPr/>
          </p:nvSpPr>
          <p:spPr>
            <a:xfrm>
              <a:off x="4952880" y="2666880"/>
              <a:ext cx="15264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52880" y="3048120"/>
              <a:ext cx="22860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7800" y="3657600"/>
              <a:ext cx="15228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38680" y="4495680"/>
              <a:ext cx="15264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38480" y="6019920"/>
              <a:ext cx="15264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6019920"/>
              <a:ext cx="15264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1280" y="6019920"/>
              <a:ext cx="15264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276720" y="5943600"/>
              <a:ext cx="15228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3047400" y="5867280"/>
              <a:ext cx="7596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743200" y="5790600"/>
              <a:ext cx="763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2361600" y="5790600"/>
              <a:ext cx="7596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133000" y="5562000"/>
              <a:ext cx="7596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4495680"/>
              <a:ext cx="15264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1752480" y="5257080"/>
              <a:ext cx="763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1295280" y="4647600"/>
              <a:ext cx="763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819520" y="609480"/>
            <a:ext cx="6324480" cy="174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VNI-Time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NI-Time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VNI-Times"/>
              </a:rPr>
              <a:t>Nhoùm 1,3:  Tìm hieåu veà Baùn ñaûo Trung AÁ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VNI-Time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NI-Time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VNI-Times"/>
              </a:rPr>
              <a:t>Nhoùm 2,4:  Tìm hieåu veà quaàn ñaûo Maõ L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676520"/>
            <a:ext cx="4572000" cy="5181480"/>
          </a:xfrm>
          <a:prstGeom prst="rect">
            <a:avLst/>
          </a:prstGeom>
          <a:gradFill rotWithShape="0">
            <a:gsLst>
              <a:gs pos="0">
                <a:srgbClr val="a953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NI-Times"/>
              </a:rPr>
              <a:t>Nhoùm 2,4: Tìm hieåu tìm hieåu veà quaàn ñaûo Maõ Lai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NI-Times"/>
              </a:rPr>
              <a:t>1) Ñòa hìn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VNI-Times"/>
              </a:rPr>
              <a:t>Ñaëc ñieåm ñòa hình cuûa  khu vöïc quaàn ñaûo Maõ L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VNI-Times"/>
              </a:rPr>
              <a:t>Daïng ñòa hình chuû yeáu, höôùng nuùi cuûa quaàn ñaûo Maõ L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NI-Times"/>
              </a:rPr>
              <a:t>Neùt noåi baät veà ñòa hình ôû quaàn ñaûo Maõ L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NI-Times"/>
              </a:rPr>
              <a:t>Phaân boá cuûa nuùi löûa ôû quaàn ñaûo Maõ L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NI-Times"/>
              </a:rPr>
              <a:t>Ñaëc ñieåm, phaân boá vaø giaù trò caùc ñoàng baèng ôû quaàn ñaûo Maõ L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Times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1676520"/>
            <a:ext cx="4572000" cy="518148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NI-Times"/>
              </a:rPr>
              <a:t>Nhoùm 1,3: Tìm hieåu veà baùn ñaûo Trung AÁn</a:t>
            </a:r>
            <a:r>
              <a:rPr b="1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NI-Times"/>
              </a:rPr>
              <a:t>1) Ñòa hìn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VNI-Times"/>
              </a:rPr>
              <a:t>Ñaëc ñieåm ñòa hình cuûa  khu vöïc baùn ñaûo Trung AÁ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VNI-Times"/>
              </a:rPr>
              <a:t>Daïng ñòa hình chuû yeáu, höôùng  nuùi ôû baùn ñaûo Trung AÁ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NI-Times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VNI-Times"/>
              </a:rPr>
              <a:t>Neùt noåi baät veà ñòa hình ôû khu vöïc baùn ñaûo Trung AÁ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NI-Times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VNI-Times"/>
              </a:rPr>
              <a:t>Phaân boá cuûa nuùi löû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NI-Times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VNI-Times"/>
              </a:rPr>
              <a:t>Ñaëc ñieåm, phaân boá vaø giaù trò caùc ñoàng baèng ôû khu vöïc baùn ñaûo Trung AÁ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6CFD-6267-4DA2-8980-F09535706F8B}" type="slidenum">
              <a:t>10</a:t>
            </a:fld>
          </a:p>
        </p:txBody>
      </p:sp>
    </p:spTree>
  </p:cSld>
  <p:transition spd="med">
    <p:cover dir="r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3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76520" y="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NI-Heather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NI-Heather"/>
              </a:rPr>
              <a:t>II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NI-Heather"/>
              </a:rPr>
              <a:t>ÑAËC ÑIEÅM TÖÏ NHIEÂN</a:t>
            </a:r>
            <a:r>
              <a:rPr b="1" lang="en-US" sz="2400" spc="-1" strike="noStrike">
                <a:solidFill>
                  <a:srgbClr val="ff0000"/>
                </a:solidFill>
                <a:latin typeface="VNI-Heather"/>
              </a:rPr>
              <a:t>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280" y="838080"/>
          <a:ext cx="8763120" cy="4876920"/>
        </p:xfrm>
        <a:graphic>
          <a:graphicData uri="http://schemas.openxmlformats.org/drawingml/2006/table">
            <a:tbl>
              <a:tblPr/>
              <a:tblGrid>
                <a:gridCol w="1828800"/>
                <a:gridCol w="3962520"/>
                <a:gridCol w="29718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304920" y="1143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NI-Times"/>
              </a:rPr>
              <a:t>Ñaëc ñieå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11430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NI-Times"/>
              </a:rPr>
              <a:t>Baùn ñaûo Trung AÁn</a:t>
            </a:r>
            <a:r>
              <a:rPr b="0" lang="en-US" sz="2400" spc="-1" strike="noStrike">
                <a:solidFill>
                  <a:srgbClr val="ffcc00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11430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NI-Times"/>
              </a:rPr>
              <a:t>Quaàn ñaûo Maõ L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NI-Times"/>
              </a:rPr>
              <a:t>Ñòa hì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1828800"/>
            <a:ext cx="3733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Times"/>
              </a:rPr>
              <a:t>* Chuû yeáu nuùi cao,höôùng nuùi Baéc_Nam , Taây Baéc _ Ñoâng Nam. Caùc cao nguyeân thaá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Times"/>
              </a:rPr>
              <a:t>* Bò chia xeû maïnh bôûi caùc thung luõng soân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Times"/>
              </a:rPr>
              <a:t>* Ñoàng baèng chaâu thoå phuø sa maøu môõ, ôû ven bieån ,coù giaù trò lôùn veà kinh teá , taäp trung daân cö ñoâng .</a:t>
            </a: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1981080"/>
            <a:ext cx="2895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Times"/>
              </a:rPr>
              <a:t>* Chuû yeáu nuùi, höôùng Ñoâng _ Taây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Times"/>
              </a:rPr>
              <a:t>Ñoâng Baéc _ Taây Nam, nuùi löûa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Times"/>
              </a:rPr>
              <a:t>* Ñoàng baèng ven bieån nhoû heïp</a:t>
            </a: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3380-FF53-4D8F-90FB-B68C02FF35CC}" type="slidenum">
              <a:t>11</a:t>
            </a:fld>
          </a:p>
        </p:txBody>
      </p:sp>
    </p:spTree>
  </p:cSld>
  <p:transition spd="med">
    <p:cover dir="r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150"/>
                            </p:stCondLst>
                            <p:childTnLst>
                              <p:par>
                                <p:cTn id="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65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280" y="6095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Hình 1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863720" y="0"/>
            <a:ext cx="7391520" cy="681516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3732120" y="974880"/>
            <a:ext cx="0" cy="66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387520" y="826920"/>
            <a:ext cx="5327280" cy="4999320"/>
            <a:chOff x="2387520" y="826920"/>
            <a:chExt cx="5327280" cy="4999320"/>
          </a:xfrm>
        </p:grpSpPr>
        <p:sp>
          <p:nvSpPr>
            <p:cNvPr id="142" name=""/>
            <p:cNvSpPr/>
            <p:nvPr/>
          </p:nvSpPr>
          <p:spPr>
            <a:xfrm flipH="1">
              <a:off x="7039080" y="826920"/>
              <a:ext cx="225360" cy="74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338600" y="3419640"/>
              <a:ext cx="376200" cy="59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654080" y="3075120"/>
              <a:ext cx="374760" cy="59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57520" y="5011560"/>
              <a:ext cx="150840" cy="8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606920" y="1271520"/>
              <a:ext cx="450720" cy="51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87520" y="3567240"/>
              <a:ext cx="0" cy="66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55720" y="4973760"/>
              <a:ext cx="301680" cy="29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37160" y="5048280"/>
              <a:ext cx="601920" cy="44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901680" y="3836880"/>
              <a:ext cx="601560" cy="51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120400" y="1886040"/>
            <a:ext cx="4163040" cy="3425760"/>
            <a:chOff x="2120400" y="1886040"/>
            <a:chExt cx="4163040" cy="3425760"/>
          </a:xfrm>
        </p:grpSpPr>
        <p:sp>
          <p:nvSpPr>
            <p:cNvPr id="152" name=""/>
            <p:cNvSpPr/>
            <p:nvPr/>
          </p:nvSpPr>
          <p:spPr>
            <a:xfrm flipH="1" flipV="1">
              <a:off x="6122880" y="3443040"/>
              <a:ext cx="160560" cy="523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5581440" y="2819520"/>
              <a:ext cx="161640" cy="52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4735440" y="1886040"/>
              <a:ext cx="642960" cy="223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4897080" y="2542680"/>
              <a:ext cx="482760" cy="37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5272920" y="4733280"/>
              <a:ext cx="490320" cy="528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2120400" y="4863960"/>
              <a:ext cx="241560" cy="447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251080" y="2558520"/>
              <a:ext cx="644400" cy="52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971800" y="4444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Heather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90920" y="1641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Heather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304920"/>
            <a:ext cx="1905120" cy="5790600"/>
            <a:chOff x="0" y="304920"/>
            <a:chExt cx="1905120" cy="579060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0" y="304920"/>
              <a:ext cx="1905120" cy="30884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0" y="3393360"/>
              <a:ext cx="1905120" cy="2702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AB5A-14E2-4923-97C1-90CC0CB1CE09}" type="slidenum">
              <a:t>12</a:t>
            </a:fld>
          </a:p>
        </p:txBody>
      </p:sp>
    </p:spTree>
  </p:cSld>
  <p:transition spd="med">
    <p:cover dir="r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4240" y="-360"/>
            <a:ext cx="3886200" cy="6094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NI-Heather"/>
              </a:rPr>
              <a:t>Phieáu giao vieä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572000" cy="5181480"/>
          </a:xfrm>
          <a:prstGeom prst="rect">
            <a:avLst/>
          </a:prstGeom>
          <a:solidFill>
            <a:srgbClr val="006600">
              <a:alpha val="32000"/>
            </a:srgbClr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NI-Times"/>
              </a:rPr>
              <a:t>Nhoùm 3,4: Tìm hieåu tìm hieåu veà quaàn ñaûo Maõ La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NI-Times"/>
              </a:rPr>
              <a:t>2) Khí haä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-   </a:t>
            </a:r>
            <a:r>
              <a:rPr b="1" lang="en-US" sz="2400" spc="-1" strike="noStrike">
                <a:solidFill>
                  <a:srgbClr val="3333cc"/>
                </a:solidFill>
                <a:latin typeface="VNI-Times"/>
              </a:rPr>
              <a:t>Ñoïc nhieät ñoä , löôïng möa cuûa Pa-ñaê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NI-Times"/>
              </a:rPr>
              <a:t>-   Hoïc sinh xaùc ñònh vò trí treân löôïc ñoà hình 1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cc"/>
                </a:solidFill>
                <a:latin typeface="VNI-Time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VNI-Times"/>
              </a:rPr>
              <a:t>Keát luaän  bieåu ñoà thuoäc kieåu khí haäu naø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NI-Times"/>
              </a:rPr>
              <a:t>-   HS nhaän xeùt caùc höôùng gioù ôû k/vöïc quaàn ñaûo Maõ Lai  vaøo muøa haï vaø muøa Ñoâ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NI-Times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0" y="1676160"/>
            <a:ext cx="4572000" cy="5181480"/>
          </a:xfrm>
          <a:prstGeom prst="rect">
            <a:avLst/>
          </a:prstGeom>
          <a:solidFill>
            <a:srgbClr val="6600ff">
              <a:alpha val="40000"/>
            </a:srgbClr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NI-Times"/>
              </a:rPr>
              <a:t>Nhoùm 1,2: Tìm hieåu veà baùn ñaûo Trung AÁn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VNI-Times"/>
              </a:rPr>
              <a:t>2) Khí haä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NI-Times"/>
              </a:rPr>
              <a:t>-   Ñoïc nhieät ñoä, löôïng möa cuûa  Y- an 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NI-Times"/>
              </a:rPr>
              <a:t>-   Hoïc sinh xaùc ñònh vò trí treân löôïc ñoà hình 1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cc"/>
                </a:solidFill>
                <a:latin typeface="VNI-Time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VNI-Times"/>
              </a:rPr>
              <a:t>Keát luaän  bieåu ñoà thuoäc kieåu khí haäu naø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NI-Times"/>
              </a:rPr>
              <a:t>-   HS nhaän xeùt caùc höôùng gioù ôû khu vöïc baùn ñaûo Trung AÁn vaøo muøa haï vaø muøa Ñoâ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654120"/>
            <a:ext cx="6019920" cy="1747440"/>
          </a:xfrm>
          <a:prstGeom prst="rect">
            <a:avLst/>
          </a:prstGeom>
          <a:solidFill>
            <a:srgbClr val="ccffff">
              <a:alpha val="89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NI-Times"/>
              </a:rPr>
              <a:t>Nhoùm 1,2:  Tìm hieåu veà Baùn ñaûo Trung AÁ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NI-Times"/>
              </a:rPr>
              <a:t>Nhoùm 3,4:  Tìm hieåu veà quaàn ñaûo Maõ L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1ABD-8E8B-4121-8069-6EF6C018E3FA}" type="slidenum">
              <a:t>13</a:t>
            </a:fld>
          </a:p>
        </p:txBody>
      </p:sp>
    </p:spTree>
  </p:cSld>
  <p:transition spd="med">
    <p:cover dir="r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100"/>
                            </p:stCondLst>
                            <p:childTnLst>
                              <p:par>
                                <p:cTn id="5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6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100"/>
                            </p:stCondLst>
                            <p:childTnLst>
                              <p:par>
                                <p:cTn id="5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76520" y="25416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NI-Heather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NI-Heather"/>
              </a:rPr>
              <a:t>II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NI-Heather"/>
              </a:rPr>
              <a:t>ÑAËC ÑIEÅM TÖÏ NHIEÂN</a:t>
            </a:r>
            <a:r>
              <a:rPr b="1" lang="en-US" sz="2800" spc="-1" strike="noStrike">
                <a:solidFill>
                  <a:srgbClr val="ff0000"/>
                </a:solidFill>
                <a:latin typeface="VNI-Heather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280" y="1044720"/>
          <a:ext cx="8763120" cy="4343400"/>
        </p:xfrm>
        <a:graphic>
          <a:graphicData uri="http://schemas.openxmlformats.org/drawingml/2006/table">
            <a:tbl>
              <a:tblPr/>
              <a:tblGrid>
                <a:gridCol w="1828800"/>
                <a:gridCol w="3276720"/>
                <a:gridCol w="3657600"/>
              </a:tblGrid>
              <a:tr h="9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3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228600" y="1157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NI-Times"/>
              </a:rPr>
              <a:t>Ñaëc ñieå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09680" y="114300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NI-Times"/>
              </a:rPr>
              <a:t>Baùn ñaûo Trung AÁn</a:t>
            </a:r>
            <a:r>
              <a:rPr b="0" lang="en-US" sz="2800" spc="-1" strike="noStrike">
                <a:solidFill>
                  <a:srgbClr val="ffcc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115740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NI-Times"/>
              </a:rPr>
              <a:t>Quaàn ñaûo Maõ L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259092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NI-Times"/>
              </a:rPr>
              <a:t>Khí haä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2438280"/>
            <a:ext cx="3276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NI-Helve"/>
                <a:ea typeface="Times New Roman"/>
              </a:rPr>
              <a:t>* Nhieät ñôùi gioù muøa. Baõo veà muøa heø _ thu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NI-Helve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NI-Helve"/>
                <a:ea typeface="Times New Roman"/>
              </a:rPr>
              <a:t>( Y -  an - gun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2362320"/>
            <a:ext cx="35049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NI-Helve"/>
                <a:ea typeface="Times New Roman"/>
              </a:rPr>
              <a:t>* Xích ñaïo vaø nhieät ñôùi gioù muøa. Baõo nhieà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NI-Helve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NI-Helve"/>
                <a:ea typeface="Times New Roman"/>
              </a:rPr>
              <a:t>( Pa – ñaêng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592-9ECD-403B-99EA-EE8024F5187A}" type="slidenum">
              <a:t>14</a:t>
            </a:fld>
          </a:p>
        </p:txBody>
      </p:sp>
    </p:spTree>
  </p:cSld>
  <p:transition spd="med">
    <p:cover dir="r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150"/>
                            </p:stCondLst>
                            <p:childTnLst>
                              <p:par>
                                <p:cTn id="5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650"/>
                            </p:stCondLst>
                            <p:childTnLst>
                              <p:par>
                                <p:cTn id="5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0"/>
            <a:ext cx="7619760" cy="68119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grpSp>
        <p:nvGrpSpPr>
          <p:cNvPr id="177" name=""/>
          <p:cNvGrpSpPr/>
          <p:nvPr/>
        </p:nvGrpSpPr>
        <p:grpSpPr>
          <a:xfrm>
            <a:off x="2057400" y="380880"/>
            <a:ext cx="1917720" cy="2743200"/>
            <a:chOff x="2057400" y="380880"/>
            <a:chExt cx="1917720" cy="2743200"/>
          </a:xfrm>
        </p:grpSpPr>
        <p:sp>
          <p:nvSpPr>
            <p:cNvPr id="178" name=""/>
            <p:cNvSpPr/>
            <p:nvPr/>
          </p:nvSpPr>
          <p:spPr>
            <a:xfrm>
              <a:off x="3276720" y="2438280"/>
              <a:ext cx="609480" cy="60984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0"/>
                  </a:moveTo>
                  <a:cubicBezTo>
                    <a:pt x="16" y="20"/>
                    <a:pt x="32" y="40"/>
                    <a:pt x="48" y="48"/>
                  </a:cubicBezTo>
                  <a:cubicBezTo>
                    <a:pt x="64" y="56"/>
                    <a:pt x="80" y="40"/>
                    <a:pt x="96" y="48"/>
                  </a:cubicBezTo>
                  <a:cubicBezTo>
                    <a:pt x="112" y="56"/>
                    <a:pt x="128" y="88"/>
                    <a:pt x="144" y="96"/>
                  </a:cubicBezTo>
                  <a:cubicBezTo>
                    <a:pt x="160" y="104"/>
                    <a:pt x="184" y="88"/>
                    <a:pt x="192" y="96"/>
                  </a:cubicBezTo>
                  <a:cubicBezTo>
                    <a:pt x="200" y="104"/>
                    <a:pt x="184" y="120"/>
                    <a:pt x="192" y="144"/>
                  </a:cubicBezTo>
                  <a:cubicBezTo>
                    <a:pt x="200" y="168"/>
                    <a:pt x="232" y="216"/>
                    <a:pt x="240" y="240"/>
                  </a:cubicBezTo>
                  <a:cubicBezTo>
                    <a:pt x="248" y="264"/>
                    <a:pt x="232" y="272"/>
                    <a:pt x="240" y="288"/>
                  </a:cubicBezTo>
                  <a:cubicBezTo>
                    <a:pt x="248" y="304"/>
                    <a:pt x="264" y="320"/>
                    <a:pt x="288" y="336"/>
                  </a:cubicBezTo>
                  <a:cubicBezTo>
                    <a:pt x="312" y="352"/>
                    <a:pt x="368" y="376"/>
                    <a:pt x="384" y="38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6880" y="1676520"/>
              <a:ext cx="241560" cy="609480"/>
            </a:xfrm>
            <a:custGeom>
              <a:avLst/>
              <a:gdLst/>
              <a:ahLst/>
              <a:rect l="l" t="t" r="r" b="b"/>
              <a:pathLst>
                <a:path w="152" h="384">
                  <a:moveTo>
                    <a:pt x="8" y="0"/>
                  </a:moveTo>
                  <a:cubicBezTo>
                    <a:pt x="8" y="16"/>
                    <a:pt x="8" y="32"/>
                    <a:pt x="8" y="48"/>
                  </a:cubicBezTo>
                  <a:cubicBezTo>
                    <a:pt x="8" y="64"/>
                    <a:pt x="8" y="80"/>
                    <a:pt x="8" y="96"/>
                  </a:cubicBezTo>
                  <a:cubicBezTo>
                    <a:pt x="8" y="112"/>
                    <a:pt x="8" y="128"/>
                    <a:pt x="8" y="144"/>
                  </a:cubicBezTo>
                  <a:cubicBezTo>
                    <a:pt x="8" y="160"/>
                    <a:pt x="0" y="176"/>
                    <a:pt x="8" y="192"/>
                  </a:cubicBezTo>
                  <a:cubicBezTo>
                    <a:pt x="16" y="208"/>
                    <a:pt x="40" y="224"/>
                    <a:pt x="56" y="240"/>
                  </a:cubicBezTo>
                  <a:cubicBezTo>
                    <a:pt x="72" y="256"/>
                    <a:pt x="96" y="272"/>
                    <a:pt x="104" y="288"/>
                  </a:cubicBezTo>
                  <a:cubicBezTo>
                    <a:pt x="112" y="304"/>
                    <a:pt x="96" y="320"/>
                    <a:pt x="104" y="336"/>
                  </a:cubicBezTo>
                  <a:cubicBezTo>
                    <a:pt x="112" y="352"/>
                    <a:pt x="144" y="376"/>
                    <a:pt x="152" y="38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95480" y="533520"/>
              <a:ext cx="1067040" cy="83808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0" y="0"/>
                  </a:moveTo>
                  <a:cubicBezTo>
                    <a:pt x="32" y="32"/>
                    <a:pt x="64" y="64"/>
                    <a:pt x="96" y="96"/>
                  </a:cubicBezTo>
                  <a:cubicBezTo>
                    <a:pt x="128" y="128"/>
                    <a:pt x="168" y="168"/>
                    <a:pt x="192" y="192"/>
                  </a:cubicBezTo>
                  <a:cubicBezTo>
                    <a:pt x="216" y="216"/>
                    <a:pt x="224" y="232"/>
                    <a:pt x="240" y="240"/>
                  </a:cubicBezTo>
                  <a:cubicBezTo>
                    <a:pt x="256" y="248"/>
                    <a:pt x="272" y="232"/>
                    <a:pt x="288" y="240"/>
                  </a:cubicBezTo>
                  <a:cubicBezTo>
                    <a:pt x="304" y="248"/>
                    <a:pt x="320" y="272"/>
                    <a:pt x="336" y="288"/>
                  </a:cubicBezTo>
                  <a:cubicBezTo>
                    <a:pt x="352" y="304"/>
                    <a:pt x="368" y="320"/>
                    <a:pt x="384" y="336"/>
                  </a:cubicBezTo>
                  <a:cubicBezTo>
                    <a:pt x="400" y="352"/>
                    <a:pt x="416" y="368"/>
                    <a:pt x="432" y="384"/>
                  </a:cubicBezTo>
                  <a:cubicBezTo>
                    <a:pt x="448" y="400"/>
                    <a:pt x="448" y="408"/>
                    <a:pt x="480" y="432"/>
                  </a:cubicBezTo>
                  <a:cubicBezTo>
                    <a:pt x="512" y="456"/>
                    <a:pt x="600" y="512"/>
                    <a:pt x="624" y="52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19520" y="685800"/>
              <a:ext cx="1003320" cy="1917720"/>
            </a:xfrm>
            <a:custGeom>
              <a:avLst/>
              <a:gdLst/>
              <a:ahLst/>
              <a:rect l="l" t="t" r="r" b="b"/>
              <a:pathLst>
                <a:path w="632" h="1208">
                  <a:moveTo>
                    <a:pt x="0" y="8"/>
                  </a:moveTo>
                  <a:cubicBezTo>
                    <a:pt x="20" y="4"/>
                    <a:pt x="40" y="0"/>
                    <a:pt x="48" y="8"/>
                  </a:cubicBezTo>
                  <a:cubicBezTo>
                    <a:pt x="56" y="16"/>
                    <a:pt x="48" y="40"/>
                    <a:pt x="48" y="56"/>
                  </a:cubicBezTo>
                  <a:cubicBezTo>
                    <a:pt x="48" y="72"/>
                    <a:pt x="48" y="88"/>
                    <a:pt x="48" y="104"/>
                  </a:cubicBezTo>
                  <a:cubicBezTo>
                    <a:pt x="48" y="120"/>
                    <a:pt x="40" y="136"/>
                    <a:pt x="48" y="152"/>
                  </a:cubicBezTo>
                  <a:cubicBezTo>
                    <a:pt x="56" y="168"/>
                    <a:pt x="96" y="200"/>
                    <a:pt x="96" y="200"/>
                  </a:cubicBezTo>
                  <a:cubicBezTo>
                    <a:pt x="96" y="200"/>
                    <a:pt x="56" y="152"/>
                    <a:pt x="48" y="152"/>
                  </a:cubicBezTo>
                  <a:cubicBezTo>
                    <a:pt x="40" y="152"/>
                    <a:pt x="40" y="184"/>
                    <a:pt x="48" y="200"/>
                  </a:cubicBezTo>
                  <a:cubicBezTo>
                    <a:pt x="56" y="216"/>
                    <a:pt x="80" y="232"/>
                    <a:pt x="96" y="248"/>
                  </a:cubicBezTo>
                  <a:cubicBezTo>
                    <a:pt x="112" y="264"/>
                    <a:pt x="136" y="280"/>
                    <a:pt x="144" y="296"/>
                  </a:cubicBezTo>
                  <a:cubicBezTo>
                    <a:pt x="152" y="312"/>
                    <a:pt x="144" y="328"/>
                    <a:pt x="144" y="344"/>
                  </a:cubicBezTo>
                  <a:cubicBezTo>
                    <a:pt x="144" y="360"/>
                    <a:pt x="152" y="384"/>
                    <a:pt x="144" y="392"/>
                  </a:cubicBezTo>
                  <a:cubicBezTo>
                    <a:pt x="136" y="400"/>
                    <a:pt x="104" y="384"/>
                    <a:pt x="96" y="392"/>
                  </a:cubicBezTo>
                  <a:cubicBezTo>
                    <a:pt x="88" y="400"/>
                    <a:pt x="104" y="432"/>
                    <a:pt x="96" y="440"/>
                  </a:cubicBezTo>
                  <a:cubicBezTo>
                    <a:pt x="88" y="448"/>
                    <a:pt x="48" y="432"/>
                    <a:pt x="48" y="440"/>
                  </a:cubicBezTo>
                  <a:cubicBezTo>
                    <a:pt x="48" y="448"/>
                    <a:pt x="80" y="480"/>
                    <a:pt x="96" y="488"/>
                  </a:cubicBezTo>
                  <a:cubicBezTo>
                    <a:pt x="112" y="496"/>
                    <a:pt x="128" y="480"/>
                    <a:pt x="144" y="488"/>
                  </a:cubicBezTo>
                  <a:cubicBezTo>
                    <a:pt x="160" y="496"/>
                    <a:pt x="176" y="528"/>
                    <a:pt x="192" y="536"/>
                  </a:cubicBezTo>
                  <a:cubicBezTo>
                    <a:pt x="208" y="544"/>
                    <a:pt x="232" y="528"/>
                    <a:pt x="240" y="536"/>
                  </a:cubicBezTo>
                  <a:cubicBezTo>
                    <a:pt x="248" y="544"/>
                    <a:pt x="248" y="576"/>
                    <a:pt x="240" y="584"/>
                  </a:cubicBezTo>
                  <a:cubicBezTo>
                    <a:pt x="232" y="592"/>
                    <a:pt x="200" y="576"/>
                    <a:pt x="192" y="584"/>
                  </a:cubicBezTo>
                  <a:cubicBezTo>
                    <a:pt x="184" y="592"/>
                    <a:pt x="192" y="616"/>
                    <a:pt x="192" y="632"/>
                  </a:cubicBezTo>
                  <a:cubicBezTo>
                    <a:pt x="192" y="648"/>
                    <a:pt x="192" y="664"/>
                    <a:pt x="192" y="680"/>
                  </a:cubicBezTo>
                  <a:cubicBezTo>
                    <a:pt x="192" y="696"/>
                    <a:pt x="184" y="728"/>
                    <a:pt x="192" y="728"/>
                  </a:cubicBezTo>
                  <a:cubicBezTo>
                    <a:pt x="200" y="728"/>
                    <a:pt x="232" y="696"/>
                    <a:pt x="240" y="680"/>
                  </a:cubicBezTo>
                  <a:cubicBezTo>
                    <a:pt x="248" y="664"/>
                    <a:pt x="232" y="640"/>
                    <a:pt x="240" y="632"/>
                  </a:cubicBezTo>
                  <a:cubicBezTo>
                    <a:pt x="248" y="624"/>
                    <a:pt x="272" y="624"/>
                    <a:pt x="288" y="632"/>
                  </a:cubicBezTo>
                  <a:cubicBezTo>
                    <a:pt x="304" y="640"/>
                    <a:pt x="320" y="672"/>
                    <a:pt x="336" y="680"/>
                  </a:cubicBezTo>
                  <a:cubicBezTo>
                    <a:pt x="352" y="688"/>
                    <a:pt x="376" y="688"/>
                    <a:pt x="384" y="680"/>
                  </a:cubicBezTo>
                  <a:cubicBezTo>
                    <a:pt x="392" y="672"/>
                    <a:pt x="376" y="640"/>
                    <a:pt x="384" y="632"/>
                  </a:cubicBezTo>
                  <a:cubicBezTo>
                    <a:pt x="392" y="624"/>
                    <a:pt x="408" y="600"/>
                    <a:pt x="432" y="632"/>
                  </a:cubicBezTo>
                  <a:cubicBezTo>
                    <a:pt x="456" y="664"/>
                    <a:pt x="504" y="776"/>
                    <a:pt x="528" y="824"/>
                  </a:cubicBezTo>
                  <a:cubicBezTo>
                    <a:pt x="552" y="872"/>
                    <a:pt x="568" y="896"/>
                    <a:pt x="576" y="920"/>
                  </a:cubicBezTo>
                  <a:cubicBezTo>
                    <a:pt x="584" y="944"/>
                    <a:pt x="576" y="952"/>
                    <a:pt x="576" y="968"/>
                  </a:cubicBezTo>
                  <a:cubicBezTo>
                    <a:pt x="576" y="984"/>
                    <a:pt x="568" y="1000"/>
                    <a:pt x="576" y="1016"/>
                  </a:cubicBezTo>
                  <a:cubicBezTo>
                    <a:pt x="584" y="1032"/>
                    <a:pt x="616" y="1048"/>
                    <a:pt x="624" y="1064"/>
                  </a:cubicBezTo>
                  <a:cubicBezTo>
                    <a:pt x="632" y="1080"/>
                    <a:pt x="624" y="1096"/>
                    <a:pt x="624" y="1112"/>
                  </a:cubicBezTo>
                  <a:cubicBezTo>
                    <a:pt x="624" y="1128"/>
                    <a:pt x="624" y="1144"/>
                    <a:pt x="624" y="1160"/>
                  </a:cubicBezTo>
                  <a:cubicBezTo>
                    <a:pt x="624" y="1176"/>
                    <a:pt x="624" y="1192"/>
                    <a:pt x="624" y="120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57600" y="1981080"/>
              <a:ext cx="317520" cy="762120"/>
            </a:xfrm>
            <a:custGeom>
              <a:avLst/>
              <a:gdLst/>
              <a:ahLst/>
              <a:rect l="l" t="t" r="r" b="b"/>
              <a:pathLst>
                <a:path w="200" h="480">
                  <a:moveTo>
                    <a:pt x="192" y="0"/>
                  </a:moveTo>
                  <a:cubicBezTo>
                    <a:pt x="196" y="16"/>
                    <a:pt x="200" y="32"/>
                    <a:pt x="192" y="48"/>
                  </a:cubicBezTo>
                  <a:cubicBezTo>
                    <a:pt x="184" y="64"/>
                    <a:pt x="152" y="80"/>
                    <a:pt x="144" y="96"/>
                  </a:cubicBezTo>
                  <a:cubicBezTo>
                    <a:pt x="136" y="112"/>
                    <a:pt x="144" y="128"/>
                    <a:pt x="144" y="144"/>
                  </a:cubicBezTo>
                  <a:cubicBezTo>
                    <a:pt x="144" y="160"/>
                    <a:pt x="152" y="168"/>
                    <a:pt x="144" y="192"/>
                  </a:cubicBezTo>
                  <a:cubicBezTo>
                    <a:pt x="136" y="216"/>
                    <a:pt x="104" y="264"/>
                    <a:pt x="96" y="288"/>
                  </a:cubicBezTo>
                  <a:cubicBezTo>
                    <a:pt x="88" y="312"/>
                    <a:pt x="96" y="320"/>
                    <a:pt x="96" y="336"/>
                  </a:cubicBezTo>
                  <a:cubicBezTo>
                    <a:pt x="96" y="352"/>
                    <a:pt x="104" y="376"/>
                    <a:pt x="96" y="384"/>
                  </a:cubicBezTo>
                  <a:cubicBezTo>
                    <a:pt x="88" y="392"/>
                    <a:pt x="56" y="376"/>
                    <a:pt x="48" y="384"/>
                  </a:cubicBezTo>
                  <a:cubicBezTo>
                    <a:pt x="40" y="392"/>
                    <a:pt x="56" y="416"/>
                    <a:pt x="48" y="432"/>
                  </a:cubicBezTo>
                  <a:cubicBezTo>
                    <a:pt x="40" y="448"/>
                    <a:pt x="8" y="472"/>
                    <a:pt x="0" y="48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57600" y="2819520"/>
              <a:ext cx="152280" cy="30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16" y="36"/>
                    <a:pt x="32" y="72"/>
                    <a:pt x="48" y="96"/>
                  </a:cubicBezTo>
                  <a:cubicBezTo>
                    <a:pt x="64" y="120"/>
                    <a:pt x="88" y="136"/>
                    <a:pt x="96" y="14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14600" y="685800"/>
              <a:ext cx="241200" cy="1371600"/>
            </a:xfrm>
            <a:custGeom>
              <a:avLst/>
              <a:gdLst/>
              <a:ahLst/>
              <a:rect l="l" t="t" r="r" b="b"/>
              <a:pathLst>
                <a:path w="152" h="864">
                  <a:moveTo>
                    <a:pt x="144" y="0"/>
                  </a:moveTo>
                  <a:cubicBezTo>
                    <a:pt x="148" y="16"/>
                    <a:pt x="152" y="32"/>
                    <a:pt x="144" y="48"/>
                  </a:cubicBezTo>
                  <a:cubicBezTo>
                    <a:pt x="136" y="64"/>
                    <a:pt x="104" y="64"/>
                    <a:pt x="96" y="96"/>
                  </a:cubicBezTo>
                  <a:cubicBezTo>
                    <a:pt x="88" y="128"/>
                    <a:pt x="96" y="208"/>
                    <a:pt x="96" y="240"/>
                  </a:cubicBezTo>
                  <a:cubicBezTo>
                    <a:pt x="96" y="272"/>
                    <a:pt x="96" y="272"/>
                    <a:pt x="96" y="288"/>
                  </a:cubicBezTo>
                  <a:cubicBezTo>
                    <a:pt x="96" y="304"/>
                    <a:pt x="88" y="320"/>
                    <a:pt x="96" y="336"/>
                  </a:cubicBezTo>
                  <a:cubicBezTo>
                    <a:pt x="104" y="352"/>
                    <a:pt x="136" y="368"/>
                    <a:pt x="144" y="384"/>
                  </a:cubicBezTo>
                  <a:cubicBezTo>
                    <a:pt x="152" y="400"/>
                    <a:pt x="152" y="416"/>
                    <a:pt x="144" y="432"/>
                  </a:cubicBezTo>
                  <a:cubicBezTo>
                    <a:pt x="136" y="448"/>
                    <a:pt x="112" y="464"/>
                    <a:pt x="96" y="480"/>
                  </a:cubicBezTo>
                  <a:cubicBezTo>
                    <a:pt x="80" y="496"/>
                    <a:pt x="56" y="496"/>
                    <a:pt x="48" y="528"/>
                  </a:cubicBezTo>
                  <a:cubicBezTo>
                    <a:pt x="40" y="560"/>
                    <a:pt x="48" y="640"/>
                    <a:pt x="48" y="672"/>
                  </a:cubicBezTo>
                  <a:cubicBezTo>
                    <a:pt x="48" y="704"/>
                    <a:pt x="48" y="704"/>
                    <a:pt x="48" y="720"/>
                  </a:cubicBezTo>
                  <a:cubicBezTo>
                    <a:pt x="48" y="736"/>
                    <a:pt x="48" y="752"/>
                    <a:pt x="48" y="768"/>
                  </a:cubicBezTo>
                  <a:cubicBezTo>
                    <a:pt x="48" y="784"/>
                    <a:pt x="56" y="800"/>
                    <a:pt x="48" y="816"/>
                  </a:cubicBezTo>
                  <a:cubicBezTo>
                    <a:pt x="40" y="832"/>
                    <a:pt x="8" y="856"/>
                    <a:pt x="0" y="86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57400" y="380880"/>
              <a:ext cx="533520" cy="1676520"/>
            </a:xfrm>
            <a:custGeom>
              <a:avLst/>
              <a:gdLst/>
              <a:ahLst/>
              <a:rect l="l" t="t" r="r" b="b"/>
              <a:pathLst>
                <a:path w="344" h="960">
                  <a:moveTo>
                    <a:pt x="344" y="0"/>
                  </a:moveTo>
                  <a:cubicBezTo>
                    <a:pt x="324" y="16"/>
                    <a:pt x="304" y="32"/>
                    <a:pt x="296" y="48"/>
                  </a:cubicBezTo>
                  <a:lnTo>
                    <a:pt x="296" y="96"/>
                  </a:lnTo>
                  <a:cubicBezTo>
                    <a:pt x="280" y="120"/>
                    <a:pt x="224" y="160"/>
                    <a:pt x="200" y="192"/>
                  </a:cubicBezTo>
                  <a:cubicBezTo>
                    <a:pt x="176" y="224"/>
                    <a:pt x="160" y="264"/>
                    <a:pt x="152" y="288"/>
                  </a:cubicBezTo>
                  <a:cubicBezTo>
                    <a:pt x="144" y="312"/>
                    <a:pt x="152" y="320"/>
                    <a:pt x="152" y="336"/>
                  </a:cubicBezTo>
                  <a:cubicBezTo>
                    <a:pt x="152" y="352"/>
                    <a:pt x="160" y="376"/>
                    <a:pt x="152" y="384"/>
                  </a:cubicBezTo>
                  <a:cubicBezTo>
                    <a:pt x="144" y="392"/>
                    <a:pt x="128" y="368"/>
                    <a:pt x="104" y="384"/>
                  </a:cubicBezTo>
                  <a:cubicBezTo>
                    <a:pt x="80" y="400"/>
                    <a:pt x="16" y="456"/>
                    <a:pt x="8" y="480"/>
                  </a:cubicBezTo>
                  <a:cubicBezTo>
                    <a:pt x="0" y="504"/>
                    <a:pt x="40" y="512"/>
                    <a:pt x="56" y="528"/>
                  </a:cubicBezTo>
                  <a:cubicBezTo>
                    <a:pt x="72" y="544"/>
                    <a:pt x="96" y="560"/>
                    <a:pt x="104" y="576"/>
                  </a:cubicBezTo>
                  <a:cubicBezTo>
                    <a:pt x="112" y="592"/>
                    <a:pt x="112" y="608"/>
                    <a:pt x="104" y="624"/>
                  </a:cubicBezTo>
                  <a:cubicBezTo>
                    <a:pt x="96" y="640"/>
                    <a:pt x="64" y="656"/>
                    <a:pt x="56" y="672"/>
                  </a:cubicBezTo>
                  <a:cubicBezTo>
                    <a:pt x="48" y="688"/>
                    <a:pt x="48" y="704"/>
                    <a:pt x="56" y="720"/>
                  </a:cubicBezTo>
                  <a:cubicBezTo>
                    <a:pt x="64" y="736"/>
                    <a:pt x="96" y="752"/>
                    <a:pt x="104" y="768"/>
                  </a:cubicBezTo>
                  <a:cubicBezTo>
                    <a:pt x="112" y="784"/>
                    <a:pt x="112" y="800"/>
                    <a:pt x="104" y="816"/>
                  </a:cubicBezTo>
                  <a:cubicBezTo>
                    <a:pt x="96" y="832"/>
                    <a:pt x="72" y="848"/>
                    <a:pt x="56" y="864"/>
                  </a:cubicBezTo>
                  <a:cubicBezTo>
                    <a:pt x="40" y="880"/>
                    <a:pt x="16" y="896"/>
                    <a:pt x="8" y="912"/>
                  </a:cubicBezTo>
                  <a:cubicBezTo>
                    <a:pt x="0" y="928"/>
                    <a:pt x="4" y="944"/>
                    <a:pt x="8" y="96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33720" y="1752480"/>
              <a:ext cx="75960" cy="304920"/>
            </a:xfrm>
            <a:custGeom>
              <a:avLst/>
              <a:gdLst/>
              <a:ahLst/>
              <a:rect l="l" t="t" r="r" b="b"/>
              <a:pathLst>
                <a:path w="64" h="192">
                  <a:moveTo>
                    <a:pt x="56" y="0"/>
                  </a:moveTo>
                  <a:cubicBezTo>
                    <a:pt x="60" y="36"/>
                    <a:pt x="64" y="72"/>
                    <a:pt x="56" y="96"/>
                  </a:cubicBezTo>
                  <a:cubicBezTo>
                    <a:pt x="48" y="120"/>
                    <a:pt x="16" y="128"/>
                    <a:pt x="8" y="144"/>
                  </a:cubicBezTo>
                  <a:cubicBezTo>
                    <a:pt x="0" y="160"/>
                    <a:pt x="8" y="184"/>
                    <a:pt x="8" y="192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09680" y="1752480"/>
              <a:ext cx="76320" cy="22860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0" y="0"/>
                  </a:moveTo>
                  <a:cubicBezTo>
                    <a:pt x="20" y="36"/>
                    <a:pt x="40" y="72"/>
                    <a:pt x="48" y="96"/>
                  </a:cubicBezTo>
                  <a:cubicBezTo>
                    <a:pt x="56" y="120"/>
                    <a:pt x="48" y="136"/>
                    <a:pt x="48" y="14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19520" y="1523880"/>
              <a:ext cx="152280" cy="990720"/>
            </a:xfrm>
            <a:custGeom>
              <a:avLst/>
              <a:gdLst/>
              <a:ahLst/>
              <a:rect l="l" t="t" r="r" b="b"/>
              <a:pathLst>
                <a:path w="96" h="624">
                  <a:moveTo>
                    <a:pt x="48" y="0"/>
                  </a:moveTo>
                  <a:cubicBezTo>
                    <a:pt x="52" y="12"/>
                    <a:pt x="56" y="24"/>
                    <a:pt x="48" y="48"/>
                  </a:cubicBezTo>
                  <a:cubicBezTo>
                    <a:pt x="40" y="72"/>
                    <a:pt x="0" y="120"/>
                    <a:pt x="0" y="144"/>
                  </a:cubicBezTo>
                  <a:cubicBezTo>
                    <a:pt x="0" y="168"/>
                    <a:pt x="40" y="176"/>
                    <a:pt x="48" y="192"/>
                  </a:cubicBezTo>
                  <a:cubicBezTo>
                    <a:pt x="56" y="208"/>
                    <a:pt x="48" y="224"/>
                    <a:pt x="48" y="240"/>
                  </a:cubicBezTo>
                  <a:cubicBezTo>
                    <a:pt x="48" y="256"/>
                    <a:pt x="48" y="272"/>
                    <a:pt x="48" y="288"/>
                  </a:cubicBezTo>
                  <a:cubicBezTo>
                    <a:pt x="48" y="304"/>
                    <a:pt x="48" y="320"/>
                    <a:pt x="48" y="336"/>
                  </a:cubicBezTo>
                  <a:cubicBezTo>
                    <a:pt x="48" y="352"/>
                    <a:pt x="48" y="368"/>
                    <a:pt x="48" y="384"/>
                  </a:cubicBezTo>
                  <a:cubicBezTo>
                    <a:pt x="48" y="400"/>
                    <a:pt x="48" y="416"/>
                    <a:pt x="48" y="432"/>
                  </a:cubicBezTo>
                  <a:cubicBezTo>
                    <a:pt x="48" y="448"/>
                    <a:pt x="40" y="472"/>
                    <a:pt x="48" y="480"/>
                  </a:cubicBezTo>
                  <a:cubicBezTo>
                    <a:pt x="56" y="488"/>
                    <a:pt x="96" y="456"/>
                    <a:pt x="96" y="480"/>
                  </a:cubicBezTo>
                  <a:cubicBezTo>
                    <a:pt x="96" y="504"/>
                    <a:pt x="72" y="564"/>
                    <a:pt x="48" y="62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0" y="4930920"/>
            <a:ext cx="8915400" cy="1922760"/>
          </a:xfrm>
          <a:prstGeom prst="rect">
            <a:avLst/>
          </a:prstGeom>
          <a:solidFill>
            <a:srgbClr val="ffff89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VNI-Meli"/>
              </a:rPr>
              <a:t>Soâng ngoø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Meli"/>
              </a:rPr>
              <a:t>* Ñaëc ñieåm cuûa soâng ngoøi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NI-Meli"/>
              </a:rPr>
              <a:t>* Nôi baét nguoàn , </a:t>
            </a:r>
            <a:r>
              <a:rPr b="1" lang="en-US" sz="2400" spc="-1" strike="noStrike">
                <a:solidFill>
                  <a:srgbClr val="000000"/>
                </a:solidFill>
                <a:latin typeface="VNI-Meli"/>
              </a:rPr>
              <a:t>höôùng chaûy</a:t>
            </a:r>
            <a:r>
              <a:rPr b="1" lang="en-US" sz="2400" spc="-1" strike="noStrike">
                <a:solidFill>
                  <a:srgbClr val="990000"/>
                </a:solidFill>
                <a:latin typeface="VNI-Meli"/>
              </a:rPr>
              <a:t> , nguoàn cung caáp nöôùc , </a:t>
            </a:r>
            <a:r>
              <a:rPr b="1" lang="en-US" sz="2400" spc="-1" strike="noStrike">
                <a:solidFill>
                  <a:srgbClr val="000000"/>
                </a:solidFill>
                <a:latin typeface="VNI-Meli"/>
              </a:rPr>
              <a:t>cheá ñoä nöôùc</a:t>
            </a:r>
            <a:r>
              <a:rPr b="1" lang="en-US" sz="2400" spc="-1" strike="noStrike">
                <a:solidFill>
                  <a:srgbClr val="990000"/>
                </a:solidFill>
                <a:latin typeface="VNI-Mel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NI-Meli"/>
              </a:rPr>
              <a:t>* Giaûi thích nguyeân nhaân cheá ñoä nöôùc</a:t>
            </a:r>
            <a:r>
              <a:rPr b="1" lang="en-US" sz="2400" spc="-1" strike="noStrike">
                <a:solidFill>
                  <a:srgbClr val="990000"/>
                </a:solidFill>
                <a:latin typeface="VNI-StageCoac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420A-96B1-4CBA-86E0-E9D50320C429}" type="slidenum">
              <a:t>15</a:t>
            </a:fld>
          </a:p>
        </p:txBody>
      </p:sp>
    </p:spTree>
  </p:cSld>
  <p:transition spd="med">
    <p:cover dir="r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52280" y="15840"/>
            <a:ext cx="8917200" cy="6143040"/>
            <a:chOff x="152280" y="15840"/>
            <a:chExt cx="8917200" cy="6143040"/>
          </a:xfrm>
        </p:grpSpPr>
        <p:grpSp>
          <p:nvGrpSpPr>
            <p:cNvPr id="191" name=""/>
            <p:cNvGrpSpPr/>
            <p:nvPr/>
          </p:nvGrpSpPr>
          <p:grpSpPr>
            <a:xfrm>
              <a:off x="152280" y="15840"/>
              <a:ext cx="8917200" cy="5638680"/>
              <a:chOff x="152280" y="15840"/>
              <a:chExt cx="8917200" cy="5638680"/>
            </a:xfrm>
          </p:grpSpPr>
          <p:pic>
            <p:nvPicPr>
              <p:cNvPr id="1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295880" y="15840"/>
                <a:ext cx="4773600" cy="563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280" y="60480"/>
                <a:ext cx="4075200" cy="5578200"/>
              </a:xfrm>
              <a:prstGeom prst="rect">
                <a:avLst/>
              </a:prstGeom>
              <a:ln w="381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94" name=""/>
            <p:cNvGrpSpPr/>
            <p:nvPr/>
          </p:nvGrpSpPr>
          <p:grpSpPr>
            <a:xfrm>
              <a:off x="457200" y="5683320"/>
              <a:ext cx="7772400" cy="475560"/>
              <a:chOff x="457200" y="5683320"/>
              <a:chExt cx="7772400" cy="475560"/>
            </a:xfrm>
          </p:grpSpPr>
          <p:sp>
            <p:nvSpPr>
              <p:cNvPr id="195" name=""/>
              <p:cNvSpPr/>
              <p:nvPr/>
            </p:nvSpPr>
            <p:spPr>
              <a:xfrm>
                <a:off x="5029200" y="5683320"/>
                <a:ext cx="3200400" cy="459720"/>
              </a:xfrm>
              <a:prstGeom prst="rect">
                <a:avLst/>
              </a:prstGeom>
              <a:solidFill>
                <a:srgbClr val="0000ff">
                  <a:alpha val="86000"/>
                </a:srgbClr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89"/>
                    </a:solidFill>
                    <a:latin typeface="VNI-Souvir"/>
                    <a:ea typeface="Times New Roman"/>
                  </a:rPr>
                  <a:t>Röøng Cuùc Phöô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200" y="5699160"/>
                <a:ext cx="3505320" cy="459720"/>
              </a:xfrm>
              <a:prstGeom prst="rect">
                <a:avLst/>
              </a:prstGeom>
              <a:solidFill>
                <a:srgbClr val="0000ff">
                  <a:alpha val="86000"/>
                </a:srgbClr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89"/>
                    </a:solidFill>
                    <a:latin typeface="VNI-Souvir"/>
                    <a:ea typeface="Times New Roman"/>
                  </a:rPr>
                  <a:t>Röøng Nam Caùt Tieâ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0" y="0"/>
            <a:ext cx="9144000" cy="6952680"/>
            <a:chOff x="0" y="0"/>
            <a:chExt cx="9144000" cy="6952680"/>
          </a:xfrm>
        </p:grpSpPr>
        <p:pic>
          <p:nvPicPr>
            <p:cNvPr id="198" name="" descr=""/>
            <p:cNvPicPr/>
            <p:nvPr/>
          </p:nvPicPr>
          <p:blipFill>
            <a:blip r:embed="rId3"/>
            <a:stretch/>
          </p:blipFill>
          <p:spPr>
            <a:xfrm>
              <a:off x="4038480" y="47520"/>
              <a:ext cx="5105520" cy="342900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4038480" y="3505320"/>
              <a:ext cx="5105520" cy="335268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200" name="" descr=""/>
            <p:cNvPicPr/>
            <p:nvPr/>
          </p:nvPicPr>
          <p:blipFill>
            <a:blip r:embed="rId5">
              <a:lum contrast="6000"/>
            </a:blip>
            <a:stretch/>
          </p:blipFill>
          <p:spPr>
            <a:xfrm>
              <a:off x="0" y="0"/>
              <a:ext cx="3962520" cy="4648320"/>
            </a:xfrm>
            <a:prstGeom prst="rect">
              <a:avLst/>
            </a:prstGeom>
            <a:ln w="28440">
              <a:solidFill>
                <a:srgbClr val="ff0000"/>
              </a:solidFill>
              <a:miter/>
            </a:ln>
          </p:spPr>
        </p:pic>
        <p:sp>
          <p:nvSpPr>
            <p:cNvPr id="201" name=""/>
            <p:cNvSpPr/>
            <p:nvPr/>
          </p:nvSpPr>
          <p:spPr>
            <a:xfrm>
              <a:off x="0" y="5029200"/>
              <a:ext cx="3962520" cy="1923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VNI-Times"/>
                </a:rPr>
                <a:t>Caûnh quan</a:t>
              </a:r>
              <a:r>
                <a:rPr b="1" lang="en-US" sz="2000" spc="-1" strike="noStrike">
                  <a:solidFill>
                    <a:srgbClr val="ff0000"/>
                  </a:solidFill>
                  <a:latin typeface="VNI-Times"/>
                </a:rPr>
                <a:t>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NI-Times"/>
                </a:rPr>
                <a:t>* Neâu ñaëc ñieåm noåi baät cuûa caûnh quan ôû 2 khu vöïc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NI-Times"/>
                </a:rPr>
                <a:t>* Giaûi thích veà röøng raäm nhieät ñôùi 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4648320"/>
              <a:ext cx="403848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NI-Souvir"/>
                  <a:ea typeface="Times New Roman"/>
                </a:rPr>
                <a:t>Hình 14.3   Röøng raäm thöôøng xan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CAE-C532-4950-82C6-678C629D6A58}" type="slidenum">
              <a:t>16</a:t>
            </a:fld>
          </a:p>
        </p:txBody>
      </p:sp>
    </p:spTree>
  </p:cSld>
  <p:transition spd="med">
    <p:cover dir="r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76520" y="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NI-Heather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NI-Heather"/>
              </a:rPr>
              <a:t>II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NI-Heather"/>
              </a:rPr>
              <a:t>ÑAËC ÑIEÅM TÖÏ NHIEÂN</a:t>
            </a:r>
            <a:r>
              <a:rPr b="1" lang="en-US" sz="2800" spc="-1" strike="noStrike">
                <a:solidFill>
                  <a:srgbClr val="ff0000"/>
                </a:solidFill>
                <a:latin typeface="VNI-Heather"/>
              </a:rPr>
              <a:t>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584280"/>
          <a:ext cx="8534160" cy="6103440"/>
        </p:xfrm>
        <a:graphic>
          <a:graphicData uri="http://schemas.openxmlformats.org/drawingml/2006/table">
            <a:tbl>
              <a:tblPr/>
              <a:tblGrid>
                <a:gridCol w="1861920"/>
                <a:gridCol w="3879360"/>
                <a:gridCol w="2792880"/>
              </a:tblGrid>
              <a:tr h="9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28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22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838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NI-Times"/>
              </a:rPr>
              <a:t>Ñaëc ñieå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4600" y="8380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NI-Times"/>
              </a:rPr>
              <a:t>Baùn ñaûo Trung AÁn</a:t>
            </a:r>
            <a:r>
              <a:rPr b="0" lang="en-US" sz="2400" spc="-1" strike="noStrike">
                <a:solidFill>
                  <a:srgbClr val="ffcc00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34040" y="8380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NI-Times"/>
              </a:rPr>
              <a:t>Quaàn ñaûo Maõ L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286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NI-Times"/>
              </a:rPr>
              <a:t>Soâng ngoø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50292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NI-Times"/>
              </a:rPr>
              <a:t>Caûnh q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1600200"/>
            <a:ext cx="373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Times"/>
              </a:rPr>
              <a:t>* 5 soâng lôùn, baét nguoàn töø vuøng nuùi phía Baéc , chaûy theo höôùng Baéc-Nam, nguoàn cung caáp nöôùc chính laø nöôùc möa, neân cheá ñoä theo muøa möa, haøm löôïng phuø sa nhieàu .</a:t>
            </a: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5880" y="1600200"/>
            <a:ext cx="266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Times"/>
              </a:rPr>
              <a:t>* Soâng ngaén, doác, ña soá coù cheá ñoä nöôùc ñieàu hoøa, ít giaù trò giao thoâng, coù giaù trò thuûy ñieän</a:t>
            </a:r>
            <a:r>
              <a:rPr b="1" lang="en-US" sz="2000" spc="-1" strike="noStrike">
                <a:solidFill>
                  <a:srgbClr val="ffffff"/>
                </a:solidFill>
                <a:latin typeface="VNI-Times"/>
              </a:rPr>
              <a:t> .</a:t>
            </a: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4952880"/>
            <a:ext cx="358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ffffff"/>
                </a:solidFill>
                <a:latin typeface="VNI-Times"/>
              </a:rPr>
              <a:t>Röøng nhieät ñôùi , röøng thöa ruïng laù vaøo muøa khoâ , xavan .</a:t>
            </a: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495288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Times"/>
              </a:rPr>
              <a:t>* Röøng raäm nhieät ñôùi , boán muøa xanh toát .</a:t>
            </a: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4DBA-F02B-48D1-8082-6DEE0E8F5935}" type="slidenum">
              <a:t>17</a:t>
            </a:fld>
          </a:p>
        </p:txBody>
      </p:sp>
    </p:spTree>
  </p:cSld>
  <p:transition spd="med">
    <p:cover dir="r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680"/>
                            </p:stCondLst>
                            <p:childTnLst>
                              <p:par>
                                <p:cTn id="6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304920" y="457200"/>
          <a:ext cx="8610120" cy="6400440"/>
        </p:xfrm>
        <a:graphic>
          <a:graphicData uri="http://schemas.openxmlformats.org/drawingml/2006/table">
            <a:tbl>
              <a:tblPr/>
              <a:tblGrid>
                <a:gridCol w="1783800"/>
                <a:gridCol w="3956040"/>
                <a:gridCol w="2870280"/>
              </a:tblGrid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1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1676520" y="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NI-Heather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NI-Heather"/>
              </a:rPr>
              <a:t>II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NI-Heather"/>
              </a:rPr>
              <a:t>ÑAËC ÑIEÅM TÖÏ NHIEÂN</a:t>
            </a:r>
            <a:r>
              <a:rPr b="1" lang="en-US" sz="2400" spc="-1" strike="noStrike">
                <a:solidFill>
                  <a:srgbClr val="ff0000"/>
                </a:solidFill>
                <a:latin typeface="VNI-Heather"/>
              </a:rPr>
              <a:t>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6560" y="7621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NI-Times"/>
              </a:rPr>
              <a:t>Ñaëc ñieå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68580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NI-Times"/>
              </a:rPr>
              <a:t>Baùn ñaûo Trung AÁn</a:t>
            </a:r>
            <a:r>
              <a:rPr b="0" lang="en-US" sz="2000" spc="-1" strike="noStrike">
                <a:solidFill>
                  <a:srgbClr val="ffcc00"/>
                </a:solidFill>
                <a:latin typeface="VNI-Time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685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NI-Times"/>
              </a:rPr>
              <a:t>Quaàn ñaûo Maõ L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752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NI-Times"/>
              </a:rPr>
              <a:t>Ñòa hì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1295280"/>
            <a:ext cx="266688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* Chuû yeáu nuùi, höôùng Ñoâng _ Taây 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ÑB _ TN, nuùi löûa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* Ñoàng baèng ven bieån nhoû heïp</a:t>
            </a:r>
            <a:r>
              <a:rPr b="0" lang="en-US" sz="16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36576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NI-Times"/>
              </a:rPr>
              <a:t>Khí haä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60199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NI-Times"/>
              </a:rPr>
              <a:t>Caûnh qu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NI-Times"/>
              </a:rPr>
              <a:t>Soâng ngoøi</a:t>
            </a:r>
            <a:r>
              <a:rPr b="0" lang="en-US" sz="20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5867280"/>
            <a:ext cx="358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Röøng nhieät ñôùi , röøng thöa ruïng laù vaøo muøa khoâ , xavan .</a:t>
            </a:r>
            <a:r>
              <a:rPr b="0" lang="en-US" sz="16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419720"/>
            <a:ext cx="3733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* 5 soâng lôùn, baét nguoàn töø vuøng nuùi phía Baéc , chaûy theo höôùng Baéc-Nam, nguoàn cung caáp nöôùc chính laø nöôùc möa, neân cheá ñoä theo muøa möa, haøm löôïng phuø sa nhieàu .</a:t>
            </a:r>
            <a:r>
              <a:rPr b="0" lang="en-US" sz="16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09680" y="350532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* Nhieät ñôùi gioù muøa. Baõo veà muøa heø _ thu .  ( Y-  an - gun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1295280"/>
            <a:ext cx="3733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* Chuû yeáu nuùi cao,höôùng nuùi Baéc_Nam , TB _ ÑN.Caùc cao nguyeân thaá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* Bò chia xeû maïnh bôûi caùc thung luõng soâng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* Ñoàng baèng chaâu thoå phuø sa maøu môõ, ôû ven bieån ,coù giaù trò lôùn veà kinh teá , taäp trung daân cö ñoâng .</a:t>
            </a:r>
            <a:r>
              <a:rPr b="0" lang="en-US" sz="16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72200" y="3413160"/>
            <a:ext cx="2666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* Xích ñaïo vaø nhieät ñôùi gioù muøa. Baõo nhieà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( Pa – ñaê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5880" y="594360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* Röøng raäm nhieät ñôùi , boán muøa xanh toát .</a:t>
            </a:r>
            <a:r>
              <a:rPr b="0" lang="en-US" sz="16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4495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* Soâng ngaén, doác, ña soá coù cheá ñoä nöôùc ñieàu hoøa, ít giaù trò giao thoâng, coù giaù trò thuûy ñieän .</a:t>
            </a:r>
            <a:r>
              <a:rPr b="0" lang="en-US" sz="16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0481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NI-Souvir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458200" y="30481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NI-Souvir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4038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NI-Souvir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458200" y="3962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NI-Souvir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5410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NI-Souvir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58200" y="5410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NI-Souvir"/>
                <a:ea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38680" y="6400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NI-Souvir"/>
                <a:ea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458200" y="6400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NI-Souvir"/>
                <a:ea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263-786A-40E5-AE70-C8128D7E3667}" type="slidenum">
              <a:t>18</a:t>
            </a:fld>
          </a:p>
        </p:txBody>
      </p:sp>
    </p:spTree>
  </p:cSld>
  <p:transition spd="med">
    <p:cover dir="r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710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3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724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73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0948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00"/>
                </a:solidFill>
                <a:uFillTx/>
                <a:latin typeface="VNI-Heather"/>
              </a:rPr>
              <a:t>Baøi taäp traéc nghieä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990720"/>
            <a:ext cx="784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858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Souvir"/>
                <a:ea typeface="Times New Roman"/>
              </a:rPr>
              <a:t>Haõy saép xeáp caùc caâu mang soá moâ taû ñaëc ñieåm töï nhieân cuûa boä phaän baùn ñaûo vaø boä phaän haûi ñaûo ôû Ñoâng Nam AÙ vaøo caùc coät A vaø B döôùi ñaây sau cho phuø hôïp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5638680"/>
          <a:ext cx="9144000" cy="911160"/>
        </p:xfrm>
        <a:graphic>
          <a:graphicData uri="http://schemas.openxmlformats.org/drawingml/2006/table">
            <a:tbl>
              <a:tblPr/>
              <a:tblGrid>
                <a:gridCol w="4486320"/>
                <a:gridCol w="4657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VNI-Heather"/>
                        </a:rPr>
                        <a:t>Coät A : Boä phaän Baùn Ñaû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NI-Heather"/>
                        </a:rPr>
                        <a:t>Coät B : Boä phaän Haûi Ñaû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VNI-Souvir"/>
                        </a:rPr>
                        <a:t>Soá 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NI-Souvir"/>
                        </a:rPr>
                        <a:t>Soá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0" y="1828800"/>
            <a:ext cx="91440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NI-Heather"/>
                <a:ea typeface="Times New Roman"/>
              </a:rPr>
              <a:t>1)Ñoàng baèng ven bieån nhoû heïp , nuùi laø chuû yeáu , coù nhieàu nuùi löû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NI-Heather"/>
                <a:ea typeface="Times New Roman"/>
              </a:rPr>
              <a:t>2)Caûnh quan röøng nhieät ñôùi aåm thöôøng xanh, röøng thöa ruïng laù, xavan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NI-Heather"/>
                <a:ea typeface="Times New Roman"/>
              </a:rPr>
              <a:t>3)Nhieàu nuùi, cao nguyeân vaø ñoàng baèng chaâu thoå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NI-Heather"/>
                <a:ea typeface="Times New Roman"/>
              </a:rPr>
              <a:t>4)Caûnh quan röøng nhieät ñôùi aåm thöôøng xanh, röøng raäm xích ñaïo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NI-Heather"/>
                <a:ea typeface="Times New Roman"/>
              </a:rPr>
              <a:t>5)Khí haäu xích ñaïo gioù muø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NI-Heather"/>
                <a:ea typeface="Times New Roman"/>
              </a:rPr>
              <a:t>6)Khí haäu nhieät ñôùi , caän nhieät ñôùi gioù muø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61722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6095880"/>
            <a:ext cx="1523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60199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ea"/>
                </a:solidFill>
                <a:latin typeface="VNI-Times"/>
                <a:ea typeface="Times New Roman"/>
              </a:rPr>
              <a:t>2, 3,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2388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NI-Times"/>
                <a:ea typeface="Times New Roman"/>
              </a:rPr>
              <a:t>1, 4,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094-C71B-42D0-B85D-0106C621D78F}" type="slidenum">
              <a:t>19</a:t>
            </a:fld>
          </a:p>
        </p:txBody>
      </p:sp>
    </p:spTree>
  </p:cSld>
  <p:transition spd="med">
    <p:cover dir="r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2120"/>
                            </p:stCondLst>
                            <p:childTnLst>
                              <p:par>
                                <p:cTn id="7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cc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</a:t>
            </a:r>
            <a:r>
              <a:rPr b="1" lang="en-US" sz="2800" spc="-1" strike="noStrike">
                <a:solidFill>
                  <a:srgbClr val="000000"/>
                </a:solidFill>
                <a:latin typeface="VNI-Broad"/>
                <a:ea typeface="Times New Roman"/>
              </a:rPr>
              <a:t>  </a:t>
            </a:r>
            <a:r>
              <a:rPr b="1" lang="en-US" sz="3600" spc="-1" strike="noStrike">
                <a:solidFill>
                  <a:srgbClr val="000000"/>
                </a:solidFill>
                <a:latin typeface="VNI-Broad"/>
                <a:ea typeface="Times New Roman"/>
              </a:rPr>
              <a:t>  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VNI-Broad"/>
                <a:ea typeface="Times New Roman"/>
              </a:rPr>
              <a:t>Kieåm tra baøi cuõ</a:t>
            </a:r>
            <a:r>
              <a:rPr b="1" lang="en-US" sz="4000" spc="-1" strike="noStrike">
                <a:solidFill>
                  <a:srgbClr val="0000ff"/>
                </a:solidFill>
                <a:latin typeface="VNI-Broad"/>
                <a:ea typeface="Times New Roman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NI-Souvir"/>
                <a:ea typeface="Times New Roman"/>
              </a:rPr>
              <a:t>1) Em haõy neâu teân caùc nöôùc, vuøng laõnh thoå thuoäc Ñoâng A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9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NI-Time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1886040"/>
            <a:ext cx="3200400" cy="521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NI-Souvir"/>
                <a:ea typeface="Times New Roman"/>
              </a:rPr>
              <a:t>Khu vöïc Ñoâng AÙ goàm phaàn ñaát lieàn vaø phaàn haûi ñaûo: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VNI-Souvir"/>
                <a:ea typeface="Times New Roman"/>
              </a:rPr>
              <a:t>phaàn ñaát lieàn goàm</a:t>
            </a:r>
            <a:r>
              <a:rPr b="1" lang="en-US" sz="2800" spc="-1" strike="noStrike">
                <a:solidFill>
                  <a:srgbClr val="008000"/>
                </a:solidFill>
                <a:latin typeface="VNI-Souvir"/>
                <a:ea typeface="Times New Roman"/>
              </a:rPr>
              <a:t> Trung Quoác,TrieàuTieân,Haøn Quoác,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VNI-Souvir"/>
                <a:ea typeface="Times New Roman"/>
              </a:rPr>
              <a:t>phaàn haûi ñaûo goàm</a:t>
            </a:r>
            <a:r>
              <a:rPr b="1" lang="en-US" sz="2800" spc="-1" strike="noStrike">
                <a:solidFill>
                  <a:srgbClr val="008000"/>
                </a:solidFill>
                <a:latin typeface="VNI-Souvir"/>
                <a:ea typeface="Times New Roman"/>
              </a:rPr>
              <a:t> Nhaät Baûn, Ñaøi Lo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1846440"/>
            <a:ext cx="5943600" cy="5011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2948-72D4-424C-B808-52CE4932DAF9}" type="slidenum">
              <a:t>2</a:t>
            </a:fld>
          </a:p>
        </p:txBody>
      </p:sp>
    </p:spTree>
  </p:cSld>
  <p:transition spd="med">
    <p:cover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523880" y="46080"/>
            <a:ext cx="7620120" cy="6811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-533520" y="1447920"/>
            <a:ext cx="4572000" cy="2361960"/>
          </a:xfrm>
          <a:prstGeom prst="wedgeEllipseCallout">
            <a:avLst>
              <a:gd name="adj1" fmla="val 58092"/>
              <a:gd name="adj2" fmla="val 60819"/>
            </a:avLst>
          </a:prstGeom>
          <a:solidFill>
            <a:srgbClr val="9933ff">
              <a:alpha val="37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Meli"/>
                <a:ea typeface="Times New Roman"/>
              </a:rPr>
              <a:t>*  Caùc em haõy trình baøy ñaëc ñieåm khaùc nhau cuûa</a:t>
            </a:r>
            <a:r>
              <a:rPr b="1" lang="en-US" sz="2400" spc="-1" strike="noStrike">
                <a:solidFill>
                  <a:srgbClr val="000000"/>
                </a:solidFill>
                <a:latin typeface="VNI-Mel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89"/>
                </a:solidFill>
                <a:latin typeface="VNI-Meli"/>
                <a:ea typeface="Times New Roman"/>
              </a:rPr>
              <a:t>gioù muøa muøa ñoâng vaø</a:t>
            </a:r>
            <a:r>
              <a:rPr b="1" lang="en-US" sz="2400" spc="-1" strike="noStrike">
                <a:solidFill>
                  <a:srgbClr val="000000"/>
                </a:solidFill>
                <a:latin typeface="VNI-Mel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89"/>
                </a:solidFill>
                <a:latin typeface="VNI-Meli"/>
                <a:ea typeface="Times New Roman"/>
              </a:rPr>
              <a:t>gioù muøa muøa haï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6094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114440" y="0"/>
            <a:ext cx="609480" cy="213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8" idx="0"/>
            <a:endCxn id="248" idx="2"/>
          </p:cNvCxnSpPr>
          <p:nvPr/>
        </p:nvCxnSpPr>
        <p:spPr>
          <a:xfrm flipH="1" rot="16200000">
            <a:off x="1928880" y="3450960"/>
            <a:ext cx="6812640" cy="2160"/>
          </a:xfrm>
          <a:prstGeom prst="curvedConnector5">
            <a:avLst>
              <a:gd name="adj1" fmla="val -3355"/>
              <a:gd name="adj2" fmla="val 127200000"/>
              <a:gd name="adj3" fmla="val -3355"/>
            </a:avLst>
          </a:prstGeom>
          <a:ln w="0">
            <a:noFill/>
          </a:ln>
        </p:spPr>
      </p:cxnSp>
      <p:sp>
        <p:nvSpPr>
          <p:cNvPr id="253" name=""/>
          <p:cNvSpPr/>
          <p:nvPr/>
        </p:nvSpPr>
        <p:spPr>
          <a:xfrm flipH="1">
            <a:off x="6400440" y="838080"/>
            <a:ext cx="685800" cy="1447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48" idx="2"/>
            <a:endCxn id="248" idx="2"/>
          </p:cNvCxnSpPr>
          <p:nvPr/>
        </p:nvCxnSpPr>
        <p:spPr>
          <a:xfrm flipH="1" rot="16200000">
            <a:off x="5334120" y="6857640"/>
            <a:ext cx="2160" cy="2160"/>
          </a:xfrm>
          <a:prstGeom prst="curvedConnector5">
            <a:avLst>
              <a:gd name="adj1" fmla="val 14300000"/>
              <a:gd name="adj2" fmla="val 40000"/>
              <a:gd name="adj3" fmla="val 1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8" idx="0"/>
          </p:cNvCxnSpPr>
          <p:nvPr/>
        </p:nvCxnSpPr>
        <p:spPr>
          <a:xfrm flipV="1">
            <a:off x="3225960" y="45720"/>
            <a:ext cx="2108880" cy="2542320"/>
          </a:xfrm>
          <a:prstGeom prst="curvedConnector5">
            <a:avLst>
              <a:gd name="adj1" fmla="val 291548"/>
              <a:gd name="adj2" fmla="val 54496"/>
              <a:gd name="adj3" fmla="val 291548"/>
            </a:avLst>
          </a:prstGeom>
          <a:ln w="0">
            <a:noFill/>
          </a:ln>
        </p:spPr>
      </p:cxnSp>
      <p:grpSp>
        <p:nvGrpSpPr>
          <p:cNvPr id="256" name=""/>
          <p:cNvGrpSpPr/>
          <p:nvPr/>
        </p:nvGrpSpPr>
        <p:grpSpPr>
          <a:xfrm>
            <a:off x="2057400" y="762120"/>
            <a:ext cx="5562360" cy="5029200"/>
            <a:chOff x="2057400" y="762120"/>
            <a:chExt cx="5562360" cy="5029200"/>
          </a:xfrm>
        </p:grpSpPr>
        <p:sp>
          <p:nvSpPr>
            <p:cNvPr id="257" name=""/>
            <p:cNvSpPr/>
            <p:nvPr/>
          </p:nvSpPr>
          <p:spPr>
            <a:xfrm flipH="1">
              <a:off x="6933960" y="762120"/>
              <a:ext cx="2286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238520" y="3429000"/>
              <a:ext cx="3812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419720" y="31240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76720" y="4952880"/>
              <a:ext cx="1522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4419720" y="1219320"/>
              <a:ext cx="4572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35812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62320" y="502920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81280" y="914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24480" y="510552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657240" y="38098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752120" y="1904760"/>
            <a:ext cx="4343400" cy="3429360"/>
            <a:chOff x="1752120" y="1904760"/>
            <a:chExt cx="4343400" cy="3429360"/>
          </a:xfrm>
        </p:grpSpPr>
        <p:sp>
          <p:nvSpPr>
            <p:cNvPr id="268" name=""/>
            <p:cNvSpPr/>
            <p:nvPr/>
          </p:nvSpPr>
          <p:spPr>
            <a:xfrm flipH="1" flipV="1">
              <a:off x="5943240" y="3429000"/>
              <a:ext cx="15228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5410080" y="2743200"/>
              <a:ext cx="15264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 flipV="1">
              <a:off x="4495680" y="1904760"/>
              <a:ext cx="6098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4724280" y="2590920"/>
              <a:ext cx="4572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flipV="1">
              <a:off x="5105160" y="4800600"/>
              <a:ext cx="53316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1752120" y="4876920"/>
              <a:ext cx="2286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1981080" y="2590560"/>
              <a:ext cx="60984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B0A-D0FA-4AA0-8939-ADC40A80215D}" type="slidenum">
              <a:t>20</a:t>
            </a:fld>
          </a:p>
        </p:txBody>
      </p:sp>
    </p:spTree>
  </p:cSld>
  <p:transition spd="med">
    <p:cover dir="r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98280" y="1371600"/>
          <a:ext cx="8839080" cy="5029200"/>
        </p:xfrm>
        <a:graphic>
          <a:graphicData uri="http://schemas.openxmlformats.org/drawingml/2006/table">
            <a:tbl>
              <a:tblPr/>
              <a:tblGrid>
                <a:gridCol w="1758960"/>
                <a:gridCol w="4697280"/>
                <a:gridCol w="238284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VNI-Souvir"/>
                        </a:rPr>
                        <a:t>Muø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VNI-Souvir"/>
                        </a:rPr>
                        <a:t>Höôùng gio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VNI-Souvir"/>
                        </a:rPr>
                        <a:t>Ñaëc ñieåm cuûa gio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6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ea"/>
                          </a:solidFill>
                          <a:latin typeface="VNI-Heather"/>
                        </a:rPr>
                        <a:t>Muøa  Ñoâ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NI-Heather"/>
                        </a:rPr>
                        <a:t>Muøa  Ha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2006640" y="2666880"/>
            <a:ext cx="44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a"/>
                </a:solidFill>
                <a:latin typeface="VNI-Times"/>
              </a:rPr>
              <a:t>* Xuaát phaùt töø vuøng cao aùp Xia – bia thoåi veà vuøng aùp thaáp Xích ñaï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30920" y="26668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a"/>
                </a:solidFill>
                <a:latin typeface="VNI-Times"/>
              </a:rPr>
              <a:t>* Khoâ vaø laï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4191120"/>
            <a:ext cx="4495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NI-Times"/>
              </a:rPr>
              <a:t>* Xuaát phaùt töø vuøng cao aùp cuûa nöûa caàu Nam thoåi theo höôùng ñoâng nam, vöôït qua Xích ñaïo vaø ñoåi höôùng thaønh gioù Taây 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0" y="419112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NI-Times"/>
              </a:rPr>
              <a:t>*Noùng , aåm vaø mang laïi nhieàu möa cho khu vöï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95880" y="3581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VNI-Times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4582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VNI-Time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5943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VNI-Times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81880" y="5943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VNI-Times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1522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89"/>
                </a:solidFill>
                <a:latin typeface="VNI-Times"/>
                <a:ea typeface="Times New Roman"/>
              </a:rPr>
              <a:t>* Caùc em haõy trình baøy ñaëc ñieåm khaùc nhau cuûa gioù muøa muøa ñoâng vaø gioù muøa muøa haï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80B2-156B-4478-B064-CB8E4F3147E6}" type="slidenum">
              <a:t>21</a:t>
            </a:fld>
          </a:p>
        </p:txBody>
      </p:sp>
    </p:spTree>
  </p:cSld>
  <p:transition spd="med">
    <p:cover dir="r"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819520" y="4572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VNI-Heather"/>
              </a:rPr>
              <a:t>Daën do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17524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NI-Souvir"/>
              </a:rPr>
              <a:t>1) Hoïc baøi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NI-Souvir"/>
              </a:rPr>
              <a:t>2) Laøm baøi taäp1,2,3 SGK trang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NI-Souvir"/>
              </a:rPr>
              <a:t>3) Laøm baøi taäp thöïc haønh trong saùch thöïc haønh ñòa lyù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NI-Souvir"/>
              </a:rPr>
              <a:t>4) Ñoïc vaø tìm hieåu tröôùc baøi 15 ôû nhaø</a:t>
            </a:r>
            <a:r>
              <a:rPr b="0" lang="en-US" sz="3200" spc="-1" strike="noStrike">
                <a:solidFill>
                  <a:srgbClr val="000099"/>
                </a:solidFill>
                <a:latin typeface="VNI-Souvir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VNI-Souvi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041D-91CA-4958-B617-C304A5065861}" type="slidenum">
              <a:t>22</a:t>
            </a:fld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5840" y="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1066680" y="838080"/>
            <a:ext cx="70866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1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latin typeface="VNI-Cooper"/>
              </a:rPr>
              <a:t>Xin chaân thaønh caùm ôn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cc00"/>
              </a:solidFill>
              <a:latin typeface="VNI-Cooper"/>
              <a:ea typeface="VNI-Cooper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 rot="1555200">
            <a:off x="-41400" y="5276880"/>
            <a:ext cx="2752920" cy="10098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 rot="20271600">
            <a:off x="6451560" y="5219280"/>
            <a:ext cx="2752920" cy="10098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2727360" y="5670720"/>
            <a:ext cx="3666960" cy="136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285-D168-47B3-84D6-589E7604AA56}" type="slidenum">
              <a:t>23</a:t>
            </a:fld>
          </a:p>
        </p:txBody>
      </p:sp>
    </p:spTree>
  </p:cSld>
  <p:transition spd="med">
    <p:cover dir="r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</a:t>
            </a:r>
            <a:r>
              <a:rPr b="1" lang="en-US" sz="2800" spc="-1" strike="noStrike">
                <a:solidFill>
                  <a:srgbClr val="000000"/>
                </a:solidFill>
                <a:latin typeface="VNI-Broad"/>
                <a:ea typeface="Times New Roman"/>
              </a:rPr>
              <a:t>  </a:t>
            </a:r>
            <a:r>
              <a:rPr b="1" lang="en-US" sz="3600" spc="-1" strike="noStrike">
                <a:solidFill>
                  <a:srgbClr val="000000"/>
                </a:solidFill>
                <a:latin typeface="VNI-Broad"/>
                <a:ea typeface="Times New Roman"/>
              </a:rPr>
              <a:t>  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VNI-Broad"/>
                <a:ea typeface="Times New Roman"/>
              </a:rPr>
              <a:t>Kieåm tra baøi cuõ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76212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NI-Helve"/>
                <a:ea typeface="Times New Roman"/>
              </a:rPr>
              <a:t>2) Em haõy neâu nhöõng ngaønh saûn xuaát coâng nghieäp cuûa Nhaät Baûn noåi tieáng haøng ñaàu theá giôùi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09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NI-Time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895480"/>
            <a:ext cx="8458200" cy="3385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VNI-Times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VNI-Times"/>
                <a:ea typeface="Times New Roman"/>
              </a:rPr>
              <a:t>Nhöõng ngaønh saûn xuaát noåi tieáng ñöùng haøng ñaàu theá giôùi cuûa Nhaät Baûn laø: Saûn xuaát oâ toâ, xe maùy, maùy tính ñieän töû, kim khí ñieän maùy, ñoàng hoà, maùy aûnh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740-ACE5-449F-8B50-DD7A034A4C1E}" type="slidenum">
              <a:t>3</a:t>
            </a:fld>
          </a:p>
        </p:txBody>
      </p:sp>
    </p:spTree>
  </p:cSld>
  <p:transition spd="med">
    <p:cover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2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685800"/>
          <a:ext cx="91440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6172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" name=""/>
          <p:cNvSpPr txBox="1"/>
          <p:nvPr/>
        </p:nvSpPr>
        <p:spPr>
          <a:xfrm>
            <a:off x="838080" y="3505320"/>
            <a:ext cx="80010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6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3300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VNI-Vari"/>
              </a:rPr>
              <a:t>ÑOÂNG NAM AÙ - ÑAÁT LIEÀN VAØ HAÛI ÑAÛO</a:t>
            </a:r>
            <a:endParaRPr b="0" lang="en-US" sz="1800" spc="1" strike="noStrike">
              <a:ln cap="rnd" w="9360">
                <a:solidFill>
                  <a:srgbClr val="ff3300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VNI-Vari"/>
              <a:ea typeface="VNI-Vari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12408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VNI-Heather"/>
              </a:rPr>
              <a:t>BAØI 1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05120" y="137160"/>
            <a:ext cx="4952880" cy="394200"/>
          </a:xfrm>
          <a:custGeom>
            <a:avLst/>
            <a:gdLst>
              <a:gd name="textAreaLeft" fmla="*/ 0 w 4952880"/>
              <a:gd name="textAreaRight" fmla="*/ 4952880 w 4952880"/>
              <a:gd name="textAreaTop" fmla="*/ 12960 h 394200"/>
              <a:gd name="textAreaBottom" fmla="*/ 381240 h 394200"/>
            </a:gdLst>
            <a:ahLst/>
            <a:rect l="textAreaLeft" t="textAreaTop" r="textAreaRight" b="textAreaBottom"/>
            <a:pathLst>
              <a:path w="21600" h="21600">
                <a:moveTo>
                  <a:pt x="0" y="356"/>
                </a:moveTo>
                <a:cubicBezTo>
                  <a:pt x="7200" y="-905"/>
                  <a:pt x="14400" y="1617"/>
                  <a:pt x="21600" y="356"/>
                </a:cubicBezTo>
                <a:lnTo>
                  <a:pt x="21600" y="21244"/>
                </a:lnTo>
                <a:cubicBezTo>
                  <a:pt x="14400" y="22505"/>
                  <a:pt x="7200" y="19983"/>
                  <a:pt x="0" y="2124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G</a:t>
            </a:r>
            <a:r>
              <a:rPr b="1" lang="en-US" sz="1800" spc="-1" strike="noStrike">
                <a:solidFill>
                  <a:srgbClr val="ff0000"/>
                </a:solidFill>
                <a:latin typeface="VNI-Helve"/>
                <a:ea typeface="Times New Roman"/>
              </a:rPr>
              <a:t>IAÙO AÙN ÑIEÄN TÖÛ – MOÂN ÑÒA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BC1-975B-4111-98B8-93B2CDAE071D}" type="slidenum">
              <a:t>4</a:t>
            </a:fld>
          </a:p>
        </p:txBody>
      </p:sp>
    </p:spTree>
  </p:cSld>
  <p:transition spd="med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800"/>
                            </p:stCondLst>
                            <p:childTnLst>
                              <p:par>
                                <p:cTn id="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8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72280" cy="6324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237440" cy="6470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5673600" y="304920"/>
            <a:ext cx="3276720" cy="1557000"/>
          </a:xfrm>
          <a:prstGeom prst="rect">
            <a:avLst/>
          </a:prstGeom>
          <a:solidFill>
            <a:srgbClr val="cc99ff">
              <a:alpha val="52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Souvir"/>
              </a:rPr>
              <a:t>Caùc em haõy xaùc ñònh vò trí laõnh thoå cuûa khu vöïc Ñoâng Nam AÙ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2590920"/>
            <a:ext cx="3581280" cy="1600200"/>
          </a:xfrm>
          <a:prstGeom prst="wedgeRectCallout">
            <a:avLst>
              <a:gd name="adj1" fmla="val -109972"/>
              <a:gd name="adj2" fmla="val 34324"/>
            </a:avLst>
          </a:prstGeom>
          <a:solidFill>
            <a:srgbClr val="00cc99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Meli"/>
              </a:rPr>
              <a:t>Khu vöïc ÑNAÙ goàm phaàn ñaát lieàn laø baùn ñaûo Trung AÁn vaø quaàn ñaûo Maõ L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4724280"/>
            <a:ext cx="3429000" cy="1557000"/>
          </a:xfrm>
          <a:prstGeom prst="rect">
            <a:avLst/>
          </a:prstGeom>
          <a:solidFill>
            <a:srgbClr val="cc99ff">
              <a:alpha val="55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Souvir"/>
              </a:rPr>
              <a:t>Caùc em haõy ñoïc teân 5 ñaûo lôùn nhaát cuûa quaàn ñaûo Maõ L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3352680"/>
            <a:ext cx="3276720" cy="2133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1447920"/>
            <a:ext cx="1523880" cy="459720"/>
          </a:xfrm>
          <a:prstGeom prst="rect">
            <a:avLst/>
          </a:prstGeom>
          <a:gradFill rotWithShape="0">
            <a:gsLst>
              <a:gs pos="0">
                <a:srgbClr val="ff0000">
                  <a:alpha val="24313"/>
                </a:srgbClr>
              </a:gs>
              <a:gs pos="50000">
                <a:srgbClr val="ffffff"/>
              </a:gs>
              <a:gs pos="100000">
                <a:srgbClr val="ff0000">
                  <a:alpha val="24313"/>
                </a:srgbClr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NI-Souvir"/>
              </a:rPr>
              <a:t>Lu-Xoâ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495680"/>
            <a:ext cx="2133720" cy="459720"/>
          </a:xfrm>
          <a:prstGeom prst="rect">
            <a:avLst/>
          </a:prstGeom>
          <a:gradFill rotWithShape="0">
            <a:gsLst>
              <a:gs pos="0">
                <a:srgbClr val="ff0000">
                  <a:alpha val="30196"/>
                </a:srgbClr>
              </a:gs>
              <a:gs pos="50000">
                <a:srgbClr val="ffffff"/>
              </a:gs>
              <a:gs pos="100000">
                <a:srgbClr val="ff0000">
                  <a:alpha val="30196"/>
                </a:srgbClr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NI-Souvir"/>
              </a:rPr>
              <a:t>Xu-ma-tô-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3886200"/>
            <a:ext cx="2514600" cy="459720"/>
          </a:xfrm>
          <a:prstGeom prst="rect">
            <a:avLst/>
          </a:prstGeom>
          <a:gradFill rotWithShape="0">
            <a:gsLst>
              <a:gs pos="0">
                <a:srgbClr val="ff0000">
                  <a:alpha val="24313"/>
                </a:srgbClr>
              </a:gs>
              <a:gs pos="50000">
                <a:srgbClr val="ffffff"/>
              </a:gs>
              <a:gs pos="100000">
                <a:srgbClr val="ff0000">
                  <a:alpha val="24313"/>
                </a:srgbClr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NI-Souvir"/>
              </a:rPr>
              <a:t>Ca-li-man-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4495680"/>
            <a:ext cx="1904760" cy="825480"/>
          </a:xfrm>
          <a:prstGeom prst="rect">
            <a:avLst/>
          </a:prstGeom>
          <a:gradFill rotWithShape="0">
            <a:gsLst>
              <a:gs pos="0">
                <a:srgbClr val="ff0000">
                  <a:alpha val="31372"/>
                </a:srgbClr>
              </a:gs>
              <a:gs pos="50000">
                <a:srgbClr val="ffffff"/>
              </a:gs>
              <a:gs pos="100000">
                <a:srgbClr val="ff0000">
                  <a:alpha val="31372"/>
                </a:srgbClr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NI-Souvir"/>
              </a:rPr>
              <a:t>Xu-la-veâ-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5707080"/>
            <a:ext cx="1143000" cy="459720"/>
          </a:xfrm>
          <a:prstGeom prst="rect">
            <a:avLst/>
          </a:prstGeom>
          <a:gradFill rotWithShape="0">
            <a:gsLst>
              <a:gs pos="0">
                <a:srgbClr val="ff0000">
                  <a:alpha val="23137"/>
                </a:srgbClr>
              </a:gs>
              <a:gs pos="50000">
                <a:srgbClr val="ffffff"/>
              </a:gs>
              <a:gs pos="100000">
                <a:srgbClr val="ff0000">
                  <a:alpha val="23137"/>
                </a:srgbClr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NI-Souvir"/>
              </a:rPr>
              <a:t>Ti-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20574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NI-Bodon-Poster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43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NI-Bodon-Poster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NI-Bodon-Poster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5562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NI-Bodon-Poster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4800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NI-Bodon-Poster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D8E-8D48-4B87-9A01-F0BC2E6EF772}" type="slidenum">
              <a:t>5</a:t>
            </a:fld>
          </a:p>
        </p:txBody>
      </p:sp>
    </p:spTree>
  </p:cSld>
  <p:transition spd="med">
    <p:cover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7" presetSubtype="10" repeatCount="3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" nodeType="after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50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8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0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2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04920"/>
            <a:ext cx="91440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VNI-Times"/>
                <a:ea typeface="Times New Roman"/>
              </a:rPr>
              <a:t>Baøi 14</a:t>
            </a:r>
            <a:r>
              <a:rPr b="1" i="1" lang="en-US" sz="2800" spc="-1" strike="noStrike">
                <a:solidFill>
                  <a:srgbClr val="009900"/>
                </a:solidFill>
                <a:latin typeface="VNI-Time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VNI-Times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NI-Times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VNI-Souvir"/>
                <a:ea typeface="Times New Roman"/>
              </a:rPr>
              <a:t>ÑOÂNG NAM AÙ - ÑAÁT LIEÀN VAØ HAÛI ÑAÛ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981080"/>
            <a:ext cx="838224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NI-Heather"/>
                <a:ea typeface="PMingLiU"/>
              </a:rPr>
              <a:t>I) VÒ TRÍ VAØ GIÔÙI HAÏN CUÛA KHU VÖÏC ÑOÂNG NAM AÙ: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NI-Heather"/>
                <a:ea typeface="PMingLi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 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Khu </a:t>
            </a:r>
            <a:r>
              <a:rPr b="1" lang="en-US" sz="3200" spc="-1" strike="noStrike">
                <a:solidFill>
                  <a:srgbClr val="000000"/>
                </a:solidFill>
                <a:latin typeface="VNI-Times"/>
                <a:ea typeface="PMingLiU"/>
              </a:rPr>
              <a:t>vöïc Ñoâng Nam AÙ goàm phaàn ñaát lieàn laø baùn ñaûo Trung AÁn vaø phaàn haûi ñaûo laø quaàn ñaûo Maõ Lai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AC0A-FCFC-42CA-AE4F-FE4C6EA13566}" type="slidenum">
              <a:t>6</a:t>
            </a:fld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57200" y="304920"/>
          <a:ext cx="8305920" cy="59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30592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80880" y="60958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BAÛN ÑOÀ CAÙC NÖÔÙC ÑOÂNG NAM A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5867280"/>
            <a:ext cx="4572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01680" y="409680"/>
            <a:ext cx="30492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9920" y="1400040"/>
            <a:ext cx="3808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1880" y="5105520"/>
            <a:ext cx="22860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7000" y="0"/>
            <a:ext cx="4795920" cy="1066680"/>
          </a:xfrm>
          <a:prstGeom prst="leftArrowCallout">
            <a:avLst>
              <a:gd name="adj1" fmla="val 18187"/>
              <a:gd name="adj2" fmla="val 25000"/>
              <a:gd name="adj3" fmla="val 149870"/>
              <a:gd name="adj4" fmla="val 66673"/>
            </a:avLst>
          </a:prstGeom>
          <a:solidFill>
            <a:srgbClr val="ffff66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Cöïc Baéc   : Thuoäc Mi-an-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(Bieân giôùi vôùi Trung Quoá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taïi vó tuyeán 28,5</a:t>
            </a:r>
            <a:r>
              <a:rPr b="1" lang="en-US" sz="1800" spc="-1" strike="noStrike" baseline="30000">
                <a:solidFill>
                  <a:srgbClr val="3333cc"/>
                </a:solidFill>
                <a:latin typeface="VNI-Times"/>
                <a:ea typeface="Times New Roman"/>
              </a:rPr>
              <a:t>o</a:t>
            </a: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20947200">
            <a:off x="5944680" y="2214720"/>
            <a:ext cx="3202200" cy="1539720"/>
          </a:xfrm>
          <a:prstGeom prst="cloudCallout">
            <a:avLst>
              <a:gd name="adj1" fmla="val 15018"/>
              <a:gd name="adj2" fmla="val 105870"/>
            </a:avLst>
          </a:prstGeom>
          <a:solidFill>
            <a:srgbClr val="ffff66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Cöïc Ñoâng  : Bieân giôùi vôùi Niu Ghineâ treân kinh tuyeán 140</a:t>
            </a:r>
            <a:r>
              <a:rPr b="1" lang="en-US" sz="1800" spc="-1" strike="noStrike" baseline="30000">
                <a:solidFill>
                  <a:srgbClr val="3333cc"/>
                </a:solidFill>
                <a:latin typeface="VNI-Times"/>
                <a:ea typeface="Times New Roman"/>
              </a:rPr>
              <a:t>o</a:t>
            </a: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4070600">
            <a:off x="478080" y="1513440"/>
            <a:ext cx="1524240" cy="3040200"/>
          </a:xfrm>
          <a:prstGeom prst="flowChartMagneticTape">
            <a:avLst/>
          </a:prstGeom>
          <a:solidFill>
            <a:srgbClr val="ffff66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Cöïc Taây : Thuoäc Mi-an-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(Bieân giôùi vôùi Baêng-La-ñeù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kinh tuyeán 92</a:t>
            </a:r>
            <a:r>
              <a:rPr b="1" lang="en-US" sz="1800" spc="-1" strike="noStrike" baseline="30000">
                <a:solidFill>
                  <a:srgbClr val="3333cc"/>
                </a:solidFill>
                <a:latin typeface="VNI-Times"/>
                <a:ea typeface="Times New Roman"/>
              </a:rPr>
              <a:t>o</a:t>
            </a: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1454000">
            <a:off x="68040" y="4944600"/>
            <a:ext cx="5189400" cy="838440"/>
          </a:xfrm>
          <a:prstGeom prst="leftArrowCallout">
            <a:avLst>
              <a:gd name="adj1" fmla="val 9575"/>
              <a:gd name="adj2" fmla="val 50000"/>
              <a:gd name="adj3" fmla="val 204249"/>
              <a:gd name="adj4" fmla="val 66673"/>
            </a:avLst>
          </a:prstGeom>
          <a:solidFill>
            <a:srgbClr val="ffff66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Cöïc Nam   : Thuoäc In-ñoâ-neâ-xi-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vó tuyeán 10,5</a:t>
            </a:r>
            <a:r>
              <a:rPr b="1" lang="en-US" sz="1800" spc="-1" strike="noStrike" baseline="30000">
                <a:solidFill>
                  <a:srgbClr val="3333cc"/>
                </a:solidFill>
                <a:latin typeface="VNI-Times"/>
                <a:ea typeface="Times New Roman"/>
              </a:rPr>
              <a:t>o</a:t>
            </a: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0D49-8DE3-478F-8E43-5198B1EF2169}" type="slidenum">
              <a:t>7</a:t>
            </a:fld>
          </a:p>
        </p:txBody>
      </p:sp>
    </p:spTree>
  </p:cSld>
  <p:transition spd="med">
    <p:cover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7" presetSubtype="10" repeatCount="indefinite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7" presetSubtype="10" repeatCount="indefinite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7" presetSubtype="10" repeatCount="indefinite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7" presetSubtype="10" repeatCount="indefinite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0769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380880"/>
            <a:ext cx="2895480" cy="3048120"/>
          </a:xfrm>
          <a:prstGeom prst="wedgeEllipseCallout">
            <a:avLst>
              <a:gd name="adj1" fmla="val 127796"/>
              <a:gd name="adj2" fmla="val 97134"/>
            </a:avLst>
          </a:prstGeom>
          <a:solidFill>
            <a:srgbClr val="00cc99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Em haõy ñoïc teân 2 ñaïi döông lôùn bao quanh khu vöïc Ñoâng Nam A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NI-Heather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6401880" y="1979640"/>
            <a:ext cx="3505320" cy="459720"/>
          </a:xfrm>
          <a:prstGeom prst="rect">
            <a:avLst/>
          </a:prstGeom>
          <a:solidFill>
            <a:srgbClr val="ffff99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Heather"/>
                <a:ea typeface="Times New Roman"/>
              </a:rPr>
              <a:t>Thaùi Bình Dö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NI-Heather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49400">
            <a:off x="3354120" y="4953240"/>
            <a:ext cx="2971800" cy="459720"/>
          </a:xfrm>
          <a:prstGeom prst="rect">
            <a:avLst/>
          </a:prstGeom>
          <a:solidFill>
            <a:srgbClr val="ffff99">
              <a:alpha val="52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Heather"/>
                <a:ea typeface="Times New Roman"/>
              </a:rPr>
              <a:t>AÁn Ñoä Dö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267080"/>
            <a:ext cx="457200" cy="223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19112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NI-Times"/>
                <a:ea typeface="Times New Roman"/>
              </a:rPr>
              <a:t>Ñoâng Nam A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457200" y="304920"/>
            <a:ext cx="3581280" cy="1981080"/>
          </a:xfrm>
          <a:prstGeom prst="wedgeEllipseCallout">
            <a:avLst>
              <a:gd name="adj1" fmla="val 148402"/>
              <a:gd name="adj2" fmla="val 185013"/>
            </a:avLst>
          </a:prstGeom>
          <a:solidFill>
            <a:srgbClr val="0066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NI-Heather"/>
                <a:ea typeface="Times New Roman"/>
              </a:rPr>
              <a:t>Ñoâng Nam AÙ naèm giöõa 2 chaâu luïc naø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257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NI-Heather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54100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NI-Heather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3657600"/>
            <a:ext cx="1295280" cy="703800"/>
          </a:xfrm>
          <a:prstGeom prst="rect">
            <a:avLst/>
          </a:prstGeom>
          <a:solidFill>
            <a:srgbClr val="ffff99">
              <a:alpha val="53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NI-Heather"/>
                <a:ea typeface="Times New Roman"/>
              </a:rPr>
              <a:t>Chaâu A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5791320"/>
            <a:ext cx="2743200" cy="39888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NI-Heather"/>
                <a:ea typeface="Times New Roman"/>
              </a:rPr>
              <a:t>Chaâu Ñaïi Döô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1981080"/>
          </a:xfrm>
          <a:prstGeom prst="wedgeEllipseCallout">
            <a:avLst>
              <a:gd name="adj1" fmla="val 43333"/>
              <a:gd name="adj2" fmla="val 195592"/>
            </a:avLst>
          </a:prstGeom>
          <a:solidFill>
            <a:srgbClr val="ff66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NI-Heather"/>
                <a:ea typeface="Times New Roman"/>
              </a:rPr>
              <a:t>Chieác caàu noái giöõa Thaùi Bình Döông vaø AÁn Ñoä Döông ; giöõa Chaâu AÙ vaø Chaâu Ñaïi Döô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818-D334-495A-AA9A-3F4091A55C7C}" type="slidenum">
              <a:t>8</a:t>
            </a:fld>
          </a:p>
        </p:txBody>
      </p:sp>
    </p:spTree>
  </p:cSld>
  <p:transition spd="med">
    <p:cover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04920"/>
            <a:ext cx="91440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9900"/>
                </a:solidFill>
                <a:uFillTx/>
                <a:latin typeface="VNI-Times"/>
                <a:ea typeface="Times New Roman"/>
              </a:rPr>
              <a:t>Baøi 14</a:t>
            </a:r>
            <a:r>
              <a:rPr b="1" i="1" lang="en-US" sz="2400" spc="-1" strike="noStrike">
                <a:solidFill>
                  <a:srgbClr val="009900"/>
                </a:solidFill>
                <a:latin typeface="VNI-Time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VNI-Times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NI-Times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VNI-Souvir"/>
                <a:ea typeface="Times New Roman"/>
              </a:rPr>
              <a:t>ÑOÂNG NAM AÙ - ÑAÁT LIEÀN VAØ HAÛI ÑAÛ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905120"/>
            <a:ext cx="8458200" cy="25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NI-Heather"/>
                <a:ea typeface="PMingLiU"/>
              </a:rPr>
              <a:t>I) VÒ TRÍ VAØ GIÔÙI HAÏN CUÛA KHU VÖÏC ÑOÂNG NAM AÙ: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NI-Heather"/>
                <a:ea typeface="PMingLi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VNI-Helve"/>
                <a:ea typeface="PMingLiU"/>
              </a:rPr>
              <a:t>Khu vöïc Ñoâng Nam AÙ goàm phaàn ñaát lieàn laø baùn ñaûo Trung AÁn vaø phaàn haûi ñaûo laø quaàn ñaûo Maõ Lai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46483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NI-Time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NI-Helve"/>
                <a:ea typeface="Times New Roman"/>
              </a:rPr>
              <a:t>Laø chieác caàu noái giöõa Thaùi Bình Döông vaø AÁn Ñoä Döông, giöõa chaâu AÙ vaø chaâu Ñaïi Döô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037-A5D3-4C71-9D5D-D25B69CCC313}" type="slidenum">
              <a:t>9</a:t>
            </a:fld>
          </a:p>
        </p:txBody>
      </p:sp>
    </p:spTree>
  </p:cSld>
  <p:transition spd="med">
    <p:cover dir="r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5:19:44Z</dcterms:created>
  <dc:creator>TNEC</dc:creator>
  <dc:description/>
  <dc:language>en-US</dc:language>
  <cp:lastModifiedBy>None</cp:lastModifiedBy>
  <dcterms:modified xsi:type="dcterms:W3CDTF">2007-10-22T08:19:05Z</dcterms:modified>
  <cp:revision>123</cp:revision>
  <dc:subject/>
  <dc:title>PowerPoint Presentation</dc:title>
</cp:coreProperties>
</file>