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022-C24A-4A22-9608-3944F4E5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D3F-E282-4A8D-A7BA-E126DE73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E6C-D623-4B99-B95E-80EC20FF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408-BE0C-409F-AB66-13877F94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825-0780-40BE-BD24-926E6E7D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C58-9F89-451D-9CE3-2218B5D9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F3D-231A-4304-A2EE-195B0572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3D3A-E261-4E4C-8990-2DF0C1AC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565-AE5D-4984-AA2F-F765F99B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5A0-FAF2-49B9-839B-C83FBA96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7589-C5A8-4094-8808-1CBF6F28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3B4B-2F40-4086-B9A2-7D69364E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AFDB-F38D-4CDC-9BEF-0EB0B7850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2600" y="6504120"/>
            <a:ext cx="1177920" cy="368280"/>
            <a:chOff x="642600" y="6504120"/>
            <a:chExt cx="1177920" cy="368280"/>
          </a:xfrm>
        </p:grpSpPr>
        <p:sp>
          <p:nvSpPr>
            <p:cNvPr id="42" name=""/>
            <p:cNvSpPr/>
            <p:nvPr/>
          </p:nvSpPr>
          <p:spPr>
            <a:xfrm flipH="1">
              <a:off x="642600" y="6700680"/>
              <a:ext cx="6858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58920" y="650412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Ex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" name="ShockwaveFlash1"/>
          <p:cNvGraphicFramePr/>
          <p:nvPr/>
        </p:nvGraphicFramePr>
        <p:xfrm>
          <a:off x="0" y="0"/>
          <a:ext cx="91440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55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04:12:36Z</dcterms:created>
  <dc:creator>Dr. Hendro Heryanto</dc:creator>
  <dc:description/>
  <dc:language>en-US</dc:language>
  <cp:lastModifiedBy>Dr. Hendro Heryanto</cp:lastModifiedBy>
  <dcterms:modified xsi:type="dcterms:W3CDTF">2002-09-09T04:13:49Z</dcterms:modified>
  <cp:revision>1</cp:revision>
  <dc:subject/>
  <dc:title>Slide 1</dc:title>
</cp:coreProperties>
</file>