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C7B1-F5EC-4B48-BFC8-5F836557F50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C486-A0DB-443B-B6DB-A499B447B1E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99CC-E16A-4D58-8003-4293DB2B7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01AA-FE18-45E8-8645-8F6E8D9D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1119-058B-45E4-8F7C-FC649DB3C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0135-6F88-4056-AE73-ED5125C56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06CB-666C-4413-ABAD-C91888019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20FB-732A-478A-AA89-A5E06616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2F2F-520D-49F3-855D-EA1DD85C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904A-4B84-48F6-879D-91FF5834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2456-4E35-49B9-A4F4-C7D066D3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5F03-59B5-40AA-8C18-67A19945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6BCE-6ADC-41A9-8016-B8E7253C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EFB9-0B83-4809-9FA9-E720F3CE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5DBB-083C-44DE-AAAD-4500132E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07D7-D45C-435B-B397-D181E812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297B-0C4B-4EB1-9FEA-4A3A50F0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73EF-5D14-4B38-A43D-EB5089C20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B436-DDCD-4B43-8D1E-1AF3446D8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BCBA-69D8-496C-BEBB-B4BADF3A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E9DC-27FF-4B11-8B54-E30A44A1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67AE-13DD-4F5E-A78D-7634BD21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9C2D-47F9-45DF-A82C-DA4300A0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BC61-C2F0-419F-B15B-B247EFB6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B7CA-629A-4587-80F1-A5C91D0F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A63E-A7CA-4091-BDC8-0722B86A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A915-2FEB-4A3E-87BB-55A7617539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440" cy="474840"/>
              <a:chOff x="417600" y="2968560"/>
              <a:chExt cx="7394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8400" y="2968560"/>
                <a:ext cx="36864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F99C-2C68-4B92-84CC-3BE44F2DEB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2"/>
          <p:cNvSpPr/>
          <p:nvPr/>
        </p:nvSpPr>
        <p:spPr>
          <a:xfrm>
            <a:off x="1295280" y="45720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PENGETAHUAN PRODUK</a:t>
            </a:r>
            <a:r>
              <a:rPr b="1" lang="id-ID" sz="3600" spc="-1" strike="noStrike">
                <a:solidFill>
                  <a:srgbClr val="ff0000"/>
                </a:solidFill>
                <a:latin typeface="Tahoma"/>
              </a:rPr>
              <a:t> SYARIA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32"/>
          <p:cNvSpPr/>
          <p:nvPr/>
        </p:nvSpPr>
        <p:spPr>
          <a:xfrm>
            <a:off x="1295280" y="281952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000" spc="-1" strike="noStrike">
                <a:solidFill>
                  <a:srgbClr val="ff0000"/>
                </a:solidFill>
                <a:latin typeface="Tahoma"/>
              </a:rPr>
              <a:t>ALI HAMDAN, S.Si, MEI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simpu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stem bagi hasil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idak dapat memastikan keuntungan di muk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karena harus memperhitungkan hasil investa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ara finansial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idak ada kepasti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istem bagi hasil lebih besar/kecil dari bunga dan sebaliknya,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ergantung pada besar indeks hasil investas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ari LKS yb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stem bunga akan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ebih ringk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api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idak ad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an potensi memberatk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utoShape 2"/>
          <p:cNvSpPr/>
          <p:nvPr/>
        </p:nvSpPr>
        <p:spPr>
          <a:xfrm>
            <a:off x="5418000" y="304920"/>
            <a:ext cx="3448080" cy="1295280"/>
          </a:xfrm>
          <a:prstGeom prst="cloudCallout">
            <a:avLst>
              <a:gd name="adj1" fmla="val 1486"/>
              <a:gd name="adj2" fmla="val 108212"/>
            </a:avLst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10120" y="457200"/>
            <a:ext cx="26733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nyaluran dan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92120" y="2286000"/>
          <a:ext cx="6137280" cy="3849840"/>
        </p:xfrm>
        <a:graphic>
          <a:graphicData uri="http://schemas.openxmlformats.org/drawingml/2006/table">
            <a:tbl>
              <a:tblPr/>
              <a:tblGrid>
                <a:gridCol w="1871640"/>
                <a:gridCol w="426564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nsip Jual Be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rabaha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stishna, Istishna paral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lam, Salam Paral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nsip Bagi has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jro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mbiayaan Mudharaba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mbiayaan Musyaraka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jarah, Ijarah Muntahia Bitamli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4" name="Picture 15" descr="A007"/>
          <p:cNvPicPr/>
          <p:nvPr/>
        </p:nvPicPr>
        <p:blipFill>
          <a:blip r:embed="rId1"/>
          <a:stretch/>
        </p:blipFill>
        <p:spPr>
          <a:xfrm>
            <a:off x="6705720" y="2438280"/>
            <a:ext cx="2438280" cy="2949840"/>
          </a:xfrm>
          <a:prstGeom prst="rect">
            <a:avLst/>
          </a:prstGeom>
          <a:ln w="0">
            <a:noFill/>
          </a:ln>
        </p:spPr>
      </p:pic>
      <p:sp>
        <p:nvSpPr>
          <p:cNvPr id="215" name="Line 32"/>
          <p:cNvSpPr/>
          <p:nvPr/>
        </p:nvSpPr>
        <p:spPr>
          <a:xfrm>
            <a:off x="533520" y="480060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rinsip Jual bel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762120" y="1905120"/>
            <a:ext cx="784836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MURABAHA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erupakan akad jual beli antara LKS dengan Anggota, LKS membeli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barang dan menjual kepada Anggota sebesar harga pokok ditambah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ngan keuntungan yang disepakati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plikasi, diterapkan untuk pembiayaan investas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ALA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kad jual beli barang pesanan (muslam fiih) antara pembeli (muslam)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ngan penjual (muslam ilaih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pesifikasi (jenis, ukuran, jumlah, mutu) dan harga barang disepakati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awal akad dan pembayaran dilakukan dimuka secara penu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pabila LKS bertindak sebagai penjual, kemudian memesan kepada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ihak lain untuk menyediakan barang disebut salam paralel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plikasi, diterapkan untuk produk agribisni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rinsip Jual bel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143000" y="1752480"/>
            <a:ext cx="77724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STISHN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kad jual beli (mashnu’) antara pemesan (mustashni’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ngan penerima pesanan (shani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pesifikasi (jenis, macam, ukuran, mutu, jumlah) da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arga barang pesanan disepakati diawal akad dengan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mbayaran dilakukan sesuai kesepakatan ( dimuka,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icilan dan dibelakang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pabila LKS bertindak sebagai shani’ kemudia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nunjuk pihak lain untuk membuat barang disebu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stishna paral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plikasi di LKS, manufaktur, industri kecil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nengah dan konstruks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1025280"/>
            <a:ext cx="779292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Skema Murabahah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762120" y="304920"/>
            <a:ext cx="7848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Oval 4"/>
          <p:cNvSpPr/>
          <p:nvPr/>
        </p:nvSpPr>
        <p:spPr>
          <a:xfrm>
            <a:off x="990720" y="2971800"/>
            <a:ext cx="2514600" cy="8380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L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Oval 5"/>
          <p:cNvSpPr/>
          <p:nvPr/>
        </p:nvSpPr>
        <p:spPr>
          <a:xfrm>
            <a:off x="6172200" y="2971800"/>
            <a:ext cx="2666880" cy="8380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Anggo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24" name="AutoShape 6"/>
          <p:cNvCxnSpPr>
            <a:stCxn id="225" idx="6"/>
          </p:cNvCxnSpPr>
          <p:nvPr/>
        </p:nvCxnSpPr>
        <p:spPr>
          <a:xfrm flipV="1">
            <a:off x="6095880" y="3961800"/>
            <a:ext cx="1448640" cy="1105560"/>
          </a:xfrm>
          <a:prstGeom prst="bentConnector3">
            <a:avLst>
              <a:gd name="adj1" fmla="val 102510"/>
            </a:avLst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AutoShape 7"/>
          <p:cNvCxnSpPr>
            <a:stCxn id="225" idx="2"/>
          </p:cNvCxnSpPr>
          <p:nvPr/>
        </p:nvCxnSpPr>
        <p:spPr>
          <a:xfrm rot="10800000">
            <a:off x="2056680" y="3885480"/>
            <a:ext cx="1372320" cy="118188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8"/>
          <p:cNvCxnSpPr/>
          <p:nvPr/>
        </p:nvCxnSpPr>
        <p:spPr>
          <a:xfrm flipH="1" flipV="1" rot="5400000">
            <a:off x="1980720" y="2057040"/>
            <a:ext cx="1029600" cy="876960"/>
          </a:xfrm>
          <a:prstGeom prst="bentConnector2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28" name="Rectangle 9"/>
          <p:cNvSpPr/>
          <p:nvPr/>
        </p:nvSpPr>
        <p:spPr>
          <a:xfrm>
            <a:off x="3124080" y="1752480"/>
            <a:ext cx="3276720" cy="3812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1. Negosiasi &amp; Persyarat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29" name="AutoShape 10"/>
          <p:cNvCxnSpPr>
            <a:stCxn id="223" idx="0"/>
            <a:endCxn id="228" idx="3"/>
          </p:cNvCxnSpPr>
          <p:nvPr/>
        </p:nvCxnSpPr>
        <p:spPr>
          <a:xfrm flipV="1" rot="16200000">
            <a:off x="6438600" y="1904400"/>
            <a:ext cx="1028880" cy="1105560"/>
          </a:xfrm>
          <a:prstGeom prst="bentConnector2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30" name="AutoShape 11"/>
          <p:cNvSpPr/>
          <p:nvPr/>
        </p:nvSpPr>
        <p:spPr>
          <a:xfrm flipH="1">
            <a:off x="914400" y="4648320"/>
            <a:ext cx="129528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115" y="20349"/>
                </a:moveTo>
                <a:lnTo>
                  <a:pt x="-1271" y="5254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Be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AutoShape 12"/>
          <p:cNvSpPr/>
          <p:nvPr/>
        </p:nvSpPr>
        <p:spPr>
          <a:xfrm flipH="1">
            <a:off x="6019920" y="4648320"/>
            <a:ext cx="137160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7447" y="29561"/>
                </a:moveTo>
                <a:lnTo>
                  <a:pt x="7450" y="2422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Kiri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AutoShape 13"/>
          <p:cNvSpPr/>
          <p:nvPr/>
        </p:nvSpPr>
        <p:spPr>
          <a:xfrm flipH="1">
            <a:off x="3733200" y="2612880"/>
            <a:ext cx="236196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712" y="5510"/>
                </a:moveTo>
                <a:lnTo>
                  <a:pt x="-697" y="2956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Akad Jual Be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AutoShape 14"/>
          <p:cNvSpPr/>
          <p:nvPr/>
        </p:nvSpPr>
        <p:spPr>
          <a:xfrm flipH="1">
            <a:off x="4114800" y="3656160"/>
            <a:ext cx="144792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4913" y="14180"/>
                </a:moveTo>
                <a:lnTo>
                  <a:pt x="22736" y="2956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Bay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AutoShape 15"/>
          <p:cNvSpPr/>
          <p:nvPr/>
        </p:nvSpPr>
        <p:spPr>
          <a:xfrm flipH="1">
            <a:off x="7467480" y="3733920"/>
            <a:ext cx="1524240" cy="82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17504" y="43445"/>
                </a:moveTo>
                <a:lnTo>
                  <a:pt x="17505" y="564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Terim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Oval 16"/>
          <p:cNvSpPr/>
          <p:nvPr/>
        </p:nvSpPr>
        <p:spPr>
          <a:xfrm>
            <a:off x="3429000" y="4648320"/>
            <a:ext cx="2666880" cy="8380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PENJU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1c1c1c"/>
                </a:solidFill>
                <a:latin typeface="Times New Roman"/>
              </a:rPr>
              <a:t>SUPPLI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3657600" y="3276720"/>
            <a:ext cx="236232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Line 18"/>
          <p:cNvSpPr/>
          <p:nvPr/>
        </p:nvSpPr>
        <p:spPr>
          <a:xfrm>
            <a:off x="3657600" y="3581280"/>
            <a:ext cx="236232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1177920"/>
            <a:ext cx="779292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Skema Istishna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762120" y="304920"/>
            <a:ext cx="7848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Oval 4"/>
          <p:cNvSpPr/>
          <p:nvPr/>
        </p:nvSpPr>
        <p:spPr>
          <a:xfrm>
            <a:off x="990720" y="1924200"/>
            <a:ext cx="2514600" cy="8380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PRODUS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(PEMBUAT</a:t>
            </a:r>
            <a:r>
              <a:rPr b="1" i="1" lang="en-US" sz="2000" spc="-1" strike="noStrike">
                <a:solidFill>
                  <a:srgbClr val="1c1c1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AutoShape 6"/>
          <p:cNvSpPr/>
          <p:nvPr/>
        </p:nvSpPr>
        <p:spPr>
          <a:xfrm flipH="1">
            <a:off x="1370880" y="3774960"/>
            <a:ext cx="160020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085" y="4090"/>
                </a:moveTo>
                <a:lnTo>
                  <a:pt x="-1029" y="2956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agi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8"/>
          <p:cNvSpPr/>
          <p:nvPr/>
        </p:nvSpPr>
        <p:spPr>
          <a:xfrm flipH="1">
            <a:off x="5410080" y="2593800"/>
            <a:ext cx="2362320" cy="82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711" y="5442"/>
                </a:moveTo>
                <a:lnTo>
                  <a:pt x="-697" y="2956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Kirim BarangPesan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AutoShape 9"/>
          <p:cNvSpPr/>
          <p:nvPr/>
        </p:nvSpPr>
        <p:spPr>
          <a:xfrm flipH="1">
            <a:off x="3048120" y="3457440"/>
            <a:ext cx="1828800" cy="82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3998" y="3870"/>
                </a:moveTo>
                <a:lnTo>
                  <a:pt x="22500" y="2956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Negosia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s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Oval 11"/>
          <p:cNvSpPr/>
          <p:nvPr/>
        </p:nvSpPr>
        <p:spPr>
          <a:xfrm>
            <a:off x="3429000" y="4648320"/>
            <a:ext cx="2666880" cy="8380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L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Line 15"/>
          <p:cNvSpPr/>
          <p:nvPr/>
        </p:nvSpPr>
        <p:spPr>
          <a:xfrm flipH="1" flipV="1">
            <a:off x="2438280" y="2971440"/>
            <a:ext cx="1067040" cy="1600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Line 16"/>
          <p:cNvSpPr/>
          <p:nvPr/>
        </p:nvSpPr>
        <p:spPr>
          <a:xfrm flipH="1" flipV="1">
            <a:off x="2133360" y="2971440"/>
            <a:ext cx="1066680" cy="1600200"/>
          </a:xfrm>
          <a:prstGeom prst="line">
            <a:avLst/>
          </a:prstGeom>
          <a:ln cap="sq"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Line 19"/>
          <p:cNvSpPr/>
          <p:nvPr/>
        </p:nvSpPr>
        <p:spPr>
          <a:xfrm>
            <a:off x="3657600" y="23623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Line 20"/>
          <p:cNvSpPr/>
          <p:nvPr/>
        </p:nvSpPr>
        <p:spPr>
          <a:xfrm>
            <a:off x="5562720" y="236232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1177920"/>
            <a:ext cx="779292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Skema Istishna Parale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762120" y="304920"/>
            <a:ext cx="7848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Oval 4"/>
          <p:cNvSpPr/>
          <p:nvPr/>
        </p:nvSpPr>
        <p:spPr>
          <a:xfrm>
            <a:off x="990720" y="1924200"/>
            <a:ext cx="2514600" cy="8380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PRODUS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(PEMBUAT</a:t>
            </a:r>
            <a:r>
              <a:rPr b="1" i="1" lang="en-US" sz="2000" spc="-1" strike="noStrike">
                <a:solidFill>
                  <a:srgbClr val="1c1c1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Oval 5"/>
          <p:cNvSpPr/>
          <p:nvPr/>
        </p:nvSpPr>
        <p:spPr>
          <a:xfrm>
            <a:off x="6172200" y="1959120"/>
            <a:ext cx="2666880" cy="8380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KONSU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(PEMBEL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AutoShape 6"/>
          <p:cNvSpPr/>
          <p:nvPr/>
        </p:nvSpPr>
        <p:spPr>
          <a:xfrm flipH="1">
            <a:off x="1370880" y="3774960"/>
            <a:ext cx="160020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085" y="4090"/>
                </a:moveTo>
                <a:lnTo>
                  <a:pt x="-1029" y="2956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Tagi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AutoShape 7"/>
          <p:cNvSpPr/>
          <p:nvPr/>
        </p:nvSpPr>
        <p:spPr>
          <a:xfrm flipH="1">
            <a:off x="5791320" y="2895480"/>
            <a:ext cx="137160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7447" y="29594"/>
                </a:moveTo>
                <a:lnTo>
                  <a:pt x="7450" y="2422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Bay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AutoShape 8"/>
          <p:cNvSpPr/>
          <p:nvPr/>
        </p:nvSpPr>
        <p:spPr>
          <a:xfrm flipH="1">
            <a:off x="3657600" y="1908000"/>
            <a:ext cx="2362320" cy="82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711" y="5442"/>
                </a:moveTo>
                <a:lnTo>
                  <a:pt x="-697" y="2956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Kirim BarangPesan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AutoShape 9"/>
          <p:cNvSpPr/>
          <p:nvPr/>
        </p:nvSpPr>
        <p:spPr>
          <a:xfrm flipH="1">
            <a:off x="3048120" y="3457440"/>
            <a:ext cx="1828800" cy="82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3998" y="3870"/>
                </a:moveTo>
                <a:lnTo>
                  <a:pt x="22500" y="2956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Negosia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s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AutoShape 10"/>
          <p:cNvSpPr/>
          <p:nvPr/>
        </p:nvSpPr>
        <p:spPr>
          <a:xfrm flipH="1">
            <a:off x="6629400" y="4422600"/>
            <a:ext cx="1641600" cy="82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99" y="-9124"/>
                </a:moveTo>
                <a:lnTo>
                  <a:pt x="-1003" y="2956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Negosia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 Pes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Oval 11"/>
          <p:cNvSpPr/>
          <p:nvPr/>
        </p:nvSpPr>
        <p:spPr>
          <a:xfrm>
            <a:off x="3352680" y="4648320"/>
            <a:ext cx="2667240" cy="8380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L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Line 12"/>
          <p:cNvSpPr/>
          <p:nvPr/>
        </p:nvSpPr>
        <p:spPr>
          <a:xfrm>
            <a:off x="3657600" y="236232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Line 13"/>
          <p:cNvSpPr/>
          <p:nvPr/>
        </p:nvSpPr>
        <p:spPr>
          <a:xfrm flipH="1">
            <a:off x="6095520" y="2971800"/>
            <a:ext cx="1219320" cy="16765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Line 14"/>
          <p:cNvSpPr/>
          <p:nvPr/>
        </p:nvSpPr>
        <p:spPr>
          <a:xfrm flipH="1">
            <a:off x="6248160" y="3048120"/>
            <a:ext cx="1523880" cy="2133360"/>
          </a:xfrm>
          <a:prstGeom prst="line">
            <a:avLst/>
          </a:prstGeom>
          <a:ln cap="sq"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Line 15"/>
          <p:cNvSpPr/>
          <p:nvPr/>
        </p:nvSpPr>
        <p:spPr>
          <a:xfrm flipH="1" flipV="1">
            <a:off x="2438280" y="2971440"/>
            <a:ext cx="1067040" cy="1600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Line 16"/>
          <p:cNvSpPr/>
          <p:nvPr/>
        </p:nvSpPr>
        <p:spPr>
          <a:xfrm flipH="1" flipV="1">
            <a:off x="2133360" y="2971440"/>
            <a:ext cx="1066680" cy="1600200"/>
          </a:xfrm>
          <a:prstGeom prst="line">
            <a:avLst/>
          </a:prstGeom>
          <a:ln cap="sq"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Line 17"/>
          <p:cNvSpPr/>
          <p:nvPr/>
        </p:nvSpPr>
        <p:spPr>
          <a:xfrm flipH="1">
            <a:off x="6248520" y="3124080"/>
            <a:ext cx="1218960" cy="1676520"/>
          </a:xfrm>
          <a:prstGeom prst="line">
            <a:avLst/>
          </a:prstGeom>
          <a:ln cap="sq"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AutoShape 18"/>
          <p:cNvSpPr/>
          <p:nvPr/>
        </p:nvSpPr>
        <p:spPr>
          <a:xfrm flipH="1">
            <a:off x="6628680" y="3581280"/>
            <a:ext cx="160020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085" y="4090"/>
                </a:moveTo>
                <a:lnTo>
                  <a:pt x="-1029" y="2956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agi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1101600"/>
            <a:ext cx="779292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Skema Salam Parale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762120" y="304920"/>
            <a:ext cx="7848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Oval 4"/>
          <p:cNvSpPr/>
          <p:nvPr/>
        </p:nvSpPr>
        <p:spPr>
          <a:xfrm>
            <a:off x="990720" y="1924200"/>
            <a:ext cx="2514600" cy="8380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PENJU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(PETANI</a:t>
            </a:r>
            <a:r>
              <a:rPr b="1" i="1" lang="en-US" sz="2000" spc="-1" strike="noStrike">
                <a:solidFill>
                  <a:srgbClr val="1c1c1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AutoShape 6"/>
          <p:cNvSpPr/>
          <p:nvPr/>
        </p:nvSpPr>
        <p:spPr>
          <a:xfrm flipH="1">
            <a:off x="913680" y="3774960"/>
            <a:ext cx="1600200" cy="82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085" y="4030"/>
                </a:moveTo>
                <a:lnTo>
                  <a:pt x="-1029" y="2956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Kirim Dokum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AutoShape 8"/>
          <p:cNvSpPr/>
          <p:nvPr/>
        </p:nvSpPr>
        <p:spPr>
          <a:xfrm flipH="1">
            <a:off x="5104800" y="2593800"/>
            <a:ext cx="2361960" cy="82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712" y="5442"/>
                </a:moveTo>
                <a:lnTo>
                  <a:pt x="-697" y="2956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Kirim BarangPesan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AutoShape 9"/>
          <p:cNvSpPr/>
          <p:nvPr/>
        </p:nvSpPr>
        <p:spPr>
          <a:xfrm flipH="1">
            <a:off x="3048120" y="3457440"/>
            <a:ext cx="1828800" cy="82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3998" y="3870"/>
                </a:moveTo>
                <a:lnTo>
                  <a:pt x="22500" y="2956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Negosia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y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Oval 11"/>
          <p:cNvSpPr/>
          <p:nvPr/>
        </p:nvSpPr>
        <p:spPr>
          <a:xfrm>
            <a:off x="3429000" y="4648320"/>
            <a:ext cx="2666880" cy="8380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L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Line 15"/>
          <p:cNvSpPr/>
          <p:nvPr/>
        </p:nvSpPr>
        <p:spPr>
          <a:xfrm flipH="1" flipV="1">
            <a:off x="2438280" y="2971440"/>
            <a:ext cx="1067040" cy="1600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Line 16"/>
          <p:cNvSpPr/>
          <p:nvPr/>
        </p:nvSpPr>
        <p:spPr>
          <a:xfrm flipH="1" flipV="1">
            <a:off x="2133360" y="2971440"/>
            <a:ext cx="1066680" cy="1600200"/>
          </a:xfrm>
          <a:prstGeom prst="line">
            <a:avLst/>
          </a:prstGeom>
          <a:ln cap="sq"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Line 17"/>
          <p:cNvSpPr/>
          <p:nvPr/>
        </p:nvSpPr>
        <p:spPr>
          <a:xfrm>
            <a:off x="3581280" y="23623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Line 18"/>
          <p:cNvSpPr/>
          <p:nvPr/>
        </p:nvSpPr>
        <p:spPr>
          <a:xfrm>
            <a:off x="5257800" y="2362320"/>
            <a:ext cx="0" cy="21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1101600"/>
            <a:ext cx="779292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Skema Salam Parale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762120" y="304920"/>
            <a:ext cx="7848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Oval 4"/>
          <p:cNvSpPr/>
          <p:nvPr/>
        </p:nvSpPr>
        <p:spPr>
          <a:xfrm>
            <a:off x="990720" y="1924200"/>
            <a:ext cx="2514600" cy="8380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PENJU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(PETANI</a:t>
            </a:r>
            <a:r>
              <a:rPr b="1" i="1" lang="en-US" sz="2000" spc="-1" strike="noStrike">
                <a:solidFill>
                  <a:srgbClr val="1c1c1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Oval 5"/>
          <p:cNvSpPr/>
          <p:nvPr/>
        </p:nvSpPr>
        <p:spPr>
          <a:xfrm>
            <a:off x="6172200" y="1959120"/>
            <a:ext cx="2666880" cy="8380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PEMBE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AutoShape 6"/>
          <p:cNvSpPr/>
          <p:nvPr/>
        </p:nvSpPr>
        <p:spPr>
          <a:xfrm flipH="1">
            <a:off x="913680" y="3774960"/>
            <a:ext cx="1600200" cy="82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085" y="4030"/>
                </a:moveTo>
                <a:lnTo>
                  <a:pt x="-1029" y="2956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Kirim Dokum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AutoShape 7"/>
          <p:cNvSpPr/>
          <p:nvPr/>
        </p:nvSpPr>
        <p:spPr>
          <a:xfrm flipH="1">
            <a:off x="5410080" y="3492360"/>
            <a:ext cx="137160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7447" y="29594"/>
                </a:moveTo>
                <a:lnTo>
                  <a:pt x="7450" y="2422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Bay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AutoShape 8"/>
          <p:cNvSpPr/>
          <p:nvPr/>
        </p:nvSpPr>
        <p:spPr>
          <a:xfrm flipH="1">
            <a:off x="3657600" y="1908000"/>
            <a:ext cx="2362320" cy="82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711" y="5442"/>
                </a:moveTo>
                <a:lnTo>
                  <a:pt x="-697" y="2956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Kirim BarangPesan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AutoShape 9"/>
          <p:cNvSpPr/>
          <p:nvPr/>
        </p:nvSpPr>
        <p:spPr>
          <a:xfrm flipH="1">
            <a:off x="3048120" y="3457440"/>
            <a:ext cx="1828800" cy="82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3998" y="3870"/>
                </a:moveTo>
                <a:lnTo>
                  <a:pt x="22500" y="2956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Negosia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y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AutoShape 10"/>
          <p:cNvSpPr/>
          <p:nvPr/>
        </p:nvSpPr>
        <p:spPr>
          <a:xfrm flipH="1">
            <a:off x="6248520" y="3884760"/>
            <a:ext cx="2590560" cy="82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924" y="-9049"/>
                </a:moveTo>
                <a:lnTo>
                  <a:pt x="926" y="2956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Negosia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 Pes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Oval 11"/>
          <p:cNvSpPr/>
          <p:nvPr/>
        </p:nvSpPr>
        <p:spPr>
          <a:xfrm>
            <a:off x="3429000" y="4648320"/>
            <a:ext cx="2666880" cy="8380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L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Line 12"/>
          <p:cNvSpPr/>
          <p:nvPr/>
        </p:nvSpPr>
        <p:spPr>
          <a:xfrm>
            <a:off x="3657600" y="236232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Line 13"/>
          <p:cNvSpPr/>
          <p:nvPr/>
        </p:nvSpPr>
        <p:spPr>
          <a:xfrm flipH="1">
            <a:off x="6095520" y="2971800"/>
            <a:ext cx="1219320" cy="16765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Line 14"/>
          <p:cNvSpPr/>
          <p:nvPr/>
        </p:nvSpPr>
        <p:spPr>
          <a:xfrm flipH="1">
            <a:off x="6248520" y="3124080"/>
            <a:ext cx="1218960" cy="1676520"/>
          </a:xfrm>
          <a:prstGeom prst="line">
            <a:avLst/>
          </a:prstGeom>
          <a:ln cap="sq"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Line 15"/>
          <p:cNvSpPr/>
          <p:nvPr/>
        </p:nvSpPr>
        <p:spPr>
          <a:xfrm flipH="1" flipV="1">
            <a:off x="2438280" y="2971440"/>
            <a:ext cx="1067040" cy="1600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Line 16"/>
          <p:cNvSpPr/>
          <p:nvPr/>
        </p:nvSpPr>
        <p:spPr>
          <a:xfrm flipH="1" flipV="1">
            <a:off x="2133360" y="2971440"/>
            <a:ext cx="1066680" cy="1600200"/>
          </a:xfrm>
          <a:prstGeom prst="line">
            <a:avLst/>
          </a:prstGeom>
          <a:ln cap="sq"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rinsip bagi has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990720" y="1752480"/>
            <a:ext cx="7924680" cy="61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DHARABAH (LKS SEBAGAI SHAHIBUL MA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kad antara pemilik modal dan pengelola dana untu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rusaha guna mendapatkan keuntungan dan aka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bagi sesuai nisbah yang disepakati diawal ak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sip bagi hasil usaha terdiri dari revenue sharing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au profit sha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YARAKA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kad untuk usaha patungan untuk membiayai usah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ang halal dan produkti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4419720" cy="609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ahoma"/>
              </a:rPr>
              <a:t>Produk dan jasa  LKS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492120" y="1752480"/>
            <a:ext cx="2814480" cy="459720"/>
          </a:xfrm>
          <a:prstGeom prst="rect">
            <a:avLst/>
          </a:prstGeom>
          <a:solidFill>
            <a:srgbClr val="ffff00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Penghimpun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800520" y="1752480"/>
            <a:ext cx="2601720" cy="459720"/>
          </a:xfrm>
          <a:prstGeom prst="rect">
            <a:avLst/>
          </a:prstGeom>
          <a:solidFill>
            <a:srgbClr val="66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Penyalur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824520" y="1752480"/>
            <a:ext cx="2111400" cy="82548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Jasa keuang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703440" y="2666880"/>
            <a:ext cx="2603160" cy="10695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Prinsip wadia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Gi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Tabung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03440" y="4114800"/>
            <a:ext cx="2954160" cy="14353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Prinsip mudharaba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Deposi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Tabung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4221000" y="2362320"/>
            <a:ext cx="2181240" cy="1283040"/>
          </a:xfrm>
          <a:prstGeom prst="rect">
            <a:avLst/>
          </a:prstGeom>
          <a:solidFill>
            <a:srgbClr val="66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Prinsip jual bel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Murabaha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Istish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Sal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4151160" y="3886200"/>
            <a:ext cx="2264040" cy="978120"/>
          </a:xfrm>
          <a:prstGeom prst="rect">
            <a:avLst/>
          </a:prstGeom>
          <a:solidFill>
            <a:srgbClr val="66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Prinsip bagi has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Mudharaba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Musyaraka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7162920" y="3048120"/>
            <a:ext cx="1676160" cy="2533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Wakala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Kafala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Hiwala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Rah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Qard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Shar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7" name="Group 11"/>
          <p:cNvGrpSpPr/>
          <p:nvPr/>
        </p:nvGrpSpPr>
        <p:grpSpPr>
          <a:xfrm>
            <a:off x="492120" y="2286000"/>
            <a:ext cx="211320" cy="914400"/>
            <a:chOff x="492120" y="2286000"/>
            <a:chExt cx="211320" cy="914400"/>
          </a:xfrm>
        </p:grpSpPr>
        <p:sp>
          <p:nvSpPr>
            <p:cNvPr id="118" name="Line 12"/>
            <p:cNvSpPr/>
            <p:nvPr/>
          </p:nvSpPr>
          <p:spPr>
            <a:xfrm>
              <a:off x="492120" y="228600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Line 13"/>
            <p:cNvSpPr/>
            <p:nvPr/>
          </p:nvSpPr>
          <p:spPr>
            <a:xfrm>
              <a:off x="492120" y="3200400"/>
              <a:ext cx="211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0" name="Group 14"/>
          <p:cNvGrpSpPr/>
          <p:nvPr/>
        </p:nvGrpSpPr>
        <p:grpSpPr>
          <a:xfrm>
            <a:off x="3800520" y="2286000"/>
            <a:ext cx="280800" cy="1219320"/>
            <a:chOff x="3800520" y="2286000"/>
            <a:chExt cx="280800" cy="1219320"/>
          </a:xfrm>
        </p:grpSpPr>
        <p:sp>
          <p:nvSpPr>
            <p:cNvPr id="121" name="Line 15"/>
            <p:cNvSpPr/>
            <p:nvPr/>
          </p:nvSpPr>
          <p:spPr>
            <a:xfrm>
              <a:off x="3800520" y="2286000"/>
              <a:ext cx="0" cy="12193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Line 16"/>
            <p:cNvSpPr/>
            <p:nvPr/>
          </p:nvSpPr>
          <p:spPr>
            <a:xfrm>
              <a:off x="3800520" y="3505320"/>
              <a:ext cx="280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3" name="Group 17"/>
          <p:cNvGrpSpPr/>
          <p:nvPr/>
        </p:nvGrpSpPr>
        <p:grpSpPr>
          <a:xfrm>
            <a:off x="6824520" y="2286000"/>
            <a:ext cx="352440" cy="1905120"/>
            <a:chOff x="6824520" y="2286000"/>
            <a:chExt cx="352440" cy="1905120"/>
          </a:xfrm>
        </p:grpSpPr>
        <p:sp>
          <p:nvSpPr>
            <p:cNvPr id="124" name="Line 18"/>
            <p:cNvSpPr/>
            <p:nvPr/>
          </p:nvSpPr>
          <p:spPr>
            <a:xfrm>
              <a:off x="6824520" y="2286000"/>
              <a:ext cx="0" cy="190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Line 19"/>
            <p:cNvSpPr/>
            <p:nvPr/>
          </p:nvSpPr>
          <p:spPr>
            <a:xfrm>
              <a:off x="6824520" y="4191120"/>
              <a:ext cx="3524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" name="Group 20"/>
          <p:cNvGrpSpPr/>
          <p:nvPr/>
        </p:nvGrpSpPr>
        <p:grpSpPr>
          <a:xfrm>
            <a:off x="1828800" y="838080"/>
            <a:ext cx="5981760" cy="838440"/>
            <a:chOff x="1828800" y="838080"/>
            <a:chExt cx="5981760" cy="838440"/>
          </a:xfrm>
        </p:grpSpPr>
        <p:sp>
          <p:nvSpPr>
            <p:cNvPr id="127" name="Line 21"/>
            <p:cNvSpPr/>
            <p:nvPr/>
          </p:nvSpPr>
          <p:spPr>
            <a:xfrm>
              <a:off x="1828800" y="1219320"/>
              <a:ext cx="59817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Line 22"/>
            <p:cNvSpPr/>
            <p:nvPr/>
          </p:nvSpPr>
          <p:spPr>
            <a:xfrm>
              <a:off x="1828800" y="1219320"/>
              <a:ext cx="0" cy="4572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Line 23"/>
            <p:cNvSpPr/>
            <p:nvPr/>
          </p:nvSpPr>
          <p:spPr>
            <a:xfrm>
              <a:off x="7810560" y="1219320"/>
              <a:ext cx="0" cy="380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>
              <a:off x="4714200" y="838080"/>
              <a:ext cx="0" cy="762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1" name="Group 25"/>
          <p:cNvGrpSpPr/>
          <p:nvPr/>
        </p:nvGrpSpPr>
        <p:grpSpPr>
          <a:xfrm>
            <a:off x="492120" y="3276720"/>
            <a:ext cx="211320" cy="1523880"/>
            <a:chOff x="492120" y="3276720"/>
            <a:chExt cx="211320" cy="1523880"/>
          </a:xfrm>
        </p:grpSpPr>
        <p:sp>
          <p:nvSpPr>
            <p:cNvPr id="132" name="Line 26"/>
            <p:cNvSpPr/>
            <p:nvPr/>
          </p:nvSpPr>
          <p:spPr>
            <a:xfrm>
              <a:off x="492120" y="4800600"/>
              <a:ext cx="211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92120" y="3276720"/>
              <a:ext cx="0" cy="1523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4" name="Line 28"/>
          <p:cNvSpPr/>
          <p:nvPr/>
        </p:nvSpPr>
        <p:spPr>
          <a:xfrm>
            <a:off x="3809880" y="47242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Line 29"/>
          <p:cNvSpPr/>
          <p:nvPr/>
        </p:nvSpPr>
        <p:spPr>
          <a:xfrm>
            <a:off x="3809880" y="365760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Line 30"/>
          <p:cNvSpPr/>
          <p:nvPr/>
        </p:nvSpPr>
        <p:spPr>
          <a:xfrm>
            <a:off x="3809880" y="4495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31"/>
          <p:cNvSpPr/>
          <p:nvPr/>
        </p:nvSpPr>
        <p:spPr>
          <a:xfrm>
            <a:off x="3809880" y="57150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32"/>
          <p:cNvSpPr/>
          <p:nvPr/>
        </p:nvSpPr>
        <p:spPr>
          <a:xfrm>
            <a:off x="4114800" y="5181480"/>
            <a:ext cx="2209680" cy="1219320"/>
          </a:xfrm>
          <a:prstGeom prst="rect">
            <a:avLst/>
          </a:prstGeom>
          <a:solidFill>
            <a:srgbClr val="7af5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jro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jara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jarah Muntahia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itamli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1177920"/>
            <a:ext cx="779292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ahoma"/>
              </a:rPr>
              <a:t>Skema Mudharabah (LKS sebagai Shahibul Maal)</a:t>
            </a: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762120" y="304920"/>
            <a:ext cx="7848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Oval 4"/>
          <p:cNvSpPr/>
          <p:nvPr/>
        </p:nvSpPr>
        <p:spPr>
          <a:xfrm>
            <a:off x="990720" y="2286000"/>
            <a:ext cx="2514600" cy="8380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Anggo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1c1c1c"/>
                </a:solidFill>
                <a:latin typeface="Times New Roman"/>
              </a:rPr>
              <a:t>Mudharib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Oval 5"/>
          <p:cNvSpPr/>
          <p:nvPr/>
        </p:nvSpPr>
        <p:spPr>
          <a:xfrm>
            <a:off x="6172200" y="2209680"/>
            <a:ext cx="2666880" cy="83844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L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1c1c1c"/>
                </a:solidFill>
                <a:latin typeface="Times New Roman"/>
              </a:rPr>
              <a:t>Shahibul Maal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AutoShape 6"/>
          <p:cNvSpPr/>
          <p:nvPr/>
        </p:nvSpPr>
        <p:spPr>
          <a:xfrm>
            <a:off x="3733920" y="3962520"/>
            <a:ext cx="2057400" cy="609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Proyek/Usah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3124080" y="4952880"/>
            <a:ext cx="3276720" cy="3812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Pembagian Keuntung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3124080" y="5715000"/>
            <a:ext cx="3276720" cy="38088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Mod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300" name="AutoShape 9"/>
          <p:cNvCxnSpPr>
            <a:stCxn id="298" idx="3"/>
            <a:endCxn id="296" idx="4"/>
          </p:cNvCxnSpPr>
          <p:nvPr/>
        </p:nvCxnSpPr>
        <p:spPr>
          <a:xfrm flipV="1">
            <a:off x="6400440" y="3047400"/>
            <a:ext cx="1105560" cy="209628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1" name="AutoShape 10"/>
          <p:cNvCxnSpPr>
            <a:stCxn id="299" idx="3"/>
          </p:cNvCxnSpPr>
          <p:nvPr/>
        </p:nvCxnSpPr>
        <p:spPr>
          <a:xfrm flipV="1">
            <a:off x="6400800" y="3047400"/>
            <a:ext cx="1486800" cy="285804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2" name="AutoShape 11"/>
          <p:cNvCxnSpPr>
            <a:stCxn id="298" idx="1"/>
          </p:cNvCxnSpPr>
          <p:nvPr/>
        </p:nvCxnSpPr>
        <p:spPr>
          <a:xfrm rot="10800000">
            <a:off x="2094840" y="3047400"/>
            <a:ext cx="1028880" cy="209628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3" name="AutoShape 12"/>
          <p:cNvCxnSpPr>
            <a:endCxn id="304" idx="1"/>
          </p:cNvCxnSpPr>
          <p:nvPr/>
        </p:nvCxnSpPr>
        <p:spPr>
          <a:xfrm flipH="1" rot="10800000">
            <a:off x="2057040" y="1942560"/>
            <a:ext cx="1067400" cy="343440"/>
          </a:xfrm>
          <a:prstGeom prst="bentConnector3">
            <a:avLst>
              <a:gd name="adj1" fmla="val -3711"/>
            </a:avLst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4" name="Rectangle 13"/>
          <p:cNvSpPr/>
          <p:nvPr/>
        </p:nvSpPr>
        <p:spPr>
          <a:xfrm>
            <a:off x="3124080" y="1752480"/>
            <a:ext cx="3276720" cy="3812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Perjanjian Bagi Has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305" name="AutoShape 14"/>
          <p:cNvCxnSpPr>
            <a:stCxn id="296" idx="0"/>
            <a:endCxn id="304" idx="3"/>
          </p:cNvCxnSpPr>
          <p:nvPr/>
        </p:nvCxnSpPr>
        <p:spPr>
          <a:xfrm flipV="1" rot="16200000">
            <a:off x="6819480" y="1523520"/>
            <a:ext cx="267120" cy="110556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6" name="AutoShape 15"/>
          <p:cNvCxnSpPr>
            <a:stCxn id="296" idx="3"/>
          </p:cNvCxnSpPr>
          <p:nvPr/>
        </p:nvCxnSpPr>
        <p:spPr>
          <a:xfrm flipH="1">
            <a:off x="5943240" y="2925720"/>
            <a:ext cx="619920" cy="88488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7" name="AutoShape 16"/>
          <p:cNvCxnSpPr>
            <a:stCxn id="295" idx="5"/>
          </p:cNvCxnSpPr>
          <p:nvPr/>
        </p:nvCxnSpPr>
        <p:spPr>
          <a:xfrm>
            <a:off x="3137040" y="3001680"/>
            <a:ext cx="597600" cy="73260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8" name="AutoShape 17"/>
          <p:cNvCxnSpPr/>
          <p:nvPr/>
        </p:nvCxnSpPr>
        <p:spPr>
          <a:xfrm>
            <a:off x="4800240" y="2362320"/>
            <a:ext cx="1080" cy="137232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9" name="AutoShape 18"/>
          <p:cNvCxnSpPr>
            <a:stCxn id="297" idx="2"/>
            <a:endCxn id="298" idx="0"/>
          </p:cNvCxnSpPr>
          <p:nvPr/>
        </p:nvCxnSpPr>
        <p:spPr>
          <a:xfrm>
            <a:off x="4762080" y="4572000"/>
            <a:ext cx="1080" cy="38160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AutoShape 19"/>
          <p:cNvCxnSpPr/>
          <p:nvPr/>
        </p:nvCxnSpPr>
        <p:spPr>
          <a:xfrm>
            <a:off x="4800240" y="5334120"/>
            <a:ext cx="1080" cy="38160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1" name="AutoShape 20"/>
          <p:cNvSpPr/>
          <p:nvPr/>
        </p:nvSpPr>
        <p:spPr>
          <a:xfrm flipH="1">
            <a:off x="838080" y="4629240"/>
            <a:ext cx="99072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017" y="11882"/>
                </a:moveTo>
                <a:lnTo>
                  <a:pt x="-1662" y="2422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sba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AutoShape 21"/>
          <p:cNvSpPr/>
          <p:nvPr/>
        </p:nvSpPr>
        <p:spPr>
          <a:xfrm flipH="1">
            <a:off x="6019920" y="4113360"/>
            <a:ext cx="137160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7447" y="29363"/>
                </a:moveTo>
                <a:lnTo>
                  <a:pt x="7450" y="2422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sba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AutoShape 22"/>
          <p:cNvSpPr/>
          <p:nvPr/>
        </p:nvSpPr>
        <p:spPr>
          <a:xfrm flipH="1">
            <a:off x="5105520" y="2630520"/>
            <a:ext cx="91440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299" y="5069"/>
                </a:moveTo>
                <a:lnTo>
                  <a:pt x="-1800" y="3455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AutoShape 23"/>
          <p:cNvSpPr/>
          <p:nvPr/>
        </p:nvSpPr>
        <p:spPr>
          <a:xfrm flipH="1">
            <a:off x="3351960" y="2895480"/>
            <a:ext cx="121932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9037" y="6272"/>
                </a:moveTo>
                <a:lnTo>
                  <a:pt x="22950" y="6027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ahli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AutoShape 24"/>
          <p:cNvSpPr/>
          <p:nvPr/>
        </p:nvSpPr>
        <p:spPr>
          <a:xfrm flipH="1">
            <a:off x="6780960" y="5181480"/>
            <a:ext cx="213372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14815" y="44028"/>
                </a:moveTo>
                <a:lnTo>
                  <a:pt x="14817" y="2422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gembalia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al Pok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1101600"/>
            <a:ext cx="779292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Skema Musyarakah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762120" y="304920"/>
            <a:ext cx="7848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Oval 4"/>
          <p:cNvSpPr/>
          <p:nvPr/>
        </p:nvSpPr>
        <p:spPr>
          <a:xfrm>
            <a:off x="990720" y="2286000"/>
            <a:ext cx="2514600" cy="8380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Anggo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1c1c1c"/>
                </a:solidFill>
                <a:latin typeface="Times New Roman"/>
              </a:rPr>
              <a:t>Mitra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Oval 5"/>
          <p:cNvSpPr/>
          <p:nvPr/>
        </p:nvSpPr>
        <p:spPr>
          <a:xfrm>
            <a:off x="6172200" y="2209680"/>
            <a:ext cx="2666880" cy="83844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L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1c1c1c"/>
                </a:solidFill>
                <a:latin typeface="Times New Roman"/>
              </a:rPr>
              <a:t>Mitra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AutoShape 6"/>
          <p:cNvSpPr/>
          <p:nvPr/>
        </p:nvSpPr>
        <p:spPr>
          <a:xfrm>
            <a:off x="3733920" y="3352680"/>
            <a:ext cx="2057400" cy="6098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Proyek/Usah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3124080" y="4419720"/>
            <a:ext cx="3276720" cy="38088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Pembagian Keuntung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Rectangle 8"/>
          <p:cNvSpPr/>
          <p:nvPr/>
        </p:nvSpPr>
        <p:spPr>
          <a:xfrm>
            <a:off x="3124080" y="5715000"/>
            <a:ext cx="3276720" cy="38088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Mod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323" name="AutoShape 9"/>
          <p:cNvCxnSpPr>
            <a:stCxn id="321" idx="3"/>
            <a:endCxn id="319" idx="4"/>
          </p:cNvCxnSpPr>
          <p:nvPr/>
        </p:nvCxnSpPr>
        <p:spPr>
          <a:xfrm flipV="1">
            <a:off x="6400440" y="3047400"/>
            <a:ext cx="1105560" cy="156276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4" name="AutoShape 10"/>
          <p:cNvCxnSpPr>
            <a:endCxn id="319" idx="5"/>
          </p:cNvCxnSpPr>
          <p:nvPr/>
        </p:nvCxnSpPr>
        <p:spPr>
          <a:xfrm flipH="1" flipV="1" rot="5400000">
            <a:off x="5934600" y="3390840"/>
            <a:ext cx="2980440" cy="2048760"/>
          </a:xfrm>
          <a:prstGeom prst="bentConnector3">
            <a:avLst>
              <a:gd name="adj1" fmla="val -1969"/>
            </a:avLst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5" name="AutoShape 11"/>
          <p:cNvCxnSpPr>
            <a:stCxn id="321" idx="1"/>
          </p:cNvCxnSpPr>
          <p:nvPr/>
        </p:nvCxnSpPr>
        <p:spPr>
          <a:xfrm rot="10800000">
            <a:off x="2056680" y="3123360"/>
            <a:ext cx="1067400" cy="148680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6" name="AutoShape 12"/>
          <p:cNvCxnSpPr>
            <a:endCxn id="327" idx="1"/>
          </p:cNvCxnSpPr>
          <p:nvPr/>
        </p:nvCxnSpPr>
        <p:spPr>
          <a:xfrm flipH="1" rot="10800000">
            <a:off x="2057040" y="1942560"/>
            <a:ext cx="1067400" cy="343440"/>
          </a:xfrm>
          <a:prstGeom prst="bentConnector3">
            <a:avLst>
              <a:gd name="adj1" fmla="val -3711"/>
            </a:avLst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7" name="Rectangle 13"/>
          <p:cNvSpPr/>
          <p:nvPr/>
        </p:nvSpPr>
        <p:spPr>
          <a:xfrm>
            <a:off x="3124080" y="1752480"/>
            <a:ext cx="3276720" cy="3812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Perjanjian Bagi Has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328" name="AutoShape 14"/>
          <p:cNvCxnSpPr>
            <a:stCxn id="319" idx="0"/>
            <a:endCxn id="327" idx="3"/>
          </p:cNvCxnSpPr>
          <p:nvPr/>
        </p:nvCxnSpPr>
        <p:spPr>
          <a:xfrm flipV="1" rot="16200000">
            <a:off x="6819480" y="1523520"/>
            <a:ext cx="267120" cy="110556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9" name="AutoShape 15"/>
          <p:cNvCxnSpPr>
            <a:stCxn id="319" idx="3"/>
          </p:cNvCxnSpPr>
          <p:nvPr/>
        </p:nvCxnSpPr>
        <p:spPr>
          <a:xfrm flipH="1">
            <a:off x="5943240" y="2925720"/>
            <a:ext cx="619920" cy="88488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0" name="AutoShape 16"/>
          <p:cNvCxnSpPr>
            <a:stCxn id="318" idx="5"/>
          </p:cNvCxnSpPr>
          <p:nvPr/>
        </p:nvCxnSpPr>
        <p:spPr>
          <a:xfrm>
            <a:off x="3137040" y="3001680"/>
            <a:ext cx="597600" cy="73260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1" name="AutoShape 17"/>
          <p:cNvCxnSpPr/>
          <p:nvPr/>
        </p:nvCxnSpPr>
        <p:spPr>
          <a:xfrm>
            <a:off x="4800240" y="2362320"/>
            <a:ext cx="1080" cy="91512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2" name="AutoShape 18"/>
          <p:cNvCxnSpPr/>
          <p:nvPr/>
        </p:nvCxnSpPr>
        <p:spPr>
          <a:xfrm>
            <a:off x="4800240" y="5334120"/>
            <a:ext cx="1080" cy="38160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3" name="AutoShape 19"/>
          <p:cNvSpPr/>
          <p:nvPr/>
        </p:nvSpPr>
        <p:spPr>
          <a:xfrm flipH="1">
            <a:off x="2057400" y="3673440"/>
            <a:ext cx="2209680" cy="58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691" y="20235"/>
                </a:moveTo>
                <a:lnTo>
                  <a:pt x="3693" y="2945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isbah X%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rsi modal Nasaba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AutoShape 20"/>
          <p:cNvSpPr/>
          <p:nvPr/>
        </p:nvSpPr>
        <p:spPr>
          <a:xfrm flipH="1">
            <a:off x="6400800" y="3733920"/>
            <a:ext cx="1752480" cy="58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10523" y="33069"/>
                </a:moveTo>
                <a:lnTo>
                  <a:pt x="10526" y="1860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isbah Y%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rsi modal ban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AutoShape 21"/>
          <p:cNvSpPr/>
          <p:nvPr/>
        </p:nvSpPr>
        <p:spPr>
          <a:xfrm flipH="1">
            <a:off x="5105520" y="2630520"/>
            <a:ext cx="91440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299" y="5122"/>
                </a:moveTo>
                <a:lnTo>
                  <a:pt x="-1800" y="3455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AutoShape 22"/>
          <p:cNvSpPr/>
          <p:nvPr/>
        </p:nvSpPr>
        <p:spPr>
          <a:xfrm flipH="1">
            <a:off x="3351960" y="2638440"/>
            <a:ext cx="121932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9037" y="6272"/>
                </a:moveTo>
                <a:lnTo>
                  <a:pt x="22950" y="6027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AutoShape 23"/>
          <p:cNvSpPr/>
          <p:nvPr/>
        </p:nvSpPr>
        <p:spPr>
          <a:xfrm flipH="1">
            <a:off x="6552360" y="5527800"/>
            <a:ext cx="213372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2369" y="35613"/>
                </a:moveTo>
                <a:lnTo>
                  <a:pt x="22371" y="3456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gembalia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al Pok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338" name="AutoShape 24"/>
          <p:cNvCxnSpPr/>
          <p:nvPr/>
        </p:nvCxnSpPr>
        <p:spPr>
          <a:xfrm>
            <a:off x="4800240" y="3962520"/>
            <a:ext cx="1080" cy="38160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9" name="Rectangle 25"/>
          <p:cNvSpPr/>
          <p:nvPr/>
        </p:nvSpPr>
        <p:spPr>
          <a:xfrm>
            <a:off x="3124080" y="4876920"/>
            <a:ext cx="3276720" cy="38088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Pembagian Kerugi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340" name="AutoShape 26"/>
          <p:cNvCxnSpPr>
            <a:stCxn id="339" idx="3"/>
          </p:cNvCxnSpPr>
          <p:nvPr/>
        </p:nvCxnSpPr>
        <p:spPr>
          <a:xfrm flipV="1">
            <a:off x="6400440" y="3047400"/>
            <a:ext cx="1562760" cy="2019960"/>
          </a:xfrm>
          <a:prstGeom prst="bentConnector2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41" name="AutoShape 27"/>
          <p:cNvSpPr/>
          <p:nvPr/>
        </p:nvSpPr>
        <p:spPr>
          <a:xfrm flipH="1">
            <a:off x="6552360" y="4984920"/>
            <a:ext cx="1752840" cy="33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10525" y="33505"/>
                </a:moveTo>
                <a:lnTo>
                  <a:pt x="10526" y="1860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rsi modal ban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342" name="AutoShape 28"/>
          <p:cNvCxnSpPr/>
          <p:nvPr/>
        </p:nvCxnSpPr>
        <p:spPr>
          <a:xfrm flipV="1" rot="16200000">
            <a:off x="1208160" y="3227400"/>
            <a:ext cx="2066040" cy="1613880"/>
          </a:xfrm>
          <a:prstGeom prst="bentConnector3">
            <a:avLst>
              <a:gd name="adj1" fmla="val -923"/>
            </a:avLst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43" name="AutoShape 29"/>
          <p:cNvSpPr/>
          <p:nvPr/>
        </p:nvSpPr>
        <p:spPr>
          <a:xfrm flipH="1">
            <a:off x="1065960" y="4816440"/>
            <a:ext cx="2210040" cy="58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690" y="20235"/>
                </a:moveTo>
                <a:lnTo>
                  <a:pt x="3693" y="2945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rsi modal Nasaba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Prinsip distribusi hasil usah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838080" y="2610000"/>
            <a:ext cx="7772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NUE SHA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ang dibagihasilkan adalah pendapatan (revenu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FIT SHA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ang dibagikan adalah keuntungan (prof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rinsip ujroh (ijarah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762120" y="1981080"/>
            <a:ext cx="8001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JARA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kad sewa menyewa barang antara LKS (muaajir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ngan penyewa (mustajir) setelah masa sew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erakhir barang sewaan dikembalikan kepada muaaji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JARAH MUNTAHIYAH BITTAML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kad sewa menyewa barang antara LKS(muaajir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ngan penyewa (mustajir) yang diikuti janji bahw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da saat yang ditentukan kepemilikan barang sew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kan berpindah kepada mustaj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1177920"/>
            <a:ext cx="779292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Skema Ijarah Muntahiyyah Bittamlik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Oval 4"/>
          <p:cNvSpPr/>
          <p:nvPr/>
        </p:nvSpPr>
        <p:spPr>
          <a:xfrm>
            <a:off x="609480" y="2286000"/>
            <a:ext cx="2514600" cy="8380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Penjual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c1c1c"/>
                </a:solidFill>
                <a:latin typeface="Times New Roman"/>
              </a:rPr>
              <a:t>Suppl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Oval 5"/>
          <p:cNvSpPr/>
          <p:nvPr/>
        </p:nvSpPr>
        <p:spPr>
          <a:xfrm>
            <a:off x="6629400" y="2286000"/>
            <a:ext cx="2133720" cy="8380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Anggo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AutoShape 6"/>
          <p:cNvSpPr/>
          <p:nvPr/>
        </p:nvSpPr>
        <p:spPr>
          <a:xfrm>
            <a:off x="3733920" y="4952880"/>
            <a:ext cx="2057400" cy="6098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3886200" y="2514600"/>
            <a:ext cx="2057400" cy="3808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Obyek Sew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353" name="AutoShape 8"/>
          <p:cNvCxnSpPr/>
          <p:nvPr/>
        </p:nvCxnSpPr>
        <p:spPr>
          <a:xfrm flipH="1">
            <a:off x="5943240" y="3002040"/>
            <a:ext cx="1372320" cy="218016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354" name="AutoShape 9"/>
          <p:cNvCxnSpPr/>
          <p:nvPr/>
        </p:nvCxnSpPr>
        <p:spPr>
          <a:xfrm>
            <a:off x="1866960" y="3200400"/>
            <a:ext cx="1715040" cy="190584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55" name="AutoShape 10"/>
          <p:cNvCxnSpPr/>
          <p:nvPr/>
        </p:nvCxnSpPr>
        <p:spPr>
          <a:xfrm>
            <a:off x="4800600" y="3048120"/>
            <a:ext cx="2160" cy="175320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56" name="AutoShape 11"/>
          <p:cNvSpPr/>
          <p:nvPr/>
        </p:nvSpPr>
        <p:spPr>
          <a:xfrm flipH="1">
            <a:off x="456480" y="3825720"/>
            <a:ext cx="1755720" cy="137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34" y="19789"/>
                </a:moveTo>
                <a:lnTo>
                  <a:pt x="-938" y="2797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Beli Obyek Sew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AutoShape 12"/>
          <p:cNvSpPr/>
          <p:nvPr/>
        </p:nvSpPr>
        <p:spPr>
          <a:xfrm flipH="1">
            <a:off x="6857280" y="3581280"/>
            <a:ext cx="2330280" cy="94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17506" y="33771"/>
                </a:moveTo>
                <a:lnTo>
                  <a:pt x="17509" y="1781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Butuh Obyek Sew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AutoShape 13"/>
          <p:cNvSpPr/>
          <p:nvPr/>
        </p:nvSpPr>
        <p:spPr>
          <a:xfrm flipH="1">
            <a:off x="4952160" y="3432240"/>
            <a:ext cx="1219320" cy="82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996" y="3333"/>
                </a:moveTo>
                <a:lnTo>
                  <a:pt x="-1350" y="3253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Sewa Be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359" name="AutoShape 14"/>
          <p:cNvCxnSpPr/>
          <p:nvPr/>
        </p:nvCxnSpPr>
        <p:spPr>
          <a:xfrm flipH="1">
            <a:off x="5409360" y="3123720"/>
            <a:ext cx="1220040" cy="175356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60" name="Line 15"/>
          <p:cNvSpPr/>
          <p:nvPr/>
        </p:nvSpPr>
        <p:spPr>
          <a:xfrm>
            <a:off x="3200400" y="27432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Line 16"/>
          <p:cNvSpPr/>
          <p:nvPr/>
        </p:nvSpPr>
        <p:spPr>
          <a:xfrm>
            <a:off x="5943600" y="27432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AutoShape 17"/>
          <p:cNvSpPr/>
          <p:nvPr/>
        </p:nvSpPr>
        <p:spPr>
          <a:xfrm>
            <a:off x="1676520" y="5486400"/>
            <a:ext cx="1904760" cy="914400"/>
          </a:xfrm>
          <a:prstGeom prst="foldedCorner">
            <a:avLst>
              <a:gd name="adj" fmla="val 12500"/>
            </a:avLst>
          </a:prstGeom>
          <a:solidFill>
            <a:srgbClr val="ffcf0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lik LK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lama masa sew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AutoShape 18"/>
          <p:cNvSpPr/>
          <p:nvPr/>
        </p:nvSpPr>
        <p:spPr>
          <a:xfrm>
            <a:off x="6553080" y="5410080"/>
            <a:ext cx="1905120" cy="914400"/>
          </a:xfrm>
          <a:prstGeom prst="foldedCorner">
            <a:avLst>
              <a:gd name="adj" fmla="val 12500"/>
            </a:avLst>
          </a:prstGeom>
          <a:solidFill>
            <a:srgbClr val="ffcf0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lik Nasaba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telah Pelepasa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AutoShape 2"/>
          <p:cNvSpPr/>
          <p:nvPr/>
        </p:nvSpPr>
        <p:spPr>
          <a:xfrm>
            <a:off x="5418000" y="304920"/>
            <a:ext cx="3448080" cy="1295280"/>
          </a:xfrm>
          <a:prstGeom prst="cloudCallout">
            <a:avLst>
              <a:gd name="adj1" fmla="val 1486"/>
              <a:gd name="adj2" fmla="val 108212"/>
            </a:avLst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910120" y="457200"/>
            <a:ext cx="26733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sa LKS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380880" y="1905120"/>
          <a:ext cx="5880240" cy="4790880"/>
        </p:xfrm>
        <a:graphic>
          <a:graphicData uri="http://schemas.openxmlformats.org/drawingml/2006/table">
            <a:tbl>
              <a:tblPr/>
              <a:tblGrid>
                <a:gridCol w="1981440"/>
                <a:gridCol w="3898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akala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C, Transfer, Inkaso &amp; Kli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afala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wala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h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a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har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k Garan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jak Piuta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ad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na Talang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ual beli Valas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7" name="Picture 15" descr="A007"/>
          <p:cNvPicPr/>
          <p:nvPr/>
        </p:nvPicPr>
        <p:blipFill>
          <a:blip r:embed="rId1"/>
          <a:stretch/>
        </p:blipFill>
        <p:spPr>
          <a:xfrm>
            <a:off x="6553080" y="2841480"/>
            <a:ext cx="2590920" cy="2873520"/>
          </a:xfrm>
          <a:prstGeom prst="rect">
            <a:avLst/>
          </a:prstGeom>
          <a:ln w="0">
            <a:noFill/>
          </a:ln>
        </p:spPr>
      </p:pic>
      <p:sp>
        <p:nvSpPr>
          <p:cNvPr id="368" name="Line 24"/>
          <p:cNvSpPr/>
          <p:nvPr/>
        </p:nvSpPr>
        <p:spPr>
          <a:xfrm>
            <a:off x="380880" y="3429000"/>
            <a:ext cx="586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25"/>
          <p:cNvSpPr/>
          <p:nvPr/>
        </p:nvSpPr>
        <p:spPr>
          <a:xfrm>
            <a:off x="380880" y="4267080"/>
            <a:ext cx="586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Line 26"/>
          <p:cNvSpPr/>
          <p:nvPr/>
        </p:nvSpPr>
        <p:spPr>
          <a:xfrm>
            <a:off x="380880" y="5181480"/>
            <a:ext cx="586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Line 27"/>
          <p:cNvSpPr/>
          <p:nvPr/>
        </p:nvSpPr>
        <p:spPr>
          <a:xfrm>
            <a:off x="380880" y="6095880"/>
            <a:ext cx="586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JASA L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762120" y="2362320"/>
            <a:ext cx="77724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KALA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kad pemberian kuasa dari pemberi kuasa (muwakil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pada penerima kuasa (wakil) untuk melaksanaka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atu kegiatan (taukil) atas nama pemberi kua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kema al-Wakala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AutoShape 3"/>
          <p:cNvSpPr/>
          <p:nvPr/>
        </p:nvSpPr>
        <p:spPr>
          <a:xfrm>
            <a:off x="812880" y="2438280"/>
            <a:ext cx="1727280" cy="685800"/>
          </a:xfrm>
          <a:prstGeom prst="roundRect">
            <a:avLst>
              <a:gd name="adj" fmla="val 16667"/>
            </a:avLst>
          </a:prstGeom>
          <a:solidFill>
            <a:srgbClr val="def59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Anggo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Muwak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3809880" y="3048120"/>
            <a:ext cx="2641680" cy="2133360"/>
          </a:xfrm>
          <a:prstGeom prst="rect">
            <a:avLst/>
          </a:prstGeom>
          <a:solidFill>
            <a:srgbClr val="def59d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Transf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Kli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Colle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L/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D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TAUK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Line 5"/>
          <p:cNvSpPr/>
          <p:nvPr/>
        </p:nvSpPr>
        <p:spPr>
          <a:xfrm>
            <a:off x="812880" y="2795760"/>
            <a:ext cx="172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Line 6"/>
          <p:cNvSpPr/>
          <p:nvPr/>
        </p:nvSpPr>
        <p:spPr>
          <a:xfrm>
            <a:off x="3835440" y="4648320"/>
            <a:ext cx="2641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AutoShape 9"/>
          <p:cNvSpPr/>
          <p:nvPr/>
        </p:nvSpPr>
        <p:spPr>
          <a:xfrm>
            <a:off x="7340760" y="3657600"/>
            <a:ext cx="1726920" cy="838080"/>
          </a:xfrm>
          <a:prstGeom prst="roundRect">
            <a:avLst>
              <a:gd name="adj" fmla="val 16667"/>
            </a:avLst>
          </a:prstGeom>
          <a:solidFill>
            <a:srgbClr val="def59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LK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WAK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Line 10"/>
          <p:cNvSpPr/>
          <p:nvPr/>
        </p:nvSpPr>
        <p:spPr>
          <a:xfrm>
            <a:off x="7213680" y="4010040"/>
            <a:ext cx="172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Line 11"/>
          <p:cNvSpPr/>
          <p:nvPr/>
        </p:nvSpPr>
        <p:spPr>
          <a:xfrm>
            <a:off x="2641680" y="290196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Line 12"/>
          <p:cNvSpPr/>
          <p:nvPr/>
        </p:nvSpPr>
        <p:spPr>
          <a:xfrm>
            <a:off x="3251160" y="2901960"/>
            <a:ext cx="0" cy="94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Line 16"/>
          <p:cNvSpPr/>
          <p:nvPr/>
        </p:nvSpPr>
        <p:spPr>
          <a:xfrm>
            <a:off x="3251160" y="3851280"/>
            <a:ext cx="406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Line 17"/>
          <p:cNvSpPr/>
          <p:nvPr/>
        </p:nvSpPr>
        <p:spPr>
          <a:xfrm flipV="1">
            <a:off x="8026560" y="2742840"/>
            <a:ext cx="0" cy="8967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Line 18"/>
          <p:cNvSpPr/>
          <p:nvPr/>
        </p:nvSpPr>
        <p:spPr>
          <a:xfrm>
            <a:off x="2641680" y="2743200"/>
            <a:ext cx="5384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Text Box 22"/>
          <p:cNvSpPr/>
          <p:nvPr/>
        </p:nvSpPr>
        <p:spPr>
          <a:xfrm>
            <a:off x="4439880" y="2782800"/>
            <a:ext cx="114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KONTRAK + FE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AutoShape 23"/>
          <p:cNvSpPr/>
          <p:nvPr/>
        </p:nvSpPr>
        <p:spPr>
          <a:xfrm>
            <a:off x="6553080" y="3581280"/>
            <a:ext cx="609840" cy="9144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JASA L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Text Box 3"/>
          <p:cNvSpPr/>
          <p:nvPr/>
        </p:nvSpPr>
        <p:spPr>
          <a:xfrm>
            <a:off x="838080" y="2362320"/>
            <a:ext cx="73152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FALA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kad pemberian jaminan (makful alaih) ya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berikan satu pihak kepada pihak lain diman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mberi jaminan (kafiil) bertanggung jawab ata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mbayaran kembali suatu hutang yang menjad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k penerima jamin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kema al-Kafala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3962520" y="3376440"/>
            <a:ext cx="1726920" cy="633600"/>
          </a:xfrm>
          <a:prstGeom prst="rect">
            <a:avLst/>
          </a:prstGeom>
          <a:solidFill>
            <a:srgbClr val="def59d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TERTANGGU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(Jasa/Objek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AutoShape 4"/>
          <p:cNvSpPr/>
          <p:nvPr/>
        </p:nvSpPr>
        <p:spPr>
          <a:xfrm>
            <a:off x="914400" y="3218040"/>
            <a:ext cx="2743200" cy="949320"/>
          </a:xfrm>
          <a:prstGeom prst="rightArrowCallout">
            <a:avLst>
              <a:gd name="adj1" fmla="val 25002"/>
              <a:gd name="adj2" fmla="val 25000"/>
              <a:gd name="adj3" fmla="val 48161"/>
              <a:gd name="adj4" fmla="val 66667"/>
            </a:avLst>
          </a:prstGeom>
          <a:solidFill>
            <a:srgbClr val="def59d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PENANGGU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L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AutoShape 5"/>
          <p:cNvSpPr/>
          <p:nvPr/>
        </p:nvSpPr>
        <p:spPr>
          <a:xfrm>
            <a:off x="6095880" y="3218040"/>
            <a:ext cx="2336760" cy="949320"/>
          </a:xfrm>
          <a:prstGeom prst="leftArrowCallout">
            <a:avLst>
              <a:gd name="adj1" fmla="val 25002"/>
              <a:gd name="adj2" fmla="val 25000"/>
              <a:gd name="adj3" fmla="val 41025"/>
              <a:gd name="adj4" fmla="val 66673"/>
            </a:avLst>
          </a:prstGeom>
          <a:solidFill>
            <a:srgbClr val="def59d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DITANGGU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NASABA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Text Box 6"/>
          <p:cNvSpPr/>
          <p:nvPr/>
        </p:nvSpPr>
        <p:spPr>
          <a:xfrm>
            <a:off x="2743200" y="3692520"/>
            <a:ext cx="121932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JAMINA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Text Box 7"/>
          <p:cNvSpPr/>
          <p:nvPr/>
        </p:nvSpPr>
        <p:spPr>
          <a:xfrm>
            <a:off x="5486400" y="419112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KEWAJIBA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2"/>
          <p:cNvSpPr/>
          <p:nvPr/>
        </p:nvSpPr>
        <p:spPr>
          <a:xfrm>
            <a:off x="5418000" y="304920"/>
            <a:ext cx="3448080" cy="1295280"/>
          </a:xfrm>
          <a:prstGeom prst="cloudCallout">
            <a:avLst>
              <a:gd name="adj1" fmla="val 1486"/>
              <a:gd name="adj2" fmla="val 108212"/>
            </a:avLst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910120" y="457200"/>
            <a:ext cx="26733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nghimpunan dana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80880" y="2286000"/>
          <a:ext cx="5880240" cy="3670200"/>
        </p:xfrm>
        <a:graphic>
          <a:graphicData uri="http://schemas.openxmlformats.org/drawingml/2006/table">
            <a:tbl>
              <a:tblPr/>
              <a:tblGrid>
                <a:gridCol w="1981440"/>
                <a:gridCol w="389880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nsip wadia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adiah yad amana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adiah yad dhamana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nsip Mudharaba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dharabah mutlaqa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Investasi Tidak Terikat / Unrectricted Investmen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dharabah Muqayyada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Investasi Terikat / Restricted Investmen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2" name="Picture 15" descr="A007"/>
          <p:cNvPicPr/>
          <p:nvPr/>
        </p:nvPicPr>
        <p:blipFill>
          <a:blip r:embed="rId1"/>
          <a:stretch/>
        </p:blipFill>
        <p:spPr>
          <a:xfrm>
            <a:off x="5943600" y="2841480"/>
            <a:ext cx="33750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Jasa L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990720" y="1790640"/>
            <a:ext cx="77724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HIWALA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kad perpindahan piutang nasabah (muhil) kepa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KS  (muhal’alaih) dari nasabah lain ( muh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hil meminta muhal’alaih untuk membayar terlebi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hulu piutang yang timbul dari jual be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da saat jatuh tempo muhal akan membayar k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hal’alai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hal’alaih memperoleh imbalan sebagai jas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mindah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kema al-Hiwalah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9" name="AutoShape 3"/>
          <p:cNvSpPr/>
          <p:nvPr/>
        </p:nvSpPr>
        <p:spPr>
          <a:xfrm>
            <a:off x="3048120" y="2743200"/>
            <a:ext cx="3454200" cy="633240"/>
          </a:xfrm>
          <a:prstGeom prst="roundRect">
            <a:avLst>
              <a:gd name="adj" fmla="val 16667"/>
            </a:avLst>
          </a:prstGeom>
          <a:solidFill>
            <a:srgbClr val="def59d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MUHAL’ALAI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(LK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Oval 4"/>
          <p:cNvSpPr/>
          <p:nvPr/>
        </p:nvSpPr>
        <p:spPr>
          <a:xfrm>
            <a:off x="1117440" y="4959360"/>
            <a:ext cx="2641680" cy="843120"/>
          </a:xfrm>
          <a:prstGeom prst="ellipse">
            <a:avLst/>
          </a:prstGeom>
          <a:solidFill>
            <a:srgbClr val="def59d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MUH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(PENYUPLAI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Oval 5"/>
          <p:cNvSpPr/>
          <p:nvPr/>
        </p:nvSpPr>
        <p:spPr>
          <a:xfrm>
            <a:off x="5994360" y="5011560"/>
            <a:ext cx="2438280" cy="844560"/>
          </a:xfrm>
          <a:prstGeom prst="ellipse">
            <a:avLst/>
          </a:prstGeom>
          <a:solidFill>
            <a:srgbClr val="def59d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MUH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(PEMBELI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Line 6"/>
          <p:cNvSpPr/>
          <p:nvPr/>
        </p:nvSpPr>
        <p:spPr>
          <a:xfrm>
            <a:off x="3860640" y="5381640"/>
            <a:ext cx="2032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Line 7"/>
          <p:cNvSpPr/>
          <p:nvPr/>
        </p:nvSpPr>
        <p:spPr>
          <a:xfrm flipV="1">
            <a:off x="2438280" y="3533400"/>
            <a:ext cx="1117800" cy="13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Line 8"/>
          <p:cNvSpPr/>
          <p:nvPr/>
        </p:nvSpPr>
        <p:spPr>
          <a:xfrm flipH="1">
            <a:off x="3149640" y="3587760"/>
            <a:ext cx="1015920" cy="1317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Line 9"/>
          <p:cNvSpPr/>
          <p:nvPr/>
        </p:nvSpPr>
        <p:spPr>
          <a:xfrm>
            <a:off x="5689440" y="3587760"/>
            <a:ext cx="1117800" cy="1317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Line 10"/>
          <p:cNvSpPr/>
          <p:nvPr/>
        </p:nvSpPr>
        <p:spPr>
          <a:xfrm>
            <a:off x="6299280" y="3533760"/>
            <a:ext cx="1117440" cy="13194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Text Box 11"/>
          <p:cNvSpPr/>
          <p:nvPr/>
        </p:nvSpPr>
        <p:spPr>
          <a:xfrm>
            <a:off x="4165560" y="538164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 Suplai Bara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Text Box 12"/>
          <p:cNvSpPr/>
          <p:nvPr/>
        </p:nvSpPr>
        <p:spPr>
          <a:xfrm>
            <a:off x="1422360" y="41148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 Dokum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Text Box 13"/>
          <p:cNvSpPr/>
          <p:nvPr/>
        </p:nvSpPr>
        <p:spPr>
          <a:xfrm>
            <a:off x="3556080" y="432576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 Baya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Text Box 14"/>
          <p:cNvSpPr/>
          <p:nvPr/>
        </p:nvSpPr>
        <p:spPr>
          <a:xfrm>
            <a:off x="5486400" y="4325760"/>
            <a:ext cx="142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 Tagi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Text Box 15"/>
          <p:cNvSpPr/>
          <p:nvPr/>
        </p:nvSpPr>
        <p:spPr>
          <a:xfrm>
            <a:off x="6951960" y="4181400"/>
            <a:ext cx="88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 Baya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Jasa L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Text Box 3"/>
          <p:cNvSpPr/>
          <p:nvPr/>
        </p:nvSpPr>
        <p:spPr>
          <a:xfrm>
            <a:off x="762120" y="2286000"/>
            <a:ext cx="7848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H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kad penyerahan fisik barang/ harta (marhun) da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ggota (rahin) kepada LKS (murtahin) sebaga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minan atas pinjaman yang diteri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kema ar-Rah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1422360" y="2479680"/>
            <a:ext cx="2032200" cy="633240"/>
          </a:xfrm>
          <a:prstGeom prst="rect">
            <a:avLst/>
          </a:prstGeom>
          <a:solidFill>
            <a:srgbClr val="def59d"/>
          </a:solidFill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Marhun Bi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Pembiaya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Oval 4"/>
          <p:cNvSpPr/>
          <p:nvPr/>
        </p:nvSpPr>
        <p:spPr>
          <a:xfrm>
            <a:off x="1422360" y="3956040"/>
            <a:ext cx="2133720" cy="633600"/>
          </a:xfrm>
          <a:prstGeom prst="ellipse">
            <a:avLst/>
          </a:prstGeom>
          <a:solidFill>
            <a:srgbClr val="def59d"/>
          </a:solidFill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Murtah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LK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Oval 5"/>
          <p:cNvSpPr/>
          <p:nvPr/>
        </p:nvSpPr>
        <p:spPr>
          <a:xfrm>
            <a:off x="6603840" y="3956040"/>
            <a:ext cx="1930680" cy="633600"/>
          </a:xfrm>
          <a:prstGeom prst="ellipse">
            <a:avLst/>
          </a:prstGeom>
          <a:solidFill>
            <a:srgbClr val="def59d"/>
          </a:solidFill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Rah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Anggo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Rectangle 6"/>
          <p:cNvSpPr/>
          <p:nvPr/>
        </p:nvSpPr>
        <p:spPr>
          <a:xfrm>
            <a:off x="6908760" y="5486400"/>
            <a:ext cx="1828800" cy="685800"/>
          </a:xfrm>
          <a:prstGeom prst="rect">
            <a:avLst/>
          </a:prstGeom>
          <a:solidFill>
            <a:srgbClr val="def59d"/>
          </a:solidFill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Marhu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Jamin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Line 7"/>
          <p:cNvSpPr/>
          <p:nvPr/>
        </p:nvSpPr>
        <p:spPr>
          <a:xfrm flipV="1">
            <a:off x="2540160" y="3112560"/>
            <a:ext cx="0" cy="790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Line 8"/>
          <p:cNvSpPr/>
          <p:nvPr/>
        </p:nvSpPr>
        <p:spPr>
          <a:xfrm>
            <a:off x="3556080" y="2795760"/>
            <a:ext cx="40640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Line 9"/>
          <p:cNvSpPr/>
          <p:nvPr/>
        </p:nvSpPr>
        <p:spPr>
          <a:xfrm>
            <a:off x="7620120" y="2795760"/>
            <a:ext cx="0" cy="1108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Line 10"/>
          <p:cNvSpPr/>
          <p:nvPr/>
        </p:nvSpPr>
        <p:spPr>
          <a:xfrm flipH="1">
            <a:off x="2539800" y="5802480"/>
            <a:ext cx="436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Line 11"/>
          <p:cNvSpPr/>
          <p:nvPr/>
        </p:nvSpPr>
        <p:spPr>
          <a:xfrm flipV="1">
            <a:off x="2540160" y="4641840"/>
            <a:ext cx="0" cy="1160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Line 12"/>
          <p:cNvSpPr/>
          <p:nvPr/>
        </p:nvSpPr>
        <p:spPr>
          <a:xfrm>
            <a:off x="7620120" y="4589640"/>
            <a:ext cx="0" cy="844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Line 13"/>
          <p:cNvSpPr/>
          <p:nvPr/>
        </p:nvSpPr>
        <p:spPr>
          <a:xfrm>
            <a:off x="3657600" y="4167360"/>
            <a:ext cx="2844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Line 14"/>
          <p:cNvSpPr/>
          <p:nvPr/>
        </p:nvSpPr>
        <p:spPr>
          <a:xfrm>
            <a:off x="3657600" y="4378320"/>
            <a:ext cx="284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Text Box 15"/>
          <p:cNvSpPr/>
          <p:nvPr/>
        </p:nvSpPr>
        <p:spPr>
          <a:xfrm>
            <a:off x="4165560" y="2819520"/>
            <a:ext cx="314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  Permohonan Pembiayaa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3962520" y="3809880"/>
            <a:ext cx="26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  Akad Pembiayaa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Text Box 17"/>
          <p:cNvSpPr/>
          <p:nvPr/>
        </p:nvSpPr>
        <p:spPr>
          <a:xfrm>
            <a:off x="3962520" y="4367160"/>
            <a:ext cx="28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  Utang + Mark U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Text Box 18"/>
          <p:cNvSpPr/>
          <p:nvPr/>
        </p:nvSpPr>
        <p:spPr>
          <a:xfrm>
            <a:off x="3048120" y="5791320"/>
            <a:ext cx="375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 b  Titipan/Gadai Pembiayaa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Text Box 19"/>
          <p:cNvSpPr/>
          <p:nvPr/>
        </p:nvSpPr>
        <p:spPr>
          <a:xfrm>
            <a:off x="7620120" y="5064120"/>
            <a:ext cx="101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1 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Text Box 20"/>
          <p:cNvSpPr/>
          <p:nvPr/>
        </p:nvSpPr>
        <p:spPr>
          <a:xfrm>
            <a:off x="2540160" y="3533760"/>
            <a:ext cx="81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1 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Jasa L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4" name="Text Box 3"/>
          <p:cNvSpPr/>
          <p:nvPr/>
        </p:nvSpPr>
        <p:spPr>
          <a:xfrm>
            <a:off x="762120" y="2362320"/>
            <a:ext cx="76197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ARD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kad pinjaman dari LKS (muqridh) kepada pih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tentu (muqtaridh) untuk tujuan sosial yang wajib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kembalikan dengan jumlah yang sama sesua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ngan pinjamanny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kema al-Qard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6" name="Oval 3"/>
          <p:cNvSpPr/>
          <p:nvPr/>
        </p:nvSpPr>
        <p:spPr>
          <a:xfrm>
            <a:off x="914400" y="3587760"/>
            <a:ext cx="2336760" cy="579600"/>
          </a:xfrm>
          <a:prstGeom prst="ellipse">
            <a:avLst/>
          </a:prstGeom>
          <a:solidFill>
            <a:srgbClr val="def59d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Anggo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Oval 4"/>
          <p:cNvSpPr/>
          <p:nvPr/>
        </p:nvSpPr>
        <p:spPr>
          <a:xfrm>
            <a:off x="6502320" y="3587760"/>
            <a:ext cx="2336760" cy="579600"/>
          </a:xfrm>
          <a:prstGeom prst="ellipse">
            <a:avLst/>
          </a:prstGeom>
          <a:solidFill>
            <a:srgbClr val="def59d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Line 5"/>
          <p:cNvSpPr/>
          <p:nvPr/>
        </p:nvSpPr>
        <p:spPr>
          <a:xfrm flipV="1">
            <a:off x="2133720" y="3059280"/>
            <a:ext cx="0" cy="528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Line 6"/>
          <p:cNvSpPr/>
          <p:nvPr/>
        </p:nvSpPr>
        <p:spPr>
          <a:xfrm>
            <a:off x="2133720" y="3059280"/>
            <a:ext cx="1726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Line 7"/>
          <p:cNvSpPr/>
          <p:nvPr/>
        </p:nvSpPr>
        <p:spPr>
          <a:xfrm flipH="1">
            <a:off x="5791320" y="30592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Line 8"/>
          <p:cNvSpPr/>
          <p:nvPr/>
        </p:nvSpPr>
        <p:spPr>
          <a:xfrm>
            <a:off x="7620120" y="3059280"/>
            <a:ext cx="0" cy="528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Text Box 9"/>
          <p:cNvSpPr/>
          <p:nvPr/>
        </p:nvSpPr>
        <p:spPr>
          <a:xfrm>
            <a:off x="3657600" y="2795760"/>
            <a:ext cx="22352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ERJANJIA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QARD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Rectangle 10"/>
          <p:cNvSpPr/>
          <p:nvPr/>
        </p:nvSpPr>
        <p:spPr>
          <a:xfrm>
            <a:off x="3454560" y="4959360"/>
            <a:ext cx="2743200" cy="368280"/>
          </a:xfrm>
          <a:prstGeom prst="rect">
            <a:avLst/>
          </a:prstGeom>
          <a:solidFill>
            <a:srgbClr val="def59d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PROYEK USAH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Rectangle 11"/>
          <p:cNvSpPr/>
          <p:nvPr/>
        </p:nvSpPr>
        <p:spPr>
          <a:xfrm>
            <a:off x="3454560" y="6067440"/>
            <a:ext cx="2743200" cy="368280"/>
          </a:xfrm>
          <a:prstGeom prst="rect">
            <a:avLst/>
          </a:prstGeom>
          <a:solidFill>
            <a:srgbClr val="def59d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KEUNTUNG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12"/>
          <p:cNvSpPr/>
          <p:nvPr/>
        </p:nvSpPr>
        <p:spPr>
          <a:xfrm>
            <a:off x="4775040" y="5327640"/>
            <a:ext cx="0" cy="739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13"/>
          <p:cNvSpPr/>
          <p:nvPr/>
        </p:nvSpPr>
        <p:spPr>
          <a:xfrm>
            <a:off x="2133720" y="416736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14"/>
          <p:cNvSpPr/>
          <p:nvPr/>
        </p:nvSpPr>
        <p:spPr>
          <a:xfrm>
            <a:off x="2133720" y="6224760"/>
            <a:ext cx="1320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15"/>
          <p:cNvSpPr/>
          <p:nvPr/>
        </p:nvSpPr>
        <p:spPr>
          <a:xfrm flipV="1">
            <a:off x="7620120" y="416700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16"/>
          <p:cNvSpPr/>
          <p:nvPr/>
        </p:nvSpPr>
        <p:spPr>
          <a:xfrm flipH="1">
            <a:off x="6197400" y="6224760"/>
            <a:ext cx="142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17"/>
          <p:cNvSpPr/>
          <p:nvPr/>
        </p:nvSpPr>
        <p:spPr>
          <a:xfrm flipV="1">
            <a:off x="4775040" y="3324240"/>
            <a:ext cx="0" cy="15811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18"/>
          <p:cNvSpPr/>
          <p:nvPr/>
        </p:nvSpPr>
        <p:spPr>
          <a:xfrm>
            <a:off x="3048120" y="4114800"/>
            <a:ext cx="1117440" cy="738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19"/>
          <p:cNvSpPr/>
          <p:nvPr/>
        </p:nvSpPr>
        <p:spPr>
          <a:xfrm flipH="1">
            <a:off x="5486040" y="4167360"/>
            <a:ext cx="13208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Text Box 20"/>
          <p:cNvSpPr/>
          <p:nvPr/>
        </p:nvSpPr>
        <p:spPr>
          <a:xfrm>
            <a:off x="5303520" y="4314960"/>
            <a:ext cx="65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ODAL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100 %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Text Box 21"/>
          <p:cNvSpPr/>
          <p:nvPr/>
        </p:nvSpPr>
        <p:spPr>
          <a:xfrm>
            <a:off x="3556080" y="4167360"/>
            <a:ext cx="1117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ENAG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KERJ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Text Box 22"/>
          <p:cNvSpPr/>
          <p:nvPr/>
        </p:nvSpPr>
        <p:spPr>
          <a:xfrm>
            <a:off x="1320840" y="5222880"/>
            <a:ext cx="162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100 %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Text Box 23"/>
          <p:cNvSpPr/>
          <p:nvPr/>
        </p:nvSpPr>
        <p:spPr>
          <a:xfrm>
            <a:off x="7620120" y="5170320"/>
            <a:ext cx="1625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KEMBALI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ODAL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Jasa L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762120" y="2286000"/>
            <a:ext cx="8153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kad jual beli Valuta asing yang dilakukan secara tunai maupun non tunai dengan tujuan tidak untuk berspekula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rinsip Wadia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14400" y="2286000"/>
            <a:ext cx="78487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kad titipan pihak yang mempunyai barang atau uang kepada pihak yang diberi kepercayaan untuk keselamatan, keamanan serta keutuhan hart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tipan terseb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rdasarkan jenisnya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diah Yad Amanah, aplikasi di LKS adalah Saf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osit Bo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diah Yad Dhamanah, aplikasi di LKS adala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ro dan tabung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8380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kema Wadiah Yad  Amanah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4419720"/>
            <a:ext cx="815328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Wadiah Yad al Amanah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yimpan tidak boleh memanfaatkan barang/uang titip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yimpan dapat mengenakan biaya penitip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762120" y="304920"/>
            <a:ext cx="7848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838080" y="22096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cap="sq"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Anggo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(Penit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6553080" y="2209680"/>
            <a:ext cx="1828800" cy="106704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Penyimpa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Line 7"/>
          <p:cNvSpPr/>
          <p:nvPr/>
        </p:nvSpPr>
        <p:spPr>
          <a:xfrm>
            <a:off x="2971800" y="2514600"/>
            <a:ext cx="327672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AutoShape 8"/>
          <p:cNvSpPr/>
          <p:nvPr/>
        </p:nvSpPr>
        <p:spPr>
          <a:xfrm>
            <a:off x="2819520" y="1905120"/>
            <a:ext cx="2666880" cy="380880"/>
          </a:xfrm>
          <a:prstGeom prst="wedgeRectCallout">
            <a:avLst>
              <a:gd name="adj1" fmla="val 17856"/>
              <a:gd name="adj2" fmla="val 92083"/>
            </a:avLst>
          </a:prstGeom>
          <a:solidFill>
            <a:srgbClr val="ffcf01"/>
          </a:solidFill>
          <a:ln cap="sq"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c1c1c"/>
                </a:solidFill>
                <a:latin typeface="Times New Roman"/>
              </a:rPr>
              <a:t>1. Titip barang/ua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Line 9"/>
          <p:cNvSpPr/>
          <p:nvPr/>
        </p:nvSpPr>
        <p:spPr>
          <a:xfrm flipH="1">
            <a:off x="2971800" y="2895480"/>
            <a:ext cx="320040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AutoShape 10"/>
          <p:cNvSpPr/>
          <p:nvPr/>
        </p:nvSpPr>
        <p:spPr>
          <a:xfrm>
            <a:off x="3048120" y="3276720"/>
            <a:ext cx="3352680" cy="457200"/>
          </a:xfrm>
          <a:prstGeom prst="wedgeRectCallout">
            <a:avLst>
              <a:gd name="adj1" fmla="val 18180"/>
              <a:gd name="adj2" fmla="val -119097"/>
            </a:avLst>
          </a:prstGeom>
          <a:solidFill>
            <a:srgbClr val="ffcf01"/>
          </a:solidFill>
          <a:ln cap="sq"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c1c1c"/>
                </a:solidFill>
                <a:latin typeface="Times New Roman"/>
              </a:rPr>
              <a:t>2. Bebankan biaya peniti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83808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kema  Wadiah Yad  Dhamanah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240" y="4074840"/>
            <a:ext cx="5334120" cy="2057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adiah Yad adh Dhamana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nyimpan boleh memanfaatkan barang/uang titipa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untungan sepenuhnya menjadi milik penyimpa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nyimpan dapat memberikan insentif (bonus) kepada peniti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762120" y="304920"/>
            <a:ext cx="7848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685800" y="1828800"/>
            <a:ext cx="1828800" cy="10666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cap="sq"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Anggo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(Penit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6477120" y="1828800"/>
            <a:ext cx="1828800" cy="106668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Penyimpa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2895480" y="2209680"/>
            <a:ext cx="327672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2666880" y="1523880"/>
            <a:ext cx="2514600" cy="381240"/>
          </a:xfrm>
          <a:prstGeom prst="wedgeRectCallout">
            <a:avLst>
              <a:gd name="adj1" fmla="val 28032"/>
              <a:gd name="adj2" fmla="val 132083"/>
            </a:avLst>
          </a:prstGeom>
          <a:solidFill>
            <a:srgbClr val="ffcf01"/>
          </a:solidFill>
          <a:ln cap="sq"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c1c1c"/>
                </a:solidFill>
                <a:latin typeface="Times New Roman"/>
              </a:rPr>
              <a:t>1. Titip Barang/ua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Line 9"/>
          <p:cNvSpPr/>
          <p:nvPr/>
        </p:nvSpPr>
        <p:spPr>
          <a:xfrm flipH="1">
            <a:off x="2895480" y="2590920"/>
            <a:ext cx="320040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2743200" y="2895480"/>
            <a:ext cx="1981080" cy="457200"/>
          </a:xfrm>
          <a:prstGeom prst="wedgeRectCallout">
            <a:avLst>
              <a:gd name="adj1" fmla="val 57694"/>
              <a:gd name="adj2" fmla="val -102430"/>
            </a:avLst>
          </a:prstGeom>
          <a:solidFill>
            <a:srgbClr val="ffcf01"/>
          </a:solidFill>
          <a:ln cap="sq"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c1c1c"/>
                </a:solidFill>
                <a:latin typeface="Times New Roman"/>
              </a:rPr>
              <a:t>4. Beri Bon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AutoShape 11"/>
          <p:cNvSpPr/>
          <p:nvPr/>
        </p:nvSpPr>
        <p:spPr>
          <a:xfrm>
            <a:off x="6553080" y="5029200"/>
            <a:ext cx="1905120" cy="106668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enggu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a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12"/>
          <p:cNvSpPr/>
          <p:nvPr/>
        </p:nvSpPr>
        <p:spPr>
          <a:xfrm>
            <a:off x="7467480" y="3048120"/>
            <a:ext cx="0" cy="19047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7162920" y="2971800"/>
            <a:ext cx="0" cy="1905120"/>
          </a:xfrm>
          <a:prstGeom prst="line">
            <a:avLst/>
          </a:prstGeom>
          <a:ln cap="sq"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AutoShape 14"/>
          <p:cNvSpPr/>
          <p:nvPr/>
        </p:nvSpPr>
        <p:spPr>
          <a:xfrm>
            <a:off x="7620120" y="3124080"/>
            <a:ext cx="1523880" cy="1219320"/>
          </a:xfrm>
          <a:prstGeom prst="wedgeRectCallout">
            <a:avLst>
              <a:gd name="adj1" fmla="val -38750"/>
              <a:gd name="adj2" fmla="val 72527"/>
            </a:avLst>
          </a:prstGeom>
          <a:solidFill>
            <a:srgbClr val="ffcf01"/>
          </a:solidFill>
          <a:ln cap="sq"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c1c1c"/>
                </a:solidFill>
                <a:latin typeface="Times New Roman"/>
              </a:rPr>
              <a:t>2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c1c1c"/>
                </a:solidFill>
                <a:latin typeface="Times New Roman"/>
              </a:rPr>
              <a:t>Pemanfaat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c1c1c"/>
                </a:solidFill>
                <a:latin typeface="Times New Roman"/>
              </a:rPr>
              <a:t>Barang/ua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AutoShape 15"/>
          <p:cNvSpPr/>
          <p:nvPr/>
        </p:nvSpPr>
        <p:spPr>
          <a:xfrm>
            <a:off x="5334120" y="3505320"/>
            <a:ext cx="1523880" cy="457200"/>
          </a:xfrm>
          <a:prstGeom prst="wedgeRectCallout">
            <a:avLst>
              <a:gd name="adj1" fmla="val 67500"/>
              <a:gd name="adj2" fmla="val 176736"/>
            </a:avLst>
          </a:prstGeom>
          <a:solidFill>
            <a:srgbClr val="ffcf01"/>
          </a:solidFill>
          <a:ln cap="sq"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c1c1c"/>
                </a:solidFill>
                <a:latin typeface="Times New Roman"/>
              </a:rPr>
              <a:t>3.Bagi Hasil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rinsip Mudharaba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762120" y="1905120"/>
            <a:ext cx="792468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rupakan akad antara pemilik dana sebagai “Shahibul Maal” dengan LKS sebagai pengelola dana atau “Mudharib” untuk mengelola dana dan memperoleh keuntungan serta dibagi sesuai nisbah yang disepakati pada awal ak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rdasarkan kewenangan yang diberikan kepada mudharib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dharabah Mutlaqah, aplikasi di LKS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rupakan investasi tidak terikat berupa deposito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au tabung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dharabah Muqayyadah, Investasi terik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1101600"/>
            <a:ext cx="779292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ahoma"/>
              </a:rPr>
              <a:t>Skema Mudharabah Mutlaqah</a:t>
            </a: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762120" y="304920"/>
            <a:ext cx="7848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Oval 4"/>
          <p:cNvSpPr/>
          <p:nvPr/>
        </p:nvSpPr>
        <p:spPr>
          <a:xfrm>
            <a:off x="990720" y="2286000"/>
            <a:ext cx="2514600" cy="8380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L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1c1c1c"/>
                </a:solidFill>
                <a:latin typeface="Times New Roman"/>
              </a:rPr>
              <a:t>Mudharib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Oval 5"/>
          <p:cNvSpPr/>
          <p:nvPr/>
        </p:nvSpPr>
        <p:spPr>
          <a:xfrm>
            <a:off x="6172200" y="2209680"/>
            <a:ext cx="2666880" cy="83844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Anggo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1c1c1c"/>
                </a:solidFill>
                <a:latin typeface="Times New Roman"/>
              </a:rPr>
              <a:t>Shahibul Maal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AutoShape 6"/>
          <p:cNvSpPr/>
          <p:nvPr/>
        </p:nvSpPr>
        <p:spPr>
          <a:xfrm>
            <a:off x="3733920" y="3962520"/>
            <a:ext cx="2057400" cy="609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Proyek/Usah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3124080" y="4952880"/>
            <a:ext cx="3276720" cy="3812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Pembagian Keuntung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124080" y="5715000"/>
            <a:ext cx="3276720" cy="38088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Mod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77" name="AutoShape 9"/>
          <p:cNvCxnSpPr>
            <a:stCxn id="175" idx="3"/>
            <a:endCxn id="173" idx="4"/>
          </p:cNvCxnSpPr>
          <p:nvPr/>
        </p:nvCxnSpPr>
        <p:spPr>
          <a:xfrm flipV="1">
            <a:off x="6400440" y="3047400"/>
            <a:ext cx="1105560" cy="209628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AutoShape 10"/>
          <p:cNvCxnSpPr>
            <a:stCxn id="176" idx="3"/>
          </p:cNvCxnSpPr>
          <p:nvPr/>
        </p:nvCxnSpPr>
        <p:spPr>
          <a:xfrm flipV="1">
            <a:off x="6400800" y="3047400"/>
            <a:ext cx="1486800" cy="285804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AutoShape 11"/>
          <p:cNvCxnSpPr>
            <a:stCxn id="175" idx="1"/>
          </p:cNvCxnSpPr>
          <p:nvPr/>
        </p:nvCxnSpPr>
        <p:spPr>
          <a:xfrm rot="10800000">
            <a:off x="2094840" y="3047400"/>
            <a:ext cx="1028880" cy="209628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AutoShape 12"/>
          <p:cNvCxnSpPr>
            <a:endCxn id="181" idx="1"/>
          </p:cNvCxnSpPr>
          <p:nvPr/>
        </p:nvCxnSpPr>
        <p:spPr>
          <a:xfrm flipH="1" rot="10800000">
            <a:off x="2057040" y="1942560"/>
            <a:ext cx="1067400" cy="343440"/>
          </a:xfrm>
          <a:prstGeom prst="bentConnector3">
            <a:avLst>
              <a:gd name="adj1" fmla="val -3711"/>
            </a:avLst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Rectangle 13"/>
          <p:cNvSpPr/>
          <p:nvPr/>
        </p:nvSpPr>
        <p:spPr>
          <a:xfrm>
            <a:off x="3124080" y="1752480"/>
            <a:ext cx="3276720" cy="3812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Perjanjian Bagi Has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82" name="AutoShape 14"/>
          <p:cNvCxnSpPr>
            <a:stCxn id="173" idx="0"/>
            <a:endCxn id="181" idx="3"/>
          </p:cNvCxnSpPr>
          <p:nvPr/>
        </p:nvCxnSpPr>
        <p:spPr>
          <a:xfrm flipV="1" rot="16200000">
            <a:off x="6819480" y="1523520"/>
            <a:ext cx="267120" cy="110556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AutoShape 15"/>
          <p:cNvCxnSpPr>
            <a:stCxn id="173" idx="3"/>
          </p:cNvCxnSpPr>
          <p:nvPr/>
        </p:nvCxnSpPr>
        <p:spPr>
          <a:xfrm flipH="1">
            <a:off x="5943240" y="2925720"/>
            <a:ext cx="619920" cy="88488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AutoShape 16"/>
          <p:cNvCxnSpPr>
            <a:stCxn id="172" idx="5"/>
          </p:cNvCxnSpPr>
          <p:nvPr/>
        </p:nvCxnSpPr>
        <p:spPr>
          <a:xfrm>
            <a:off x="3137040" y="3001680"/>
            <a:ext cx="597600" cy="73260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AutoShape 17"/>
          <p:cNvCxnSpPr/>
          <p:nvPr/>
        </p:nvCxnSpPr>
        <p:spPr>
          <a:xfrm>
            <a:off x="4800240" y="2362320"/>
            <a:ext cx="1080" cy="137232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AutoShape 18"/>
          <p:cNvCxnSpPr>
            <a:stCxn id="174" idx="2"/>
            <a:endCxn id="175" idx="0"/>
          </p:cNvCxnSpPr>
          <p:nvPr/>
        </p:nvCxnSpPr>
        <p:spPr>
          <a:xfrm>
            <a:off x="4762080" y="4572000"/>
            <a:ext cx="1080" cy="38160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AutoShape 19"/>
          <p:cNvCxnSpPr/>
          <p:nvPr/>
        </p:nvCxnSpPr>
        <p:spPr>
          <a:xfrm>
            <a:off x="4800240" y="5334120"/>
            <a:ext cx="1080" cy="38160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AutoShape 20"/>
          <p:cNvSpPr/>
          <p:nvPr/>
        </p:nvSpPr>
        <p:spPr>
          <a:xfrm flipH="1">
            <a:off x="838080" y="4629240"/>
            <a:ext cx="99072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017" y="11882"/>
                </a:moveTo>
                <a:lnTo>
                  <a:pt x="-1662" y="2422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sba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AutoShape 21"/>
          <p:cNvSpPr/>
          <p:nvPr/>
        </p:nvSpPr>
        <p:spPr>
          <a:xfrm flipH="1">
            <a:off x="6019920" y="4113360"/>
            <a:ext cx="137160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7447" y="29363"/>
                </a:moveTo>
                <a:lnTo>
                  <a:pt x="7450" y="2422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sba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22"/>
          <p:cNvSpPr/>
          <p:nvPr/>
        </p:nvSpPr>
        <p:spPr>
          <a:xfrm flipH="1">
            <a:off x="5105520" y="2630520"/>
            <a:ext cx="91440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299" y="5069"/>
                </a:moveTo>
                <a:lnTo>
                  <a:pt x="-1800" y="3455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AutoShape 23"/>
          <p:cNvSpPr/>
          <p:nvPr/>
        </p:nvSpPr>
        <p:spPr>
          <a:xfrm flipH="1">
            <a:off x="3351960" y="2895480"/>
            <a:ext cx="121932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9037" y="6272"/>
                </a:moveTo>
                <a:lnTo>
                  <a:pt x="22950" y="6027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ahli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AutoShape 24"/>
          <p:cNvSpPr/>
          <p:nvPr/>
        </p:nvSpPr>
        <p:spPr>
          <a:xfrm flipH="1">
            <a:off x="6780960" y="5181480"/>
            <a:ext cx="213372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14815" y="44028"/>
                </a:moveTo>
                <a:lnTo>
                  <a:pt x="14817" y="2422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gembalia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al Pok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Mudharabah Muqayyadah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Oval 3"/>
          <p:cNvSpPr/>
          <p:nvPr/>
        </p:nvSpPr>
        <p:spPr>
          <a:xfrm>
            <a:off x="914400" y="2719440"/>
            <a:ext cx="2336760" cy="938160"/>
          </a:xfrm>
          <a:prstGeom prst="ellipse">
            <a:avLst/>
          </a:prstGeom>
          <a:solidFill>
            <a:srgbClr val="def59d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PECIAL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5994360" y="2438280"/>
            <a:ext cx="2438280" cy="1143000"/>
          </a:xfrm>
          <a:prstGeom prst="ellipse">
            <a:avLst/>
          </a:prstGeom>
          <a:solidFill>
            <a:srgbClr val="def59d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LK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Mudhari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(Pengelol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Oval 5"/>
          <p:cNvSpPr/>
          <p:nvPr/>
        </p:nvSpPr>
        <p:spPr>
          <a:xfrm>
            <a:off x="6095880" y="5105520"/>
            <a:ext cx="2438640" cy="1218960"/>
          </a:xfrm>
          <a:prstGeom prst="ellipse">
            <a:avLst/>
          </a:prstGeom>
          <a:solidFill>
            <a:srgbClr val="def59d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Anggo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hahibul Ma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(Pemilik modal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3251160" y="289548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Line 7"/>
          <p:cNvSpPr/>
          <p:nvPr/>
        </p:nvSpPr>
        <p:spPr>
          <a:xfrm flipH="1">
            <a:off x="3352680" y="3124080"/>
            <a:ext cx="2438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Line 8"/>
          <p:cNvSpPr/>
          <p:nvPr/>
        </p:nvSpPr>
        <p:spPr>
          <a:xfrm>
            <a:off x="3251160" y="350532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Line 9"/>
          <p:cNvSpPr/>
          <p:nvPr/>
        </p:nvSpPr>
        <p:spPr>
          <a:xfrm>
            <a:off x="8128080" y="3505320"/>
            <a:ext cx="0" cy="1476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Line 10"/>
          <p:cNvSpPr/>
          <p:nvPr/>
        </p:nvSpPr>
        <p:spPr>
          <a:xfrm flipV="1">
            <a:off x="7518240" y="358128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11"/>
          <p:cNvSpPr/>
          <p:nvPr/>
        </p:nvSpPr>
        <p:spPr>
          <a:xfrm>
            <a:off x="6807240" y="358128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5446440" y="3962520"/>
            <a:ext cx="157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6. Bagi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asil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6807240" y="4191120"/>
            <a:ext cx="812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3 Inv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an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Text Box 14"/>
          <p:cNvSpPr/>
          <p:nvPr/>
        </p:nvSpPr>
        <p:spPr>
          <a:xfrm>
            <a:off x="8128080" y="4038480"/>
            <a:ext cx="9144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2 Hubungi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Investor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Text Box 15"/>
          <p:cNvSpPr/>
          <p:nvPr/>
        </p:nvSpPr>
        <p:spPr>
          <a:xfrm>
            <a:off x="3556080" y="3505320"/>
            <a:ext cx="243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5  Bagi Hasil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Text Box 16"/>
          <p:cNvSpPr/>
          <p:nvPr/>
        </p:nvSpPr>
        <p:spPr>
          <a:xfrm>
            <a:off x="3657600" y="3124080"/>
            <a:ext cx="33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4 Penyaluran Dan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Text Box 17"/>
          <p:cNvSpPr/>
          <p:nvPr/>
        </p:nvSpPr>
        <p:spPr>
          <a:xfrm>
            <a:off x="3556080" y="2666880"/>
            <a:ext cx="243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1  Proyek Tertentu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23:35:55Z</dcterms:created>
  <dc:creator>MUAMALAT</dc:creator>
  <dc:description/>
  <dc:language>en-US</dc:language>
  <cp:lastModifiedBy>admin</cp:lastModifiedBy>
  <dcterms:modified xsi:type="dcterms:W3CDTF">2015-06-30T13:31:30Z</dcterms:modified>
  <cp:revision>56</cp:revision>
  <dc:subject/>
  <dc:title>PEMBIAYAAN</dc:title>
</cp:coreProperties>
</file>