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CCE7-7B6A-4824-BA69-EF9EB60B70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6EDD-F505-43E0-BA03-2FA2677962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A1A-23E9-4F5A-9961-E9525473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8F90-9ED7-4F05-B680-D34EEDC4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C2B-0252-4959-96AE-F6D4D666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0A0F-5118-4A05-8B98-802B93CE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4F6A-3D1D-4DF6-8BF5-21B27E7D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892D-029A-4E2A-A67A-2AA5CDCA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84E3-723F-4573-B3B8-2451840E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2881-99E2-468C-83EC-324FE80F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15E5-7C81-454E-A8C3-1033CC66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FD9D-9300-4A7B-91B4-EFC4D326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4A29-48C3-4E8E-8E68-B5CBBB3A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7EB-6461-4D6E-AD4A-C0862084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6AB7-5C55-4DF2-8632-A9856A3E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BFC3-A3AA-412E-8E93-7247ED38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07D6-61B2-4C62-A725-2870AF24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CE26-9A99-484B-8F7D-98F032E0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B612-3B4E-48BE-A681-BFBA654F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C0C-F330-46F1-9810-EAD37D09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0C6F-FFA8-434A-8F9B-C71C5025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A72-EF96-4CCA-B7C7-531070EB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9635-79F1-485C-B656-0C13AC52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E65-0C67-446D-9AA6-312C7C01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5B38-111B-4BFE-B3A3-A9CC292C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03C9-8758-4200-BB6B-590BB674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D209-0BFD-41F9-B626-43A67CD6F5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2DD4-68B7-4357-B48A-06A41D5BD6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2"/>
          <p:cNvSpPr/>
          <p:nvPr/>
        </p:nvSpPr>
        <p:spPr>
          <a:xfrm>
            <a:off x="1295280" y="4572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PENGETAHUAN PRODUK</a:t>
            </a:r>
            <a:r>
              <a:rPr b="1" lang="id-ID" sz="3600" spc="-1" strike="noStrike">
                <a:solidFill>
                  <a:srgbClr val="ff0000"/>
                </a:solidFill>
                <a:latin typeface="Tahoma"/>
              </a:rPr>
              <a:t> SYARIA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1295280" y="28195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ff0000"/>
                </a:solidFill>
                <a:latin typeface="Tahoma"/>
              </a:rPr>
              <a:t>ALI HAMDAN, S.Si, ME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m bagi hasil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idak dapat memastikan keuntungan di muk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karena harus memperhitungkan hasil invest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ara finansial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idak ada kepasti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istem bagi hasil lebih besar/kecil dari bunga dan sebaliknya,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ergantung pada besar indeks hasil investas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ri LKS yb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m bunga akan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ebih ringk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api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idak ad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n potensi memberatk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"/>
          <p:cNvSpPr/>
          <p:nvPr/>
        </p:nvSpPr>
        <p:spPr>
          <a:xfrm>
            <a:off x="5418000" y="304920"/>
            <a:ext cx="3448080" cy="1295280"/>
          </a:xfrm>
          <a:prstGeom prst="cloudCallout">
            <a:avLst>
              <a:gd name="adj1" fmla="val 1486"/>
              <a:gd name="adj2" fmla="val 108212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10120" y="457200"/>
            <a:ext cx="2673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nyaluran da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92120" y="2286000"/>
          <a:ext cx="6137280" cy="3849840"/>
        </p:xfrm>
        <a:graphic>
          <a:graphicData uri="http://schemas.openxmlformats.org/drawingml/2006/table">
            <a:tbl>
              <a:tblPr/>
              <a:tblGrid>
                <a:gridCol w="1871640"/>
                <a:gridCol w="426564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nsip Jual Be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rabah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tishna, Istishna paral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am, Salam Paral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nsip Bagi has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jr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mbiayaan Mudharab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mbiayaan Musyarak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jarah, Ijarah Muntahia Bitaml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4" name="Picture 15" descr="A007"/>
          <p:cNvPicPr/>
          <p:nvPr/>
        </p:nvPicPr>
        <p:blipFill>
          <a:blip r:embed="rId1"/>
          <a:stretch/>
        </p:blipFill>
        <p:spPr>
          <a:xfrm>
            <a:off x="6705720" y="2438280"/>
            <a:ext cx="2438280" cy="2949840"/>
          </a:xfrm>
          <a:prstGeom prst="rect">
            <a:avLst/>
          </a:prstGeom>
          <a:ln w="0">
            <a:noFill/>
          </a:ln>
        </p:spPr>
      </p:pic>
      <p:sp>
        <p:nvSpPr>
          <p:cNvPr id="215" name="Line 32"/>
          <p:cNvSpPr/>
          <p:nvPr/>
        </p:nvSpPr>
        <p:spPr>
          <a:xfrm>
            <a:off x="533520" y="4800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nsip Jual be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762120" y="1905120"/>
            <a:ext cx="78483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MURABAHA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rupakan akad jual beli antara LKS dengan Anggota, LKS membeli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arang dan menjual kepada Anggota sebesar harga pokok ditambah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ngan keuntungan yang disepakat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likasi, diterapkan untuk pembiayaan investas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AL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kad jual beli barang pesanan (muslam fiih) antara pembeli (muslam)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ngan penjual (muslam ilaih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pesifikasi (jenis, ukuran, jumlah, mutu) dan harga barang disepakati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awal akad dan pembayaran dilakukan dimuka secara penu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abila LKS bertindak sebagai penjual, kemudian memesan kepada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ihak lain untuk menyediakan barang disebut salam parale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likasi, diterapkan untuk produk agribisni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nsip Jual be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143000" y="175248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TISH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kad jual beli (mashnu’) antara pemesan (mustashni’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ngan penerima pesanan (shan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pesifikasi (jenis, macam, ukuran, mutu, jumlah) da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arga barang pesanan disepakati diawal akad dengan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mbayaran dilakukan sesuai kesepakatan ( dimuka,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icilan dan dibelaka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pabila LKS bertindak sebagai shani’ kemudia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nunjuk pihak lain untuk membuat barang disebu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tishna paral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plikasi di LKS, manufaktur, industri keci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nengah dan konstruks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1025280"/>
            <a:ext cx="779292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kema Murabahah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Oval 4"/>
          <p:cNvSpPr/>
          <p:nvPr/>
        </p:nvSpPr>
        <p:spPr>
          <a:xfrm>
            <a:off x="990720" y="2971800"/>
            <a:ext cx="251460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L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6172200" y="2971800"/>
            <a:ext cx="266688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Anggo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4" name="AutoShape 6"/>
          <p:cNvCxnSpPr>
            <a:stCxn id="225" idx="6"/>
          </p:cNvCxnSpPr>
          <p:nvPr/>
        </p:nvCxnSpPr>
        <p:spPr>
          <a:xfrm flipV="1">
            <a:off x="6095880" y="3961800"/>
            <a:ext cx="1448640" cy="1105560"/>
          </a:xfrm>
          <a:prstGeom prst="bentConnector3">
            <a:avLst>
              <a:gd name="adj1" fmla="val 102510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7"/>
          <p:cNvCxnSpPr>
            <a:stCxn id="225" idx="2"/>
          </p:cNvCxnSpPr>
          <p:nvPr/>
        </p:nvCxnSpPr>
        <p:spPr>
          <a:xfrm rot="10800000">
            <a:off x="2056680" y="3885480"/>
            <a:ext cx="1372320" cy="11818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8"/>
          <p:cNvCxnSpPr/>
          <p:nvPr/>
        </p:nvCxnSpPr>
        <p:spPr>
          <a:xfrm flipH="1" flipV="1" rot="5400000">
            <a:off x="1980720" y="2057040"/>
            <a:ext cx="1029600" cy="876960"/>
          </a:xfrm>
          <a:prstGeom prst="bent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28" name="Rectangle 9"/>
          <p:cNvSpPr/>
          <p:nvPr/>
        </p:nvSpPr>
        <p:spPr>
          <a:xfrm>
            <a:off x="3124080" y="1752480"/>
            <a:ext cx="3276720" cy="38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1. Negosiasi &amp; Persyarat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9" name="AutoShape 10"/>
          <p:cNvCxnSpPr>
            <a:stCxn id="223" idx="0"/>
            <a:endCxn id="228" idx="3"/>
          </p:cNvCxnSpPr>
          <p:nvPr/>
        </p:nvCxnSpPr>
        <p:spPr>
          <a:xfrm flipV="1" rot="16200000">
            <a:off x="6438600" y="1904400"/>
            <a:ext cx="1028880" cy="1105560"/>
          </a:xfrm>
          <a:prstGeom prst="bent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30" name="AutoShape 11"/>
          <p:cNvSpPr/>
          <p:nvPr/>
        </p:nvSpPr>
        <p:spPr>
          <a:xfrm flipH="1">
            <a:off x="914400" y="4648320"/>
            <a:ext cx="129528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115" y="20349"/>
                </a:moveTo>
                <a:lnTo>
                  <a:pt x="-1271" y="5254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Be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AutoShape 12"/>
          <p:cNvSpPr/>
          <p:nvPr/>
        </p:nvSpPr>
        <p:spPr>
          <a:xfrm flipH="1">
            <a:off x="6019920" y="4648320"/>
            <a:ext cx="13716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447" y="29561"/>
                </a:moveTo>
                <a:lnTo>
                  <a:pt x="7450" y="2422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Kir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AutoShape 13"/>
          <p:cNvSpPr/>
          <p:nvPr/>
        </p:nvSpPr>
        <p:spPr>
          <a:xfrm flipH="1">
            <a:off x="3733200" y="2612880"/>
            <a:ext cx="236196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12" y="5510"/>
                </a:moveTo>
                <a:lnTo>
                  <a:pt x="-697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Akad Jual Be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AutoShape 14"/>
          <p:cNvSpPr/>
          <p:nvPr/>
        </p:nvSpPr>
        <p:spPr>
          <a:xfrm flipH="1">
            <a:off x="4114800" y="3656160"/>
            <a:ext cx="144792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913" y="14180"/>
                </a:moveTo>
                <a:lnTo>
                  <a:pt x="22736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Bay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AutoShape 15"/>
          <p:cNvSpPr/>
          <p:nvPr/>
        </p:nvSpPr>
        <p:spPr>
          <a:xfrm flipH="1">
            <a:off x="7467480" y="3733920"/>
            <a:ext cx="152424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7504" y="43445"/>
                </a:moveTo>
                <a:lnTo>
                  <a:pt x="17505" y="564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Teri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Oval 16"/>
          <p:cNvSpPr/>
          <p:nvPr/>
        </p:nvSpPr>
        <p:spPr>
          <a:xfrm>
            <a:off x="3429000" y="4648320"/>
            <a:ext cx="266688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PENJ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SUPPLI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657600" y="3276720"/>
            <a:ext cx="23623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3657600" y="3581280"/>
            <a:ext cx="23623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1177920"/>
            <a:ext cx="77929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kema Istishna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990720" y="1924200"/>
            <a:ext cx="251460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PRODU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PEMBUAT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AutoShape 6"/>
          <p:cNvSpPr/>
          <p:nvPr/>
        </p:nvSpPr>
        <p:spPr>
          <a:xfrm flipH="1">
            <a:off x="1370880" y="3774960"/>
            <a:ext cx="16002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85" y="4090"/>
                </a:moveTo>
                <a:lnTo>
                  <a:pt x="-1029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agi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8"/>
          <p:cNvSpPr/>
          <p:nvPr/>
        </p:nvSpPr>
        <p:spPr>
          <a:xfrm flipH="1">
            <a:off x="5410080" y="2593800"/>
            <a:ext cx="236232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11" y="5442"/>
                </a:moveTo>
                <a:lnTo>
                  <a:pt x="-697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Kirim BarangPesan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AutoShape 9"/>
          <p:cNvSpPr/>
          <p:nvPr/>
        </p:nvSpPr>
        <p:spPr>
          <a:xfrm flipH="1">
            <a:off x="3048120" y="3457440"/>
            <a:ext cx="18288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998" y="3870"/>
                </a:moveTo>
                <a:lnTo>
                  <a:pt x="22500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Negosi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Oval 11"/>
          <p:cNvSpPr/>
          <p:nvPr/>
        </p:nvSpPr>
        <p:spPr>
          <a:xfrm>
            <a:off x="3429000" y="4648320"/>
            <a:ext cx="266688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L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15"/>
          <p:cNvSpPr/>
          <p:nvPr/>
        </p:nvSpPr>
        <p:spPr>
          <a:xfrm flipH="1" flipV="1">
            <a:off x="2438280" y="2971440"/>
            <a:ext cx="106704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16"/>
          <p:cNvSpPr/>
          <p:nvPr/>
        </p:nvSpPr>
        <p:spPr>
          <a:xfrm flipH="1" flipV="1">
            <a:off x="2133360" y="2971440"/>
            <a:ext cx="106668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19"/>
          <p:cNvSpPr/>
          <p:nvPr/>
        </p:nvSpPr>
        <p:spPr>
          <a:xfrm>
            <a:off x="3657600" y="2362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20"/>
          <p:cNvSpPr/>
          <p:nvPr/>
        </p:nvSpPr>
        <p:spPr>
          <a:xfrm>
            <a:off x="5562720" y="23623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1177920"/>
            <a:ext cx="77929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kema Istishna Parale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990720" y="1924200"/>
            <a:ext cx="251460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PRODU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PEMBUAT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Oval 5"/>
          <p:cNvSpPr/>
          <p:nvPr/>
        </p:nvSpPr>
        <p:spPr>
          <a:xfrm>
            <a:off x="6172200" y="1959120"/>
            <a:ext cx="266688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KONSU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PEMBEL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AutoShape 6"/>
          <p:cNvSpPr/>
          <p:nvPr/>
        </p:nvSpPr>
        <p:spPr>
          <a:xfrm flipH="1">
            <a:off x="1370880" y="3774960"/>
            <a:ext cx="16002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85" y="4090"/>
                </a:moveTo>
                <a:lnTo>
                  <a:pt x="-1029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Tagi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AutoShape 7"/>
          <p:cNvSpPr/>
          <p:nvPr/>
        </p:nvSpPr>
        <p:spPr>
          <a:xfrm flipH="1">
            <a:off x="5791320" y="2895480"/>
            <a:ext cx="13716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447" y="29594"/>
                </a:moveTo>
                <a:lnTo>
                  <a:pt x="7450" y="2422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Bay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AutoShape 8"/>
          <p:cNvSpPr/>
          <p:nvPr/>
        </p:nvSpPr>
        <p:spPr>
          <a:xfrm flipH="1">
            <a:off x="3657600" y="1908000"/>
            <a:ext cx="236232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11" y="5442"/>
                </a:moveTo>
                <a:lnTo>
                  <a:pt x="-697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Kirim BarangPesan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AutoShape 9"/>
          <p:cNvSpPr/>
          <p:nvPr/>
        </p:nvSpPr>
        <p:spPr>
          <a:xfrm flipH="1">
            <a:off x="3048120" y="3457440"/>
            <a:ext cx="18288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998" y="3870"/>
                </a:moveTo>
                <a:lnTo>
                  <a:pt x="22500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Negosi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AutoShape 10"/>
          <p:cNvSpPr/>
          <p:nvPr/>
        </p:nvSpPr>
        <p:spPr>
          <a:xfrm flipH="1">
            <a:off x="6629400" y="4422600"/>
            <a:ext cx="16416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" y="-9124"/>
                </a:moveTo>
                <a:lnTo>
                  <a:pt x="-1003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Negosi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Pes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Oval 11"/>
          <p:cNvSpPr/>
          <p:nvPr/>
        </p:nvSpPr>
        <p:spPr>
          <a:xfrm>
            <a:off x="3352680" y="4648320"/>
            <a:ext cx="266724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L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3657600" y="236232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13"/>
          <p:cNvSpPr/>
          <p:nvPr/>
        </p:nvSpPr>
        <p:spPr>
          <a:xfrm flipH="1">
            <a:off x="6095520" y="2971800"/>
            <a:ext cx="1219320" cy="16765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4"/>
          <p:cNvSpPr/>
          <p:nvPr/>
        </p:nvSpPr>
        <p:spPr>
          <a:xfrm flipH="1">
            <a:off x="6248160" y="3048120"/>
            <a:ext cx="1523880" cy="213336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5"/>
          <p:cNvSpPr/>
          <p:nvPr/>
        </p:nvSpPr>
        <p:spPr>
          <a:xfrm flipH="1" flipV="1">
            <a:off x="2438280" y="2971440"/>
            <a:ext cx="106704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Line 16"/>
          <p:cNvSpPr/>
          <p:nvPr/>
        </p:nvSpPr>
        <p:spPr>
          <a:xfrm flipH="1" flipV="1">
            <a:off x="2133360" y="2971440"/>
            <a:ext cx="106668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17"/>
          <p:cNvSpPr/>
          <p:nvPr/>
        </p:nvSpPr>
        <p:spPr>
          <a:xfrm flipH="1">
            <a:off x="6248520" y="3124080"/>
            <a:ext cx="1218960" cy="167652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AutoShape 18"/>
          <p:cNvSpPr/>
          <p:nvPr/>
        </p:nvSpPr>
        <p:spPr>
          <a:xfrm flipH="1">
            <a:off x="6628680" y="3581280"/>
            <a:ext cx="16002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85" y="4090"/>
                </a:moveTo>
                <a:lnTo>
                  <a:pt x="-1029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agi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1101600"/>
            <a:ext cx="779292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kema Salam Parale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990720" y="1924200"/>
            <a:ext cx="251460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PENJ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PETANI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AutoShape 6"/>
          <p:cNvSpPr/>
          <p:nvPr/>
        </p:nvSpPr>
        <p:spPr>
          <a:xfrm flipH="1">
            <a:off x="913680" y="3774960"/>
            <a:ext cx="16002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85" y="4030"/>
                </a:moveTo>
                <a:lnTo>
                  <a:pt x="-1029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Kirim Doku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AutoShape 8"/>
          <p:cNvSpPr/>
          <p:nvPr/>
        </p:nvSpPr>
        <p:spPr>
          <a:xfrm flipH="1">
            <a:off x="5104800" y="2593800"/>
            <a:ext cx="236196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12" y="5442"/>
                </a:moveTo>
                <a:lnTo>
                  <a:pt x="-697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Kirim BarangPesan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AutoShape 9"/>
          <p:cNvSpPr/>
          <p:nvPr/>
        </p:nvSpPr>
        <p:spPr>
          <a:xfrm flipH="1">
            <a:off x="3048120" y="3457440"/>
            <a:ext cx="18288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998" y="3870"/>
                </a:moveTo>
                <a:lnTo>
                  <a:pt x="22500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Negosi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y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Oval 11"/>
          <p:cNvSpPr/>
          <p:nvPr/>
        </p:nvSpPr>
        <p:spPr>
          <a:xfrm>
            <a:off x="3429000" y="4648320"/>
            <a:ext cx="266688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L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5"/>
          <p:cNvSpPr/>
          <p:nvPr/>
        </p:nvSpPr>
        <p:spPr>
          <a:xfrm flipH="1" flipV="1">
            <a:off x="2438280" y="2971440"/>
            <a:ext cx="106704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6"/>
          <p:cNvSpPr/>
          <p:nvPr/>
        </p:nvSpPr>
        <p:spPr>
          <a:xfrm flipH="1" flipV="1">
            <a:off x="2133360" y="2971440"/>
            <a:ext cx="106668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17"/>
          <p:cNvSpPr/>
          <p:nvPr/>
        </p:nvSpPr>
        <p:spPr>
          <a:xfrm>
            <a:off x="3581280" y="23623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18"/>
          <p:cNvSpPr/>
          <p:nvPr/>
        </p:nvSpPr>
        <p:spPr>
          <a:xfrm>
            <a:off x="5257800" y="23623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101600"/>
            <a:ext cx="779292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kema Salam Parale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Oval 4"/>
          <p:cNvSpPr/>
          <p:nvPr/>
        </p:nvSpPr>
        <p:spPr>
          <a:xfrm>
            <a:off x="990720" y="1924200"/>
            <a:ext cx="251460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PENJ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PETANI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Oval 5"/>
          <p:cNvSpPr/>
          <p:nvPr/>
        </p:nvSpPr>
        <p:spPr>
          <a:xfrm>
            <a:off x="6172200" y="1959120"/>
            <a:ext cx="266688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PEMBE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AutoShape 6"/>
          <p:cNvSpPr/>
          <p:nvPr/>
        </p:nvSpPr>
        <p:spPr>
          <a:xfrm flipH="1">
            <a:off x="913680" y="3774960"/>
            <a:ext cx="16002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85" y="4030"/>
                </a:moveTo>
                <a:lnTo>
                  <a:pt x="-1029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Kirim Doku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AutoShape 7"/>
          <p:cNvSpPr/>
          <p:nvPr/>
        </p:nvSpPr>
        <p:spPr>
          <a:xfrm flipH="1">
            <a:off x="5410080" y="3492360"/>
            <a:ext cx="13716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447" y="29594"/>
                </a:moveTo>
                <a:lnTo>
                  <a:pt x="7450" y="2422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Bay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AutoShape 8"/>
          <p:cNvSpPr/>
          <p:nvPr/>
        </p:nvSpPr>
        <p:spPr>
          <a:xfrm flipH="1">
            <a:off x="3657600" y="1908000"/>
            <a:ext cx="236232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11" y="5442"/>
                </a:moveTo>
                <a:lnTo>
                  <a:pt x="-697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Kirim BarangPesan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AutoShape 9"/>
          <p:cNvSpPr/>
          <p:nvPr/>
        </p:nvSpPr>
        <p:spPr>
          <a:xfrm flipH="1">
            <a:off x="3048120" y="3457440"/>
            <a:ext cx="18288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998" y="3870"/>
                </a:moveTo>
                <a:lnTo>
                  <a:pt x="22500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Negosi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y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AutoShape 10"/>
          <p:cNvSpPr/>
          <p:nvPr/>
        </p:nvSpPr>
        <p:spPr>
          <a:xfrm flipH="1">
            <a:off x="6248520" y="3884760"/>
            <a:ext cx="259056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924" y="-9049"/>
                </a:moveTo>
                <a:lnTo>
                  <a:pt x="926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Negosi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Pes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Oval 11"/>
          <p:cNvSpPr/>
          <p:nvPr/>
        </p:nvSpPr>
        <p:spPr>
          <a:xfrm>
            <a:off x="3429000" y="4648320"/>
            <a:ext cx="266688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L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Line 12"/>
          <p:cNvSpPr/>
          <p:nvPr/>
        </p:nvSpPr>
        <p:spPr>
          <a:xfrm>
            <a:off x="3657600" y="236232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13"/>
          <p:cNvSpPr/>
          <p:nvPr/>
        </p:nvSpPr>
        <p:spPr>
          <a:xfrm flipH="1">
            <a:off x="6095520" y="2971800"/>
            <a:ext cx="1219320" cy="16765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14"/>
          <p:cNvSpPr/>
          <p:nvPr/>
        </p:nvSpPr>
        <p:spPr>
          <a:xfrm flipH="1">
            <a:off x="6248520" y="3124080"/>
            <a:ext cx="1218960" cy="167652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Line 15"/>
          <p:cNvSpPr/>
          <p:nvPr/>
        </p:nvSpPr>
        <p:spPr>
          <a:xfrm flipH="1" flipV="1">
            <a:off x="2438280" y="2971440"/>
            <a:ext cx="106704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16"/>
          <p:cNvSpPr/>
          <p:nvPr/>
        </p:nvSpPr>
        <p:spPr>
          <a:xfrm flipH="1" flipV="1">
            <a:off x="2133360" y="2971440"/>
            <a:ext cx="106668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nsip bagi has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990720" y="1752480"/>
            <a:ext cx="792468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DHARABAH (LKS SEBAGAI SHAHIBUL MA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ad antara pemilik modal dan pengelola dana untu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usaha guna mendapatkan keuntungan dan ak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bagi sesuai nisbah yang disepakati diawal ak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sip bagi hasil usaha terdiri dari revenue sharing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au profit 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YARAKA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ad untuk usaha patungan untuk membiayai usah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ang halal dan produkt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4419720" cy="609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Produk dan jasa  LK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92120" y="1752480"/>
            <a:ext cx="2814480" cy="459720"/>
          </a:xfrm>
          <a:prstGeom prst="rect">
            <a:avLst/>
          </a:prstGeom>
          <a:solidFill>
            <a:srgbClr val="ffff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enghimpun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800520" y="1752480"/>
            <a:ext cx="2601720" cy="459720"/>
          </a:xfrm>
          <a:prstGeom prst="rect">
            <a:avLst/>
          </a:prstGeom>
          <a:solidFill>
            <a:srgbClr val="66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enyalur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24520" y="1752480"/>
            <a:ext cx="2111400" cy="82548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Jasa keuang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703440" y="2666880"/>
            <a:ext cx="2603160" cy="1069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rinsip wadia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Gi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Tabung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03440" y="4114800"/>
            <a:ext cx="2954160" cy="14353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rinsip mudharaba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Depos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Tabung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221000" y="2362320"/>
            <a:ext cx="2181240" cy="128304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Prinsip jual be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Murabah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Istish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Sal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4151160" y="3886200"/>
            <a:ext cx="2264040" cy="9781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Prinsip bagi has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Mudharab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Musyarak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7162920" y="3048120"/>
            <a:ext cx="1676160" cy="2533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Wakal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Kafal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Hiwal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Rah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Qard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Shar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492120" y="2286000"/>
            <a:ext cx="211320" cy="914400"/>
            <a:chOff x="492120" y="2286000"/>
            <a:chExt cx="211320" cy="914400"/>
          </a:xfrm>
        </p:grpSpPr>
        <p:sp>
          <p:nvSpPr>
            <p:cNvPr id="118" name="Line 12"/>
            <p:cNvSpPr/>
            <p:nvPr/>
          </p:nvSpPr>
          <p:spPr>
            <a:xfrm>
              <a:off x="492120" y="22860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>
              <a:off x="492120" y="3200400"/>
              <a:ext cx="211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" name="Group 14"/>
          <p:cNvGrpSpPr/>
          <p:nvPr/>
        </p:nvGrpSpPr>
        <p:grpSpPr>
          <a:xfrm>
            <a:off x="3800520" y="2286000"/>
            <a:ext cx="280800" cy="1219320"/>
            <a:chOff x="3800520" y="2286000"/>
            <a:chExt cx="280800" cy="1219320"/>
          </a:xfrm>
        </p:grpSpPr>
        <p:sp>
          <p:nvSpPr>
            <p:cNvPr id="121" name="Line 15"/>
            <p:cNvSpPr/>
            <p:nvPr/>
          </p:nvSpPr>
          <p:spPr>
            <a:xfrm>
              <a:off x="3800520" y="2286000"/>
              <a:ext cx="0" cy="1219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Line 16"/>
            <p:cNvSpPr/>
            <p:nvPr/>
          </p:nvSpPr>
          <p:spPr>
            <a:xfrm>
              <a:off x="3800520" y="3505320"/>
              <a:ext cx="28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3" name="Group 17"/>
          <p:cNvGrpSpPr/>
          <p:nvPr/>
        </p:nvGrpSpPr>
        <p:grpSpPr>
          <a:xfrm>
            <a:off x="6824520" y="2286000"/>
            <a:ext cx="352440" cy="1905120"/>
            <a:chOff x="6824520" y="2286000"/>
            <a:chExt cx="352440" cy="1905120"/>
          </a:xfrm>
        </p:grpSpPr>
        <p:sp>
          <p:nvSpPr>
            <p:cNvPr id="124" name="Line 18"/>
            <p:cNvSpPr/>
            <p:nvPr/>
          </p:nvSpPr>
          <p:spPr>
            <a:xfrm>
              <a:off x="6824520" y="2286000"/>
              <a:ext cx="0" cy="190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Line 19"/>
            <p:cNvSpPr/>
            <p:nvPr/>
          </p:nvSpPr>
          <p:spPr>
            <a:xfrm>
              <a:off x="6824520" y="4191120"/>
              <a:ext cx="352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" name="Group 20"/>
          <p:cNvGrpSpPr/>
          <p:nvPr/>
        </p:nvGrpSpPr>
        <p:grpSpPr>
          <a:xfrm>
            <a:off x="1828800" y="838080"/>
            <a:ext cx="5981760" cy="838440"/>
            <a:chOff x="1828800" y="838080"/>
            <a:chExt cx="5981760" cy="838440"/>
          </a:xfrm>
        </p:grpSpPr>
        <p:sp>
          <p:nvSpPr>
            <p:cNvPr id="127" name="Line 21"/>
            <p:cNvSpPr/>
            <p:nvPr/>
          </p:nvSpPr>
          <p:spPr>
            <a:xfrm>
              <a:off x="1828800" y="1219320"/>
              <a:ext cx="5981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Line 22"/>
            <p:cNvSpPr/>
            <p:nvPr/>
          </p:nvSpPr>
          <p:spPr>
            <a:xfrm>
              <a:off x="1828800" y="1219320"/>
              <a:ext cx="0" cy="457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Line 23"/>
            <p:cNvSpPr/>
            <p:nvPr/>
          </p:nvSpPr>
          <p:spPr>
            <a:xfrm>
              <a:off x="7810560" y="1219320"/>
              <a:ext cx="0" cy="380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>
              <a:off x="4714200" y="838080"/>
              <a:ext cx="0" cy="762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1" name="Group 25"/>
          <p:cNvGrpSpPr/>
          <p:nvPr/>
        </p:nvGrpSpPr>
        <p:grpSpPr>
          <a:xfrm>
            <a:off x="492120" y="3276720"/>
            <a:ext cx="211320" cy="1523880"/>
            <a:chOff x="492120" y="3276720"/>
            <a:chExt cx="211320" cy="1523880"/>
          </a:xfrm>
        </p:grpSpPr>
        <p:sp>
          <p:nvSpPr>
            <p:cNvPr id="132" name="Line 26"/>
            <p:cNvSpPr/>
            <p:nvPr/>
          </p:nvSpPr>
          <p:spPr>
            <a:xfrm>
              <a:off x="492120" y="4800600"/>
              <a:ext cx="211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92120" y="3276720"/>
              <a:ext cx="0" cy="1523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4" name="Line 28"/>
          <p:cNvSpPr/>
          <p:nvPr/>
        </p:nvSpPr>
        <p:spPr>
          <a:xfrm>
            <a:off x="3809880" y="47242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3809880" y="36576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3809880" y="4495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380988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32"/>
          <p:cNvSpPr/>
          <p:nvPr/>
        </p:nvSpPr>
        <p:spPr>
          <a:xfrm>
            <a:off x="4114800" y="5181480"/>
            <a:ext cx="2209680" cy="1219320"/>
          </a:xfrm>
          <a:prstGeom prst="rect">
            <a:avLst/>
          </a:prstGeom>
          <a:solidFill>
            <a:srgbClr val="7a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jr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jara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jarah Muntahia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tamli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1177920"/>
            <a:ext cx="77929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Skema Mudharabah (LKS sebagai Shahibul Maal)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990720" y="2286000"/>
            <a:ext cx="251460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Anggo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Mudharib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Oval 5"/>
          <p:cNvSpPr/>
          <p:nvPr/>
        </p:nvSpPr>
        <p:spPr>
          <a:xfrm>
            <a:off x="6172200" y="2209680"/>
            <a:ext cx="2666880" cy="83844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L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Shahibul Maal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3733920" y="3962520"/>
            <a:ext cx="205740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Proyek/Usah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124080" y="4952880"/>
            <a:ext cx="3276720" cy="3812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Pembagian Keuntung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3124080" y="5715000"/>
            <a:ext cx="3276720" cy="3808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Mod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00" name="AutoShape 9"/>
          <p:cNvCxnSpPr>
            <a:stCxn id="298" idx="3"/>
            <a:endCxn id="296" idx="4"/>
          </p:cNvCxnSpPr>
          <p:nvPr/>
        </p:nvCxnSpPr>
        <p:spPr>
          <a:xfrm flipV="1">
            <a:off x="6400440" y="3047400"/>
            <a:ext cx="1105560" cy="20962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AutoShape 10"/>
          <p:cNvCxnSpPr>
            <a:stCxn id="299" idx="3"/>
          </p:cNvCxnSpPr>
          <p:nvPr/>
        </p:nvCxnSpPr>
        <p:spPr>
          <a:xfrm flipV="1">
            <a:off x="6400800" y="3047400"/>
            <a:ext cx="1486800" cy="285804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AutoShape 11"/>
          <p:cNvCxnSpPr>
            <a:stCxn id="298" idx="1"/>
          </p:cNvCxnSpPr>
          <p:nvPr/>
        </p:nvCxnSpPr>
        <p:spPr>
          <a:xfrm rot="10800000">
            <a:off x="2094840" y="3047400"/>
            <a:ext cx="1028880" cy="20962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AutoShape 12"/>
          <p:cNvCxnSpPr>
            <a:endCxn id="304" idx="1"/>
          </p:cNvCxnSpPr>
          <p:nvPr/>
        </p:nvCxnSpPr>
        <p:spPr>
          <a:xfrm flipH="1" rot="10800000">
            <a:off x="2057040" y="1942560"/>
            <a:ext cx="1067400" cy="343440"/>
          </a:xfrm>
          <a:prstGeom prst="bentConnector3">
            <a:avLst>
              <a:gd name="adj1" fmla="val -3711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Rectangle 13"/>
          <p:cNvSpPr/>
          <p:nvPr/>
        </p:nvSpPr>
        <p:spPr>
          <a:xfrm>
            <a:off x="3124080" y="1752480"/>
            <a:ext cx="3276720" cy="38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Perjanjian Bagi Has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05" name="AutoShape 14"/>
          <p:cNvCxnSpPr>
            <a:stCxn id="296" idx="0"/>
            <a:endCxn id="304" idx="3"/>
          </p:cNvCxnSpPr>
          <p:nvPr/>
        </p:nvCxnSpPr>
        <p:spPr>
          <a:xfrm flipV="1" rot="16200000">
            <a:off x="6819480" y="1523520"/>
            <a:ext cx="267120" cy="11055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AutoShape 15"/>
          <p:cNvCxnSpPr>
            <a:stCxn id="296" idx="3"/>
          </p:cNvCxnSpPr>
          <p:nvPr/>
        </p:nvCxnSpPr>
        <p:spPr>
          <a:xfrm flipH="1">
            <a:off x="5943240" y="2925720"/>
            <a:ext cx="619920" cy="8848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AutoShape 16"/>
          <p:cNvCxnSpPr>
            <a:stCxn id="295" idx="5"/>
          </p:cNvCxnSpPr>
          <p:nvPr/>
        </p:nvCxnSpPr>
        <p:spPr>
          <a:xfrm>
            <a:off x="3137040" y="3001680"/>
            <a:ext cx="597600" cy="732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AutoShape 17"/>
          <p:cNvCxnSpPr/>
          <p:nvPr/>
        </p:nvCxnSpPr>
        <p:spPr>
          <a:xfrm>
            <a:off x="4800240" y="2362320"/>
            <a:ext cx="1080" cy="13723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AutoShape 18"/>
          <p:cNvCxnSpPr>
            <a:stCxn id="297" idx="2"/>
            <a:endCxn id="298" idx="0"/>
          </p:cNvCxnSpPr>
          <p:nvPr/>
        </p:nvCxnSpPr>
        <p:spPr>
          <a:xfrm>
            <a:off x="4762080" y="4572000"/>
            <a:ext cx="1080" cy="381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19"/>
          <p:cNvCxnSpPr/>
          <p:nvPr/>
        </p:nvCxnSpPr>
        <p:spPr>
          <a:xfrm>
            <a:off x="4800240" y="5334120"/>
            <a:ext cx="1080" cy="381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AutoShape 20"/>
          <p:cNvSpPr/>
          <p:nvPr/>
        </p:nvSpPr>
        <p:spPr>
          <a:xfrm flipH="1">
            <a:off x="838080" y="4629240"/>
            <a:ext cx="9907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017" y="11882"/>
                </a:moveTo>
                <a:lnTo>
                  <a:pt x="-1662" y="2422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sb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AutoShape 21"/>
          <p:cNvSpPr/>
          <p:nvPr/>
        </p:nvSpPr>
        <p:spPr>
          <a:xfrm flipH="1">
            <a:off x="6019920" y="4113360"/>
            <a:ext cx="13716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447" y="29363"/>
                </a:moveTo>
                <a:lnTo>
                  <a:pt x="7450" y="2422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sb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AutoShape 22"/>
          <p:cNvSpPr/>
          <p:nvPr/>
        </p:nvSpPr>
        <p:spPr>
          <a:xfrm flipH="1">
            <a:off x="5105520" y="2630520"/>
            <a:ext cx="9144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299" y="5069"/>
                </a:moveTo>
                <a:lnTo>
                  <a:pt x="-1800" y="3455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AutoShape 23"/>
          <p:cNvSpPr/>
          <p:nvPr/>
        </p:nvSpPr>
        <p:spPr>
          <a:xfrm flipH="1">
            <a:off x="3351960" y="2895480"/>
            <a:ext cx="12193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037" y="6272"/>
                </a:moveTo>
                <a:lnTo>
                  <a:pt x="22950" y="6027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ahli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AutoShape 24"/>
          <p:cNvSpPr/>
          <p:nvPr/>
        </p:nvSpPr>
        <p:spPr>
          <a:xfrm flipH="1">
            <a:off x="6780960" y="5181480"/>
            <a:ext cx="21337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4815" y="44028"/>
                </a:moveTo>
                <a:lnTo>
                  <a:pt x="14817" y="2422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gembalia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al Pok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1101600"/>
            <a:ext cx="779292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kema Musyarakah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Oval 4"/>
          <p:cNvSpPr/>
          <p:nvPr/>
        </p:nvSpPr>
        <p:spPr>
          <a:xfrm>
            <a:off x="990720" y="2286000"/>
            <a:ext cx="251460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Anggo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Mitra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Oval 5"/>
          <p:cNvSpPr/>
          <p:nvPr/>
        </p:nvSpPr>
        <p:spPr>
          <a:xfrm>
            <a:off x="6172200" y="2209680"/>
            <a:ext cx="2666880" cy="83844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L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Mitra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3733920" y="33526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Proyek/Usah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124080" y="4419720"/>
            <a:ext cx="3276720" cy="3808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Pembagian Keuntung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3124080" y="5715000"/>
            <a:ext cx="3276720" cy="3808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Mod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23" name="AutoShape 9"/>
          <p:cNvCxnSpPr>
            <a:stCxn id="321" idx="3"/>
            <a:endCxn id="319" idx="4"/>
          </p:cNvCxnSpPr>
          <p:nvPr/>
        </p:nvCxnSpPr>
        <p:spPr>
          <a:xfrm flipV="1">
            <a:off x="6400440" y="3047400"/>
            <a:ext cx="1105560" cy="15627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AutoShape 10"/>
          <p:cNvCxnSpPr>
            <a:endCxn id="319" idx="5"/>
          </p:cNvCxnSpPr>
          <p:nvPr/>
        </p:nvCxnSpPr>
        <p:spPr>
          <a:xfrm flipH="1" flipV="1" rot="5400000">
            <a:off x="5934600" y="3390840"/>
            <a:ext cx="2980440" cy="2048760"/>
          </a:xfrm>
          <a:prstGeom prst="bentConnector3">
            <a:avLst>
              <a:gd name="adj1" fmla="val -1969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AutoShape 11"/>
          <p:cNvCxnSpPr>
            <a:stCxn id="321" idx="1"/>
          </p:cNvCxnSpPr>
          <p:nvPr/>
        </p:nvCxnSpPr>
        <p:spPr>
          <a:xfrm rot="10800000">
            <a:off x="2056680" y="3123360"/>
            <a:ext cx="1067400" cy="148680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AutoShape 12"/>
          <p:cNvCxnSpPr>
            <a:endCxn id="327" idx="1"/>
          </p:cNvCxnSpPr>
          <p:nvPr/>
        </p:nvCxnSpPr>
        <p:spPr>
          <a:xfrm flipH="1" rot="10800000">
            <a:off x="2057040" y="1942560"/>
            <a:ext cx="1067400" cy="343440"/>
          </a:xfrm>
          <a:prstGeom prst="bentConnector3">
            <a:avLst>
              <a:gd name="adj1" fmla="val -3711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Rectangle 13"/>
          <p:cNvSpPr/>
          <p:nvPr/>
        </p:nvSpPr>
        <p:spPr>
          <a:xfrm>
            <a:off x="3124080" y="1752480"/>
            <a:ext cx="3276720" cy="38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Perjanjian Bagi Has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28" name="AutoShape 14"/>
          <p:cNvCxnSpPr>
            <a:stCxn id="319" idx="0"/>
            <a:endCxn id="327" idx="3"/>
          </p:cNvCxnSpPr>
          <p:nvPr/>
        </p:nvCxnSpPr>
        <p:spPr>
          <a:xfrm flipV="1" rot="16200000">
            <a:off x="6819480" y="1523520"/>
            <a:ext cx="267120" cy="11055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AutoShape 15"/>
          <p:cNvCxnSpPr>
            <a:stCxn id="319" idx="3"/>
          </p:cNvCxnSpPr>
          <p:nvPr/>
        </p:nvCxnSpPr>
        <p:spPr>
          <a:xfrm flipH="1">
            <a:off x="5943240" y="2925720"/>
            <a:ext cx="619920" cy="8848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AutoShape 16"/>
          <p:cNvCxnSpPr>
            <a:stCxn id="318" idx="5"/>
          </p:cNvCxnSpPr>
          <p:nvPr/>
        </p:nvCxnSpPr>
        <p:spPr>
          <a:xfrm>
            <a:off x="3137040" y="3001680"/>
            <a:ext cx="597600" cy="732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AutoShape 17"/>
          <p:cNvCxnSpPr/>
          <p:nvPr/>
        </p:nvCxnSpPr>
        <p:spPr>
          <a:xfrm>
            <a:off x="4800240" y="2362320"/>
            <a:ext cx="1080" cy="9151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AutoShape 18"/>
          <p:cNvCxnSpPr/>
          <p:nvPr/>
        </p:nvCxnSpPr>
        <p:spPr>
          <a:xfrm>
            <a:off x="4800240" y="5334120"/>
            <a:ext cx="1080" cy="381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AutoShape 19"/>
          <p:cNvSpPr/>
          <p:nvPr/>
        </p:nvSpPr>
        <p:spPr>
          <a:xfrm flipH="1">
            <a:off x="2057400" y="3673440"/>
            <a:ext cx="2209680" cy="58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691" y="20235"/>
                </a:moveTo>
                <a:lnTo>
                  <a:pt x="3693" y="2945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isbah X%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si modal Nasaba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AutoShape 20"/>
          <p:cNvSpPr/>
          <p:nvPr/>
        </p:nvSpPr>
        <p:spPr>
          <a:xfrm flipH="1">
            <a:off x="6400800" y="3733920"/>
            <a:ext cx="1752480" cy="58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0523" y="33069"/>
                </a:moveTo>
                <a:lnTo>
                  <a:pt x="10526" y="1860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isbah Y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si modal ban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AutoShape 21"/>
          <p:cNvSpPr/>
          <p:nvPr/>
        </p:nvSpPr>
        <p:spPr>
          <a:xfrm flipH="1">
            <a:off x="5105520" y="2630520"/>
            <a:ext cx="91440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299" y="5122"/>
                </a:moveTo>
                <a:lnTo>
                  <a:pt x="-1800" y="3455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AutoShape 22"/>
          <p:cNvSpPr/>
          <p:nvPr/>
        </p:nvSpPr>
        <p:spPr>
          <a:xfrm flipH="1">
            <a:off x="3351960" y="2638440"/>
            <a:ext cx="12193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037" y="6272"/>
                </a:moveTo>
                <a:lnTo>
                  <a:pt x="22950" y="6027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AutoShape 23"/>
          <p:cNvSpPr/>
          <p:nvPr/>
        </p:nvSpPr>
        <p:spPr>
          <a:xfrm flipH="1">
            <a:off x="6552360" y="5527800"/>
            <a:ext cx="21337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369" y="35613"/>
                </a:moveTo>
                <a:lnTo>
                  <a:pt x="22371" y="34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gembalia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al Pok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38" name="AutoShape 24"/>
          <p:cNvCxnSpPr/>
          <p:nvPr/>
        </p:nvCxnSpPr>
        <p:spPr>
          <a:xfrm>
            <a:off x="4800240" y="3962520"/>
            <a:ext cx="1080" cy="381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Rectangle 25"/>
          <p:cNvSpPr/>
          <p:nvPr/>
        </p:nvSpPr>
        <p:spPr>
          <a:xfrm>
            <a:off x="3124080" y="4876920"/>
            <a:ext cx="3276720" cy="3808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Pembagian Kerugi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40" name="AutoShape 26"/>
          <p:cNvCxnSpPr>
            <a:stCxn id="339" idx="3"/>
          </p:cNvCxnSpPr>
          <p:nvPr/>
        </p:nvCxnSpPr>
        <p:spPr>
          <a:xfrm flipV="1">
            <a:off x="6400440" y="3047400"/>
            <a:ext cx="1562760" cy="2019960"/>
          </a:xfrm>
          <a:prstGeom prst="bent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41" name="AutoShape 27"/>
          <p:cNvSpPr/>
          <p:nvPr/>
        </p:nvSpPr>
        <p:spPr>
          <a:xfrm flipH="1">
            <a:off x="6552360" y="4984920"/>
            <a:ext cx="1752840" cy="33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0525" y="33505"/>
                </a:moveTo>
                <a:lnTo>
                  <a:pt x="10526" y="1860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si modal ban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42" name="AutoShape 28"/>
          <p:cNvCxnSpPr/>
          <p:nvPr/>
        </p:nvCxnSpPr>
        <p:spPr>
          <a:xfrm flipV="1" rot="16200000">
            <a:off x="1208160" y="3227400"/>
            <a:ext cx="2066040" cy="1613880"/>
          </a:xfrm>
          <a:prstGeom prst="bentConnector3">
            <a:avLst>
              <a:gd name="adj1" fmla="val -923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43" name="AutoShape 29"/>
          <p:cNvSpPr/>
          <p:nvPr/>
        </p:nvSpPr>
        <p:spPr>
          <a:xfrm flipH="1">
            <a:off x="1065960" y="4816440"/>
            <a:ext cx="2210040" cy="58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690" y="20235"/>
                </a:moveTo>
                <a:lnTo>
                  <a:pt x="3693" y="2945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si modal Nasaba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rinsip distribusi hasil usah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838080" y="261000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NUE 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ang dibagihasilkan adalah pendapatan (reven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IT 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ang dibagikan adalah keuntungan (prof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nsip ujroh (ijarah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7621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JAR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kad sewa menyewa barang antara LKS (muaajir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ngan penyewa (mustajir) setelah masa sew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rakhir barang sewaan dikembalikan kepada muaaj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JARAH MUNTAHIYAH BITTAML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kad sewa menyewa barang antara LKS(muaajir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ngan penyewa (mustajir) yang diikuti janji bahw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da saat yang ditentukan kepemilikan barang sew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kan berpindah kepada mustaj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1177920"/>
            <a:ext cx="77929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kema Ijarah Muntahiyyah Bittamlik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Oval 4"/>
          <p:cNvSpPr/>
          <p:nvPr/>
        </p:nvSpPr>
        <p:spPr>
          <a:xfrm>
            <a:off x="609480" y="2286000"/>
            <a:ext cx="251460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Penjual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Supp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Oval 5"/>
          <p:cNvSpPr/>
          <p:nvPr/>
        </p:nvSpPr>
        <p:spPr>
          <a:xfrm>
            <a:off x="6629400" y="2286000"/>
            <a:ext cx="213372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Anggo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AutoShape 6"/>
          <p:cNvSpPr/>
          <p:nvPr/>
        </p:nvSpPr>
        <p:spPr>
          <a:xfrm>
            <a:off x="3733920" y="49528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6200" y="2514600"/>
            <a:ext cx="2057400" cy="380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Obyek Se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53" name="AutoShape 8"/>
          <p:cNvCxnSpPr/>
          <p:nvPr/>
        </p:nvCxnSpPr>
        <p:spPr>
          <a:xfrm flipH="1">
            <a:off x="5943240" y="3002040"/>
            <a:ext cx="1372320" cy="2180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354" name="AutoShape 9"/>
          <p:cNvCxnSpPr/>
          <p:nvPr/>
        </p:nvCxnSpPr>
        <p:spPr>
          <a:xfrm>
            <a:off x="1866960" y="3200400"/>
            <a:ext cx="1715040" cy="190584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55" name="AutoShape 10"/>
          <p:cNvCxnSpPr/>
          <p:nvPr/>
        </p:nvCxnSpPr>
        <p:spPr>
          <a:xfrm>
            <a:off x="4800600" y="3048120"/>
            <a:ext cx="2160" cy="175320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56" name="AutoShape 11"/>
          <p:cNvSpPr/>
          <p:nvPr/>
        </p:nvSpPr>
        <p:spPr>
          <a:xfrm flipH="1">
            <a:off x="456480" y="3825720"/>
            <a:ext cx="1755720" cy="137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34" y="19789"/>
                </a:moveTo>
                <a:lnTo>
                  <a:pt x="-938" y="2797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Beli Obyek Sew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AutoShape 12"/>
          <p:cNvSpPr/>
          <p:nvPr/>
        </p:nvSpPr>
        <p:spPr>
          <a:xfrm flipH="1">
            <a:off x="6857280" y="3581280"/>
            <a:ext cx="2330280" cy="94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7506" y="33771"/>
                </a:moveTo>
                <a:lnTo>
                  <a:pt x="17509" y="1781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Butuh Obyek Sew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AutoShape 13"/>
          <p:cNvSpPr/>
          <p:nvPr/>
        </p:nvSpPr>
        <p:spPr>
          <a:xfrm flipH="1">
            <a:off x="4952160" y="3432240"/>
            <a:ext cx="121932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96" y="3333"/>
                </a:moveTo>
                <a:lnTo>
                  <a:pt x="-1350" y="3253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wa Be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59" name="AutoShape 14"/>
          <p:cNvCxnSpPr/>
          <p:nvPr/>
        </p:nvCxnSpPr>
        <p:spPr>
          <a:xfrm flipH="1">
            <a:off x="5409360" y="3123720"/>
            <a:ext cx="1220040" cy="17535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60" name="Line 15"/>
          <p:cNvSpPr/>
          <p:nvPr/>
        </p:nvSpPr>
        <p:spPr>
          <a:xfrm>
            <a:off x="3200400" y="2743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16"/>
          <p:cNvSpPr/>
          <p:nvPr/>
        </p:nvSpPr>
        <p:spPr>
          <a:xfrm>
            <a:off x="5943600" y="2743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AutoShape 17"/>
          <p:cNvSpPr/>
          <p:nvPr/>
        </p:nvSpPr>
        <p:spPr>
          <a:xfrm>
            <a:off x="1676520" y="5486400"/>
            <a:ext cx="1904760" cy="914400"/>
          </a:xfrm>
          <a:prstGeom prst="foldedCorner">
            <a:avLst>
              <a:gd name="adj" fmla="val 12500"/>
            </a:avLst>
          </a:prstGeom>
          <a:solidFill>
            <a:srgbClr val="ffcf0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lik LK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ama masa sew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AutoShape 18"/>
          <p:cNvSpPr/>
          <p:nvPr/>
        </p:nvSpPr>
        <p:spPr>
          <a:xfrm>
            <a:off x="6553080" y="5410080"/>
            <a:ext cx="1905120" cy="914400"/>
          </a:xfrm>
          <a:prstGeom prst="foldedCorner">
            <a:avLst>
              <a:gd name="adj" fmla="val 12500"/>
            </a:avLst>
          </a:prstGeom>
          <a:solidFill>
            <a:srgbClr val="ffcf0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lik Nasaba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elah Pelepas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2"/>
          <p:cNvSpPr/>
          <p:nvPr/>
        </p:nvSpPr>
        <p:spPr>
          <a:xfrm>
            <a:off x="5418000" y="304920"/>
            <a:ext cx="3448080" cy="1295280"/>
          </a:xfrm>
          <a:prstGeom prst="cloudCallout">
            <a:avLst>
              <a:gd name="adj1" fmla="val 1486"/>
              <a:gd name="adj2" fmla="val 108212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910120" y="457200"/>
            <a:ext cx="2673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sa LKS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80880" y="1905120"/>
          <a:ext cx="5880240" cy="4790880"/>
        </p:xfrm>
        <a:graphic>
          <a:graphicData uri="http://schemas.openxmlformats.org/drawingml/2006/table">
            <a:tbl>
              <a:tblPr/>
              <a:tblGrid>
                <a:gridCol w="1981440"/>
                <a:gridCol w="389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kal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C, Transfer, Inkaso &amp; Kli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fal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wal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ar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 Garan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jak Piuta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d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na Talang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al beli Valas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7" name="Picture 15" descr="A007"/>
          <p:cNvPicPr/>
          <p:nvPr/>
        </p:nvPicPr>
        <p:blipFill>
          <a:blip r:embed="rId1"/>
          <a:stretch/>
        </p:blipFill>
        <p:spPr>
          <a:xfrm>
            <a:off x="6553080" y="2841480"/>
            <a:ext cx="2590920" cy="2873520"/>
          </a:xfrm>
          <a:prstGeom prst="rect">
            <a:avLst/>
          </a:prstGeom>
          <a:ln w="0">
            <a:noFill/>
          </a:ln>
        </p:spPr>
      </p:pic>
      <p:sp>
        <p:nvSpPr>
          <p:cNvPr id="368" name="Line 24"/>
          <p:cNvSpPr/>
          <p:nvPr/>
        </p:nvSpPr>
        <p:spPr>
          <a:xfrm>
            <a:off x="380880" y="342900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25"/>
          <p:cNvSpPr/>
          <p:nvPr/>
        </p:nvSpPr>
        <p:spPr>
          <a:xfrm>
            <a:off x="380880" y="42670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26"/>
          <p:cNvSpPr/>
          <p:nvPr/>
        </p:nvSpPr>
        <p:spPr>
          <a:xfrm>
            <a:off x="380880" y="51814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27"/>
          <p:cNvSpPr/>
          <p:nvPr/>
        </p:nvSpPr>
        <p:spPr>
          <a:xfrm>
            <a:off x="380880" y="60958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JASA L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762120" y="2362320"/>
            <a:ext cx="7772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KALA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ad pemberian kuasa dari pemberi kuasa (muwakil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pada penerima kuasa (wakil) untuk melaksanak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atu kegiatan (taukil) atas nama pemberi kua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kema al-Wakala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AutoShape 3"/>
          <p:cNvSpPr/>
          <p:nvPr/>
        </p:nvSpPr>
        <p:spPr>
          <a:xfrm>
            <a:off x="812880" y="2438280"/>
            <a:ext cx="1727280" cy="685800"/>
          </a:xfrm>
          <a:prstGeom prst="roundRect">
            <a:avLst>
              <a:gd name="adj" fmla="val 16667"/>
            </a:avLst>
          </a:prstGeom>
          <a:solidFill>
            <a:srgbClr val="def59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nggo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Muwak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3809880" y="3048120"/>
            <a:ext cx="2641680" cy="2133360"/>
          </a:xfrm>
          <a:prstGeom prst="rect">
            <a:avLst/>
          </a:prstGeom>
          <a:solidFill>
            <a:srgbClr val="def59d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Kli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/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D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AUK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5"/>
          <p:cNvSpPr/>
          <p:nvPr/>
        </p:nvSpPr>
        <p:spPr>
          <a:xfrm>
            <a:off x="812880" y="2795760"/>
            <a:ext cx="172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3835440" y="4648320"/>
            <a:ext cx="264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AutoShape 9"/>
          <p:cNvSpPr/>
          <p:nvPr/>
        </p:nvSpPr>
        <p:spPr>
          <a:xfrm>
            <a:off x="7340760" y="3657600"/>
            <a:ext cx="1726920" cy="838080"/>
          </a:xfrm>
          <a:prstGeom prst="roundRect">
            <a:avLst>
              <a:gd name="adj" fmla="val 16667"/>
            </a:avLst>
          </a:prstGeom>
          <a:solidFill>
            <a:srgbClr val="def59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L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AK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7213680" y="4010040"/>
            <a:ext cx="172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2641680" y="29019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3251160" y="2901960"/>
            <a:ext cx="0" cy="94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16"/>
          <p:cNvSpPr/>
          <p:nvPr/>
        </p:nvSpPr>
        <p:spPr>
          <a:xfrm>
            <a:off x="3251160" y="3851280"/>
            <a:ext cx="406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17"/>
          <p:cNvSpPr/>
          <p:nvPr/>
        </p:nvSpPr>
        <p:spPr>
          <a:xfrm flipV="1">
            <a:off x="8026560" y="2742840"/>
            <a:ext cx="0" cy="896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Line 18"/>
          <p:cNvSpPr/>
          <p:nvPr/>
        </p:nvSpPr>
        <p:spPr>
          <a:xfrm>
            <a:off x="2641680" y="2743200"/>
            <a:ext cx="5384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22"/>
          <p:cNvSpPr/>
          <p:nvPr/>
        </p:nvSpPr>
        <p:spPr>
          <a:xfrm>
            <a:off x="4439880" y="278280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KONTRAK + FE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AutoShape 23"/>
          <p:cNvSpPr/>
          <p:nvPr/>
        </p:nvSpPr>
        <p:spPr>
          <a:xfrm>
            <a:off x="6553080" y="3581280"/>
            <a:ext cx="609840" cy="9144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JASA L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838080" y="2362320"/>
            <a:ext cx="73152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FALA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ad pemberian jaminan (makful alaih) ya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berikan satu pihak kepada pihak lain dima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mberi jaminan (kafiil) bertanggung jawab at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mbayaran kembali suatu hutang yang menjad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k penerima jamin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kema al-Kafala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962520" y="3376440"/>
            <a:ext cx="1726920" cy="633600"/>
          </a:xfrm>
          <a:prstGeom prst="rect">
            <a:avLst/>
          </a:prstGeom>
          <a:solidFill>
            <a:srgbClr val="def59d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TERTANGGU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(Jasa/Objek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914400" y="3218040"/>
            <a:ext cx="2743200" cy="949320"/>
          </a:xfrm>
          <a:prstGeom prst="rightArrowCallout">
            <a:avLst>
              <a:gd name="adj1" fmla="val 25002"/>
              <a:gd name="adj2" fmla="val 25000"/>
              <a:gd name="adj3" fmla="val 48161"/>
              <a:gd name="adj4" fmla="val 66667"/>
            </a:avLst>
          </a:prstGeom>
          <a:solidFill>
            <a:srgbClr val="def59d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PENANGGU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L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6095880" y="3218040"/>
            <a:ext cx="2336760" cy="949320"/>
          </a:xfrm>
          <a:prstGeom prst="leftArrowCallout">
            <a:avLst>
              <a:gd name="adj1" fmla="val 25002"/>
              <a:gd name="adj2" fmla="val 25000"/>
              <a:gd name="adj3" fmla="val 41025"/>
              <a:gd name="adj4" fmla="val 66673"/>
            </a:avLst>
          </a:prstGeom>
          <a:solidFill>
            <a:srgbClr val="def59d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DITANGGU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NASABA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2743200" y="3692520"/>
            <a:ext cx="12193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AMINA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5486400" y="41911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EWAJIBA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/>
          <p:cNvSpPr/>
          <p:nvPr/>
        </p:nvSpPr>
        <p:spPr>
          <a:xfrm>
            <a:off x="5418000" y="304920"/>
            <a:ext cx="3448080" cy="1295280"/>
          </a:xfrm>
          <a:prstGeom prst="cloudCallout">
            <a:avLst>
              <a:gd name="adj1" fmla="val 1486"/>
              <a:gd name="adj2" fmla="val 108212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910120" y="457200"/>
            <a:ext cx="2673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nghimpunan dan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2286000"/>
          <a:ext cx="5880240" cy="3670200"/>
        </p:xfrm>
        <a:graphic>
          <a:graphicData uri="http://schemas.openxmlformats.org/drawingml/2006/table">
            <a:tbl>
              <a:tblPr/>
              <a:tblGrid>
                <a:gridCol w="1981440"/>
                <a:gridCol w="389880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nsip wadi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diah yad aman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diah yad dhaman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nsip Mudharab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dharabah mutlaqa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vestasi Tidak Terikat / Unrectricted Invest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dharabah Muqayyada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vestasi Terikat / Restricted Invest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" name="Picture 15" descr="A007"/>
          <p:cNvPicPr/>
          <p:nvPr/>
        </p:nvPicPr>
        <p:blipFill>
          <a:blip r:embed="rId1"/>
          <a:stretch/>
        </p:blipFill>
        <p:spPr>
          <a:xfrm>
            <a:off x="5943600" y="2841480"/>
            <a:ext cx="33750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Jasa L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990720" y="1790640"/>
            <a:ext cx="77724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IWALA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ad perpindahan piutang nasabah (muhil) kep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KS  (muhal’alaih) dari nasabah lain ( muh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hil meminta muhal’alaih untuk membayar terlebi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hulu piutang yang timbul dari jual be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a saat jatuh tempo muhal akan membayar k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hal’alai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hal’alaih memperoleh imbalan sebagai jas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mindah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kema al-Hiwalah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3048120" y="2743200"/>
            <a:ext cx="3454200" cy="633240"/>
          </a:xfrm>
          <a:prstGeom prst="roundRect">
            <a:avLst>
              <a:gd name="adj" fmla="val 16667"/>
            </a:avLst>
          </a:prstGeom>
          <a:solidFill>
            <a:srgbClr val="def59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MUHAL’ALAI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(LK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Oval 4"/>
          <p:cNvSpPr/>
          <p:nvPr/>
        </p:nvSpPr>
        <p:spPr>
          <a:xfrm>
            <a:off x="1117440" y="4959360"/>
            <a:ext cx="2641680" cy="843120"/>
          </a:xfrm>
          <a:prstGeom prst="ellipse">
            <a:avLst/>
          </a:prstGeom>
          <a:solidFill>
            <a:srgbClr val="def59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MUH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(PENYUPLA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Oval 5"/>
          <p:cNvSpPr/>
          <p:nvPr/>
        </p:nvSpPr>
        <p:spPr>
          <a:xfrm>
            <a:off x="5994360" y="5011560"/>
            <a:ext cx="2438280" cy="844560"/>
          </a:xfrm>
          <a:prstGeom prst="ellipse">
            <a:avLst/>
          </a:prstGeom>
          <a:solidFill>
            <a:srgbClr val="def59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MUH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(PEMBEL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6"/>
          <p:cNvSpPr/>
          <p:nvPr/>
        </p:nvSpPr>
        <p:spPr>
          <a:xfrm>
            <a:off x="3860640" y="5381640"/>
            <a:ext cx="2032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7"/>
          <p:cNvSpPr/>
          <p:nvPr/>
        </p:nvSpPr>
        <p:spPr>
          <a:xfrm flipV="1">
            <a:off x="2438280" y="3533400"/>
            <a:ext cx="1117800" cy="13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8"/>
          <p:cNvSpPr/>
          <p:nvPr/>
        </p:nvSpPr>
        <p:spPr>
          <a:xfrm flipH="1">
            <a:off x="3149640" y="3587760"/>
            <a:ext cx="1015920" cy="1317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Line 9"/>
          <p:cNvSpPr/>
          <p:nvPr/>
        </p:nvSpPr>
        <p:spPr>
          <a:xfrm>
            <a:off x="5689440" y="3587760"/>
            <a:ext cx="1117800" cy="1317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Line 10"/>
          <p:cNvSpPr/>
          <p:nvPr/>
        </p:nvSpPr>
        <p:spPr>
          <a:xfrm>
            <a:off x="6299280" y="3533760"/>
            <a:ext cx="1117440" cy="1319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4165560" y="5381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 Suplai Bara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1422360" y="4114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 Doku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3556080" y="432576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 Bay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5486400" y="4325760"/>
            <a:ext cx="14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 Tagi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6951960" y="4181400"/>
            <a:ext cx="88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 Bay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Jasa L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762120" y="2286000"/>
            <a:ext cx="784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H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ad penyerahan fisik barang/ harta (marhun) d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ggota (rahin) kepada LKS (murtahin) sebaga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minan atas pinjaman yang diteri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kema ar-Rah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1422360" y="2479680"/>
            <a:ext cx="2032200" cy="633240"/>
          </a:xfrm>
          <a:prstGeom prst="rect">
            <a:avLst/>
          </a:prstGeom>
          <a:solidFill>
            <a:srgbClr val="def59d"/>
          </a:solidFill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Marhun Bi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embiaya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422360" y="3956040"/>
            <a:ext cx="2133720" cy="633600"/>
          </a:xfrm>
          <a:prstGeom prst="ellipse">
            <a:avLst/>
          </a:prstGeom>
          <a:solidFill>
            <a:srgbClr val="def59d"/>
          </a:solidFill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Murtah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L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Oval 5"/>
          <p:cNvSpPr/>
          <p:nvPr/>
        </p:nvSpPr>
        <p:spPr>
          <a:xfrm>
            <a:off x="6603840" y="3956040"/>
            <a:ext cx="1930680" cy="633600"/>
          </a:xfrm>
          <a:prstGeom prst="ellipse">
            <a:avLst/>
          </a:prstGeom>
          <a:solidFill>
            <a:srgbClr val="def59d"/>
          </a:solidFill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Rah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Anggo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6908760" y="5486400"/>
            <a:ext cx="1828800" cy="685800"/>
          </a:xfrm>
          <a:prstGeom prst="rect">
            <a:avLst/>
          </a:prstGeom>
          <a:solidFill>
            <a:srgbClr val="def59d"/>
          </a:solidFill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Marhu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Jamin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Line 7"/>
          <p:cNvSpPr/>
          <p:nvPr/>
        </p:nvSpPr>
        <p:spPr>
          <a:xfrm flipV="1">
            <a:off x="2540160" y="3112560"/>
            <a:ext cx="0" cy="79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Line 8"/>
          <p:cNvSpPr/>
          <p:nvPr/>
        </p:nvSpPr>
        <p:spPr>
          <a:xfrm>
            <a:off x="3556080" y="2795760"/>
            <a:ext cx="40640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Line 9"/>
          <p:cNvSpPr/>
          <p:nvPr/>
        </p:nvSpPr>
        <p:spPr>
          <a:xfrm>
            <a:off x="7620120" y="2795760"/>
            <a:ext cx="0" cy="1108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Line 10"/>
          <p:cNvSpPr/>
          <p:nvPr/>
        </p:nvSpPr>
        <p:spPr>
          <a:xfrm flipH="1">
            <a:off x="2539800" y="5802480"/>
            <a:ext cx="436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Line 11"/>
          <p:cNvSpPr/>
          <p:nvPr/>
        </p:nvSpPr>
        <p:spPr>
          <a:xfrm flipV="1">
            <a:off x="2540160" y="4641840"/>
            <a:ext cx="0" cy="116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7620120" y="4589640"/>
            <a:ext cx="0" cy="844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Line 13"/>
          <p:cNvSpPr/>
          <p:nvPr/>
        </p:nvSpPr>
        <p:spPr>
          <a:xfrm>
            <a:off x="3657600" y="4167360"/>
            <a:ext cx="2844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Line 14"/>
          <p:cNvSpPr/>
          <p:nvPr/>
        </p:nvSpPr>
        <p:spPr>
          <a:xfrm>
            <a:off x="3657600" y="4378320"/>
            <a:ext cx="284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4165560" y="2819520"/>
            <a:ext cx="31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  Permohonan Pembiayaa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3962520" y="3809880"/>
            <a:ext cx="26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  Akad Pembiayaa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3962520" y="4367160"/>
            <a:ext cx="28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  Utang + Mark U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048120" y="5791320"/>
            <a:ext cx="37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 b  Titipan/Gadai Pembiayaa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7620120" y="5064120"/>
            <a:ext cx="101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2540160" y="3533760"/>
            <a:ext cx="81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 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Jasa L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762120" y="2362320"/>
            <a:ext cx="76197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ARD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ad pinjaman dari LKS (muqridh) kepada pih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tentu (muqtaridh) untuk tujuan sosial yang wajib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kembalikan dengan jumlah yang sama sesua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gan pinjamanny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kema al-Qard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Oval 3"/>
          <p:cNvSpPr/>
          <p:nvPr/>
        </p:nvSpPr>
        <p:spPr>
          <a:xfrm>
            <a:off x="914400" y="3587760"/>
            <a:ext cx="2336760" cy="579600"/>
          </a:xfrm>
          <a:prstGeom prst="ellipse">
            <a:avLst/>
          </a:prstGeom>
          <a:solidFill>
            <a:srgbClr val="def59d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nggo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Oval 4"/>
          <p:cNvSpPr/>
          <p:nvPr/>
        </p:nvSpPr>
        <p:spPr>
          <a:xfrm>
            <a:off x="6502320" y="3587760"/>
            <a:ext cx="2336760" cy="579600"/>
          </a:xfrm>
          <a:prstGeom prst="ellipse">
            <a:avLst/>
          </a:prstGeom>
          <a:solidFill>
            <a:srgbClr val="def59d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Line 5"/>
          <p:cNvSpPr/>
          <p:nvPr/>
        </p:nvSpPr>
        <p:spPr>
          <a:xfrm flipV="1">
            <a:off x="2133720" y="3059280"/>
            <a:ext cx="0" cy="5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Line 6"/>
          <p:cNvSpPr/>
          <p:nvPr/>
        </p:nvSpPr>
        <p:spPr>
          <a:xfrm>
            <a:off x="2133720" y="3059280"/>
            <a:ext cx="1726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Line 7"/>
          <p:cNvSpPr/>
          <p:nvPr/>
        </p:nvSpPr>
        <p:spPr>
          <a:xfrm flipH="1">
            <a:off x="5791320" y="3059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Line 8"/>
          <p:cNvSpPr/>
          <p:nvPr/>
        </p:nvSpPr>
        <p:spPr>
          <a:xfrm>
            <a:off x="7620120" y="3059280"/>
            <a:ext cx="0" cy="5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3657600" y="2795760"/>
            <a:ext cx="2235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JANJI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ARD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3454560" y="4959360"/>
            <a:ext cx="2743200" cy="368280"/>
          </a:xfrm>
          <a:prstGeom prst="rect">
            <a:avLst/>
          </a:prstGeom>
          <a:solidFill>
            <a:srgbClr val="def59d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PROYEK USAH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3454560" y="6067440"/>
            <a:ext cx="2743200" cy="368280"/>
          </a:xfrm>
          <a:prstGeom prst="rect">
            <a:avLst/>
          </a:prstGeom>
          <a:solidFill>
            <a:srgbClr val="def59d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KEUNTUNG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12"/>
          <p:cNvSpPr/>
          <p:nvPr/>
        </p:nvSpPr>
        <p:spPr>
          <a:xfrm>
            <a:off x="4775040" y="5327640"/>
            <a:ext cx="0" cy="739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13"/>
          <p:cNvSpPr/>
          <p:nvPr/>
        </p:nvSpPr>
        <p:spPr>
          <a:xfrm>
            <a:off x="2133720" y="416736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14"/>
          <p:cNvSpPr/>
          <p:nvPr/>
        </p:nvSpPr>
        <p:spPr>
          <a:xfrm>
            <a:off x="2133720" y="6224760"/>
            <a:ext cx="132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15"/>
          <p:cNvSpPr/>
          <p:nvPr/>
        </p:nvSpPr>
        <p:spPr>
          <a:xfrm flipV="1">
            <a:off x="7620120" y="416700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16"/>
          <p:cNvSpPr/>
          <p:nvPr/>
        </p:nvSpPr>
        <p:spPr>
          <a:xfrm flipH="1">
            <a:off x="6197400" y="6224760"/>
            <a:ext cx="142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17"/>
          <p:cNvSpPr/>
          <p:nvPr/>
        </p:nvSpPr>
        <p:spPr>
          <a:xfrm flipV="1">
            <a:off x="4775040" y="3324240"/>
            <a:ext cx="0" cy="1581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18"/>
          <p:cNvSpPr/>
          <p:nvPr/>
        </p:nvSpPr>
        <p:spPr>
          <a:xfrm>
            <a:off x="3048120" y="4114800"/>
            <a:ext cx="1117440" cy="73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19"/>
          <p:cNvSpPr/>
          <p:nvPr/>
        </p:nvSpPr>
        <p:spPr>
          <a:xfrm flipH="1">
            <a:off x="5486040" y="4167360"/>
            <a:ext cx="13208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5303520" y="4314960"/>
            <a:ext cx="65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DA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00 %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3556080" y="4167360"/>
            <a:ext cx="1117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ENAG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KERJ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22"/>
          <p:cNvSpPr/>
          <p:nvPr/>
        </p:nvSpPr>
        <p:spPr>
          <a:xfrm>
            <a:off x="1320840" y="5222880"/>
            <a:ext cx="16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00 %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23"/>
          <p:cNvSpPr/>
          <p:nvPr/>
        </p:nvSpPr>
        <p:spPr>
          <a:xfrm>
            <a:off x="7620120" y="5170320"/>
            <a:ext cx="1625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KEMBAL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DA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Jasa L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762120" y="2286000"/>
            <a:ext cx="815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ad jual beli Valuta asing yang dilakukan secara tunai maupun non tunai dengan tujuan tidak untuk berspekul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nsip Wadi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14400" y="2286000"/>
            <a:ext cx="7848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ad titipan pihak yang mempunyai barang atau uang kepada pihak yang diberi kepercayaan untuk keselamatan, keamanan serta keutuhan hart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tipan terseb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dasarkan jenisnya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diah Yad Amanah, aplikasi di LKS adalah Saf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osit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diah Yad Dhamanah, aplikasi di LKS adala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ro dan tabung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kema Wadiah Yad  Amanah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81532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adiah Yad al Amana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yimpan tidak boleh memanfaatkan barang/uang titip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yimpan dapat mengenakan biaya penitip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838080" y="22096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Anggo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(Penit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6553080" y="2209680"/>
            <a:ext cx="1828800" cy="106704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enyimp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2971800" y="2514600"/>
            <a:ext cx="32767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2819520" y="1905120"/>
            <a:ext cx="2666880" cy="380880"/>
          </a:xfrm>
          <a:prstGeom prst="wedgeRectCallout">
            <a:avLst>
              <a:gd name="adj1" fmla="val 17856"/>
              <a:gd name="adj2" fmla="val 92083"/>
            </a:avLst>
          </a:prstGeom>
          <a:solidFill>
            <a:srgbClr val="ffcf01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Times New Roman"/>
              </a:rPr>
              <a:t>1. Titip barang/ua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9"/>
          <p:cNvSpPr/>
          <p:nvPr/>
        </p:nvSpPr>
        <p:spPr>
          <a:xfrm flipH="1">
            <a:off x="2971800" y="2895480"/>
            <a:ext cx="32004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3048120" y="3276720"/>
            <a:ext cx="3352680" cy="457200"/>
          </a:xfrm>
          <a:prstGeom prst="wedgeRectCallout">
            <a:avLst>
              <a:gd name="adj1" fmla="val 18180"/>
              <a:gd name="adj2" fmla="val -119097"/>
            </a:avLst>
          </a:prstGeom>
          <a:solidFill>
            <a:srgbClr val="ffcf01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Times New Roman"/>
              </a:rPr>
              <a:t>2. Bebankan biaya peniti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kema  Wadiah Yad  Dhamanah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240" y="4074840"/>
            <a:ext cx="5334120" cy="205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adiah Yad adh Dhaman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yimpan boleh memanfaatkan barang/uang titip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untungan sepenuhnya menjadi milik penyimp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yimpan dapat memberikan insentif (bonus) kepada peniti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685800" y="182880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Anggo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(Penit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6477120" y="1828800"/>
            <a:ext cx="1828800" cy="106668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enyimp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2895480" y="2209680"/>
            <a:ext cx="32767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2666880" y="1523880"/>
            <a:ext cx="2514600" cy="381240"/>
          </a:xfrm>
          <a:prstGeom prst="wedgeRectCallout">
            <a:avLst>
              <a:gd name="adj1" fmla="val 28032"/>
              <a:gd name="adj2" fmla="val 132083"/>
            </a:avLst>
          </a:prstGeom>
          <a:solidFill>
            <a:srgbClr val="ffcf01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1c1c"/>
                </a:solidFill>
                <a:latin typeface="Times New Roman"/>
              </a:rPr>
              <a:t>1. Titip Barang/ua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9"/>
          <p:cNvSpPr/>
          <p:nvPr/>
        </p:nvSpPr>
        <p:spPr>
          <a:xfrm flipH="1">
            <a:off x="2895480" y="2590920"/>
            <a:ext cx="32004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2743200" y="2895480"/>
            <a:ext cx="1981080" cy="457200"/>
          </a:xfrm>
          <a:prstGeom prst="wedgeRectCallout">
            <a:avLst>
              <a:gd name="adj1" fmla="val 57694"/>
              <a:gd name="adj2" fmla="val -102430"/>
            </a:avLst>
          </a:prstGeom>
          <a:solidFill>
            <a:srgbClr val="ffcf01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1c1c"/>
                </a:solidFill>
                <a:latin typeface="Times New Roman"/>
              </a:rPr>
              <a:t>4. Beri Bon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6553080" y="5029200"/>
            <a:ext cx="1905120" cy="106668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nggu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7467480" y="3048120"/>
            <a:ext cx="0" cy="19047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62920" y="2971800"/>
            <a:ext cx="0" cy="190512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AutoShape 14"/>
          <p:cNvSpPr/>
          <p:nvPr/>
        </p:nvSpPr>
        <p:spPr>
          <a:xfrm>
            <a:off x="7620120" y="3124080"/>
            <a:ext cx="1523880" cy="1219320"/>
          </a:xfrm>
          <a:prstGeom prst="wedgeRectCallout">
            <a:avLst>
              <a:gd name="adj1" fmla="val -38750"/>
              <a:gd name="adj2" fmla="val 72527"/>
            </a:avLst>
          </a:prstGeom>
          <a:solidFill>
            <a:srgbClr val="ffcf01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1c1c"/>
                </a:solidFill>
                <a:latin typeface="Times New Roman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1c1c"/>
                </a:solidFill>
                <a:latin typeface="Times New Roman"/>
              </a:rPr>
              <a:t>Pemanfaat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1c1c"/>
                </a:solidFill>
                <a:latin typeface="Times New Roman"/>
              </a:rPr>
              <a:t>Barang/ua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5334120" y="3505320"/>
            <a:ext cx="1523880" cy="457200"/>
          </a:xfrm>
          <a:prstGeom prst="wedgeRectCallout">
            <a:avLst>
              <a:gd name="adj1" fmla="val 67500"/>
              <a:gd name="adj2" fmla="val 176736"/>
            </a:avLst>
          </a:prstGeom>
          <a:solidFill>
            <a:srgbClr val="ffcf01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1c1c"/>
                </a:solidFill>
                <a:latin typeface="Times New Roman"/>
              </a:rPr>
              <a:t>3.Bagi Hasi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nsip Mudharab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762120" y="1905120"/>
            <a:ext cx="79246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rupakan akad antara pemilik dana sebagai “Shahibul Maal” dengan LKS sebagai pengelola dana atau “Mudharib” untuk mengelola dana dan memperoleh keuntungan serta dibagi sesuai nisbah yang disepakati pada awal ak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dasarkan kewenangan yang diberikan kepada mudharib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dharabah Mutlaqah, aplikasi di LKS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rupakan investasi tidak terikat berupa deposito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au tabung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dharabah Muqayyadah, Investasi terik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101600"/>
            <a:ext cx="779292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Skema Mudharabah Mutlaqah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990720" y="2286000"/>
            <a:ext cx="251460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L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Mudharib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6172200" y="2209680"/>
            <a:ext cx="2666880" cy="83844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Anggo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Shahibul Maal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3733920" y="3962520"/>
            <a:ext cx="205740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Proyek/Usah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124080" y="4952880"/>
            <a:ext cx="3276720" cy="3812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Pembagian Keuntung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124080" y="5715000"/>
            <a:ext cx="3276720" cy="3808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Mod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7" name="AutoShape 9"/>
          <p:cNvCxnSpPr>
            <a:stCxn id="175" idx="3"/>
            <a:endCxn id="173" idx="4"/>
          </p:cNvCxnSpPr>
          <p:nvPr/>
        </p:nvCxnSpPr>
        <p:spPr>
          <a:xfrm flipV="1">
            <a:off x="6400440" y="3047400"/>
            <a:ext cx="1105560" cy="20962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10"/>
          <p:cNvCxnSpPr>
            <a:stCxn id="176" idx="3"/>
          </p:cNvCxnSpPr>
          <p:nvPr/>
        </p:nvCxnSpPr>
        <p:spPr>
          <a:xfrm flipV="1">
            <a:off x="6400800" y="3047400"/>
            <a:ext cx="1486800" cy="285804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AutoShape 11"/>
          <p:cNvCxnSpPr>
            <a:stCxn id="175" idx="1"/>
          </p:cNvCxnSpPr>
          <p:nvPr/>
        </p:nvCxnSpPr>
        <p:spPr>
          <a:xfrm rot="10800000">
            <a:off x="2094840" y="3047400"/>
            <a:ext cx="1028880" cy="20962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AutoShape 12"/>
          <p:cNvCxnSpPr>
            <a:endCxn id="181" idx="1"/>
          </p:cNvCxnSpPr>
          <p:nvPr/>
        </p:nvCxnSpPr>
        <p:spPr>
          <a:xfrm flipH="1" rot="10800000">
            <a:off x="2057040" y="1942560"/>
            <a:ext cx="1067400" cy="343440"/>
          </a:xfrm>
          <a:prstGeom prst="bentConnector3">
            <a:avLst>
              <a:gd name="adj1" fmla="val -3711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13"/>
          <p:cNvSpPr/>
          <p:nvPr/>
        </p:nvSpPr>
        <p:spPr>
          <a:xfrm>
            <a:off x="3124080" y="1752480"/>
            <a:ext cx="3276720" cy="38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Perjanjian Bagi Has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2" name="AutoShape 14"/>
          <p:cNvCxnSpPr>
            <a:stCxn id="173" idx="0"/>
            <a:endCxn id="181" idx="3"/>
          </p:cNvCxnSpPr>
          <p:nvPr/>
        </p:nvCxnSpPr>
        <p:spPr>
          <a:xfrm flipV="1" rot="16200000">
            <a:off x="6819480" y="1523520"/>
            <a:ext cx="267120" cy="11055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AutoShape 15"/>
          <p:cNvCxnSpPr>
            <a:stCxn id="173" idx="3"/>
          </p:cNvCxnSpPr>
          <p:nvPr/>
        </p:nvCxnSpPr>
        <p:spPr>
          <a:xfrm flipH="1">
            <a:off x="5943240" y="2925720"/>
            <a:ext cx="619920" cy="8848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AutoShape 16"/>
          <p:cNvCxnSpPr>
            <a:stCxn id="172" idx="5"/>
          </p:cNvCxnSpPr>
          <p:nvPr/>
        </p:nvCxnSpPr>
        <p:spPr>
          <a:xfrm>
            <a:off x="3137040" y="3001680"/>
            <a:ext cx="597600" cy="732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17"/>
          <p:cNvCxnSpPr/>
          <p:nvPr/>
        </p:nvCxnSpPr>
        <p:spPr>
          <a:xfrm>
            <a:off x="4800240" y="2362320"/>
            <a:ext cx="1080" cy="13723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AutoShape 18"/>
          <p:cNvCxnSpPr>
            <a:stCxn id="174" idx="2"/>
            <a:endCxn id="175" idx="0"/>
          </p:cNvCxnSpPr>
          <p:nvPr/>
        </p:nvCxnSpPr>
        <p:spPr>
          <a:xfrm>
            <a:off x="4762080" y="4572000"/>
            <a:ext cx="1080" cy="381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19"/>
          <p:cNvCxnSpPr/>
          <p:nvPr/>
        </p:nvCxnSpPr>
        <p:spPr>
          <a:xfrm>
            <a:off x="4800240" y="5334120"/>
            <a:ext cx="1080" cy="381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AutoShape 20"/>
          <p:cNvSpPr/>
          <p:nvPr/>
        </p:nvSpPr>
        <p:spPr>
          <a:xfrm flipH="1">
            <a:off x="838080" y="4629240"/>
            <a:ext cx="9907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017" y="11882"/>
                </a:moveTo>
                <a:lnTo>
                  <a:pt x="-1662" y="2422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sb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AutoShape 21"/>
          <p:cNvSpPr/>
          <p:nvPr/>
        </p:nvSpPr>
        <p:spPr>
          <a:xfrm flipH="1">
            <a:off x="6019920" y="4113360"/>
            <a:ext cx="13716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447" y="29363"/>
                </a:moveTo>
                <a:lnTo>
                  <a:pt x="7450" y="2422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sb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22"/>
          <p:cNvSpPr/>
          <p:nvPr/>
        </p:nvSpPr>
        <p:spPr>
          <a:xfrm flipH="1">
            <a:off x="5105520" y="2630520"/>
            <a:ext cx="9144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299" y="5069"/>
                </a:moveTo>
                <a:lnTo>
                  <a:pt x="-1800" y="3455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AutoShape 23"/>
          <p:cNvSpPr/>
          <p:nvPr/>
        </p:nvSpPr>
        <p:spPr>
          <a:xfrm flipH="1">
            <a:off x="3351960" y="2895480"/>
            <a:ext cx="12193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037" y="6272"/>
                </a:moveTo>
                <a:lnTo>
                  <a:pt x="22950" y="6027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ahli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AutoShape 24"/>
          <p:cNvSpPr/>
          <p:nvPr/>
        </p:nvSpPr>
        <p:spPr>
          <a:xfrm flipH="1">
            <a:off x="6780960" y="5181480"/>
            <a:ext cx="21337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4815" y="44028"/>
                </a:moveTo>
                <a:lnTo>
                  <a:pt x="14817" y="2422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gembalia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al Pok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udharabah Muqayyadah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914400" y="2719440"/>
            <a:ext cx="2336760" cy="938160"/>
          </a:xfrm>
          <a:prstGeom prst="ellipse">
            <a:avLst/>
          </a:prstGeom>
          <a:solidFill>
            <a:srgbClr val="def59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PECI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5994360" y="2438280"/>
            <a:ext cx="2438280" cy="1143000"/>
          </a:xfrm>
          <a:prstGeom prst="ellipse">
            <a:avLst/>
          </a:prstGeom>
          <a:solidFill>
            <a:srgbClr val="def59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L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Mudhari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(Pengelol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Oval 5"/>
          <p:cNvSpPr/>
          <p:nvPr/>
        </p:nvSpPr>
        <p:spPr>
          <a:xfrm>
            <a:off x="6095880" y="5105520"/>
            <a:ext cx="2438640" cy="1218960"/>
          </a:xfrm>
          <a:prstGeom prst="ellipse">
            <a:avLst/>
          </a:prstGeom>
          <a:solidFill>
            <a:srgbClr val="def59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Anggo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hibul Ma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Pemilik moda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3251160" y="289548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7"/>
          <p:cNvSpPr/>
          <p:nvPr/>
        </p:nvSpPr>
        <p:spPr>
          <a:xfrm flipH="1">
            <a:off x="3352680" y="312408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3251160" y="35053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8128080" y="3505320"/>
            <a:ext cx="0" cy="14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10"/>
          <p:cNvSpPr/>
          <p:nvPr/>
        </p:nvSpPr>
        <p:spPr>
          <a:xfrm flipV="1">
            <a:off x="7518240" y="358128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6807240" y="358128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5446440" y="3962520"/>
            <a:ext cx="157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6. Bag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asi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6807240" y="4191120"/>
            <a:ext cx="812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3 Inv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an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8128080" y="4038480"/>
            <a:ext cx="914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2 Hubungi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Investor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3556080" y="350532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  Bagi Hasi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3657600" y="312408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 Penyaluran Dan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3556080" y="266688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  Proyek Tertentu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23:35:55Z</dcterms:created>
  <dc:creator>MUAMALAT</dc:creator>
  <dc:description/>
  <dc:language>en-US</dc:language>
  <cp:lastModifiedBy>admin</cp:lastModifiedBy>
  <dcterms:modified xsi:type="dcterms:W3CDTF">2015-06-30T13:31:30Z</dcterms:modified>
  <cp:revision>56</cp:revision>
  <dc:subject/>
  <dc:title>PEMBIAYAAN</dc:title>
</cp:coreProperties>
</file>