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F6B-778B-49CB-88DD-75BB394B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E1A-9856-4EC9-A179-03DE98D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022-FEFB-4E2E-8724-F641EFC0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00F-5D54-4523-A9FC-DE55C149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CEC-07D0-4E8A-A036-C6F5561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59F-CBAB-47DF-B7BB-570571E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D5B-5977-4AA3-986A-7C48E18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DEB-187E-42F7-8AD9-7A61792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975-1DC4-4D90-9C93-9AA2B311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AF7-8964-4C37-B623-FC4865F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B6F-0D99-4168-9C7B-0CD0B18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7BB-24E8-4836-BEC6-97185D0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09E-0439-417E-9A07-4E46BF5FABA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cbsfm.com/pages/83213.php" TargetMode="External"/><Relationship Id="rId2" Type="http://schemas.openxmlformats.org/officeDocument/2006/relationships/hyperlink" Target="http://www.radiogold.gr/top40songs50s.html" TargetMode="External"/><Relationship Id="rId3" Type="http://schemas.openxmlformats.org/officeDocument/2006/relationships/hyperlink" Target="http://www.euro200.net/Decade-1950.htm" TargetMode="External"/><Relationship Id="rId4" Type="http://schemas.openxmlformats.org/officeDocument/2006/relationships/hyperlink" Target="http://www.musicvf.com/songs.php?page=decade&amp;decade=1950&amp;tab=songchartstab&amp;sort=pointsup&amp;filter=all" TargetMode="External"/><Relationship Id="rId5" Type="http://schemas.openxmlformats.org/officeDocument/2006/relationships/hyperlink" Target="http://www.musicvf.com/songs.php?page=decade&amp;decade=1950&amp;tab=countrysongchartstab&amp;sort=pointsup&amp;filter=all" TargetMode="External"/><Relationship Id="rId6" Type="http://schemas.openxmlformats.org/officeDocument/2006/relationships/hyperlink" Target="http://www.musicvf.com/songs.php?page=decade&amp;decade=1950&amp;tab=rnbsongchartstab&amp;sort=pointsup&amp;filter=all" TargetMode="External"/><Relationship Id="rId7" Type="http://schemas.openxmlformats.org/officeDocument/2006/relationships/hyperlink" Target="http://www.musicvf.com/songs.php?page=decade&amp;decade=1950&amp;tab=rnbsongchartstab&amp;sort=pointsup&amp;filter=all" TargetMode="External"/><Relationship Id="rId8" Type="http://schemas.openxmlformats.org/officeDocument/2006/relationships/hyperlink" Target="http://rateyourmusic.com/charts/top/single/1950s" TargetMode="External"/><Relationship Id="rId9" Type="http://schemas.openxmlformats.org/officeDocument/2006/relationships/hyperlink" Target="http://www.acclaimedmusic.net/061024/1950-59s.htm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4172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sic in the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y Agnes and Char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92360" y="4476600"/>
            <a:ext cx="5000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8920" y="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ictures of Elv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2424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955880" cy="267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0120" y="3083040"/>
            <a:ext cx="5033880" cy="3774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340000" y="90792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24000" y="4000680"/>
            <a:ext cx="2087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name is originally Nathaniel Adams Coles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leading jazz pianist who is African American. He is also a capable acto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brought up in Chicago. In 1937, he started playing in Jazz clubs in Los Angeles. There he formed his first jazz band- The King Cole with guitarist Oscar Moore and bassist Wesley Prince. Then he began doubling as a solo si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fought racism all his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1950s, his songs were big hits- such as “Smile” “Pretend”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35280" y="260280"/>
            <a:ext cx="65023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Nat King C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oudy Stout"/>
              <a:ea typeface="Goudy Stout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1413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rch 17th 1919- February 15th 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30840" y="3933720"/>
            <a:ext cx="251316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band is formed in 1962, where old classmates met again in college, and decided to rock it. These include Mick Jagger, Keith Richards, Ronnie Wood and Charlie Wat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is a band in England- they took their name from a Blues song by Muddy Wa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n 12th July 1962, the group played their first formal gig at a cl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on, in 1963, Jagger and Richards took over the band and became leaders. They played rock n roll music, and were called “ The world’s greatest Rock n’ Roll band” before they actually achieved the status and long after they’d lo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band soon fell under the Beatles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5640" y="260280"/>
            <a:ext cx="496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Rolling St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55520"/>
            <a:ext cx="5960880" cy="6702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ict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84804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72280" y="3352680"/>
            <a:ext cx="377172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1125360"/>
            <a:ext cx="3203640" cy="261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230880" y="981000"/>
            <a:ext cx="29131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ock raops by meredith costain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uis, elvis, and ludwig by isob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oble Wikipedia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ock &amp; roll heaven by Philiip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ibliograph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oogle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4360" y="549360"/>
            <a:ext cx="6913440" cy="33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oudy Stout"/>
              </a:rPr>
              <a:t>THE END!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270920" y="4221000"/>
            <a:ext cx="1873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1241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ad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after WW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&amp; Ro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emorable stars in both music an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08924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ots of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J named Rock and roll in Cleveland, O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type of human – Teenag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u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ing par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st form and base of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st form” 3 chords, I , IV,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subgenres includes– Jazz rock fusion, glam rock, heavy metal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rock song in the sixties uses instr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tar back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s electric gu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ms,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, Synthesiz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4797360"/>
            <a:ext cx="377964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ck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rguments between histo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around the clock- Pennsylvania, The fat man, That’s all right (ma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244680" cy="317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2664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708280"/>
            <a:ext cx="5219640" cy="3887640"/>
          </a:xfrm>
          <a:prstGeom prst="vertic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e for a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uine T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ck sk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wi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sound, r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app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omething hard look eas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ve st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s,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y true to your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48360" y="41925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6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668680" cy="2652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1341360"/>
            <a:ext cx="31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x it all together and WHOOSH! Elvis, Madonna, Beatles, a star is mad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ten songs in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84280"/>
          <a:ext cx="8229600" cy="4832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CBS FM - 101.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Top 101 of the 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bby Darin - 'Mack The Knif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o Go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Top 40 Songs Of The '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l Haley &amp; His Comets - 'Rock Around The Clock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C Chart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1950-1959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ff Richard - "Living Doll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Songs Top 500 -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 Anka - "Diana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Country Songs Top 100 -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 Shepard - "A Dear John Letter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RnB</a:t>
                      </a:r>
                      <a:r>
                        <a:rPr b="0" lang="zh-TW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 Songs Top 100 - 1950s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 Anka - "Diana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eYourMusic.com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Top Singles of the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uck Berry - "Johnny B. Goode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laimed Music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The Top 200 Songs from the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uck Berry - 'Johnny B. Good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Disc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Chansons Class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嶪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par Points des Ann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嶪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5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 Beart - "L'eau Vive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rics 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 Singles by Decade - The Fifties ('55-'59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vis Presley - "Don't Be Cruel/Hound Dog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ted (rateyourmusic.com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-1955: Favourite Track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tle Richard - "Tutti Frutti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ger Hal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 Ten Favorite Pop Song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ny Martin - 'All The Things You Ar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 in Tupelo , Mississippi, Elv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King of R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 He had a twin brother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as stillbo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usical influen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 loner at school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eone who is very fond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ic. 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arnt guitar himself. He met a company who approv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his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gave him guitarists.  By 1956, he was an inter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onal sen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album sales : 117.5 million – which was even more than 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n the most gold medals ever- 97 medals i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he best selling sol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good looks, talent, sensuality, charisma and good humor was mainly why he was so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ater then died in Gracel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89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24000" y="26028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oper Black"/>
              </a:rPr>
              <a:t>Elvis Presle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11592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anuary 8th 1935- August 16th 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" y="630864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youtube.com/watch?v=bKYf8LGRy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2:18:26Z</dcterms:created>
  <dc:creator>Agnes</dc:creator>
  <dc:description/>
  <dc:language>en-US</dc:language>
  <cp:lastModifiedBy>USER</cp:lastModifiedBy>
  <dcterms:modified xsi:type="dcterms:W3CDTF">2010-01-25T08:28:40Z</dcterms:modified>
  <cp:revision>13</cp:revision>
  <dc:subject/>
  <dc:title>Music in the 60’s</dc:title>
</cp:coreProperties>
</file>