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6.png" ContentType="image/png"/>
  <Override PartName="/ppt/media/0068%20-%20applause.wav" ContentType="audio/x-wav"/>
  <Override PartName="/ppt/media/image8.png" ContentType="image/png"/>
  <Override PartName="/ppt/media/coin.wav" ContentType="audio/x-wav"/>
  <Override PartName="/ppt/media/image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0142%20-%20bell%20jangles.wav" ContentType="audio/x-wav"/>
  <Override PartName="/ppt/media/%D9%83%D8%B3%D8%B1%20%D9%88%D9%82%D9%81%D9%84.WAV" ContentType="audio/x-wav"/>
  <Override PartName="/ppt/media/image11.jpeg" ContentType="image/jpeg"/>
  <Override PartName="/ppt/media/tada.wav" ContentType="audio/x-wav"/>
  <Override PartName="/ppt/media/image7.jpeg" ContentType="image/jpeg"/>
  <Override PartName="/ppt/media/image28.png" ContentType="image/png"/>
  <Override PartName="/ppt/media/image5.png" ContentType="image/png"/>
  <Override PartName="/ppt/media/image2.wmf" ContentType="image/x-wmf"/>
  <Override PartName="/ppt/media/chimes.wav" ContentType="audio/x-wav"/>
  <Override PartName="/ppt/media/image29.png" ContentType="image/png"/>
  <Override PartName="/ppt/media/Cowbell.wav" ContentType="audio/x-wav"/>
  <Override PartName="/ppt/media/image18.jpeg" ContentType="image/jpeg"/>
  <Override PartName="/ppt/media/SOUND827.WAV" ContentType="audio/x-wav"/>
  <Override PartName="/ppt/media/suction.wav" ContentType="audio/x-wav"/>
  <Override PartName="/ppt/media/image24.wmf" ContentType="image/x-wmf"/>
  <Override PartName="/ppt/media/image12.gif" ContentType="image/gif"/>
  <Override PartName="/ppt/media/image3.jpeg" ContentType="image/jpeg"/>
  <Override PartName="/ppt/media/voltage.wav" ContentType="audio/x-wav"/>
  <Override PartName="/ppt/media/image20.png" ContentType="image/png"/>
  <Override PartName="/ppt/media/cp_empty.wav" ContentType="audio/x-wav"/>
  <Override PartName="/ppt/media/image21.png" ContentType="image/png"/>
  <Override PartName="/ppt/media/image19.png" ContentType="image/png"/>
  <Override PartName="/ppt/media/image22.png" ContentType="image/png"/>
  <Override PartName="/ppt/media/SOUND22.WAV" ContentType="audio/x-wav"/>
  <Override PartName="/ppt/media/0035%20-%20Windows%20error%20sound.wav" ContentType="audio/x-wav"/>
  <Override PartName="/ppt/media/image25.png" ContentType="image/png"/>
  <Override PartName="/ppt/media/image26.png" ContentType="image/png"/>
  <Override PartName="/ppt/media/image4.png" ContentType="image/png"/>
  <Override PartName="/ppt/media/laser.wav" ContentType="audio/x-wav"/>
  <Override PartName="/ppt/media/Misc_Lightning.wav" ContentType="audio/x-wav"/>
  <Override PartName="/ppt/media/image27.png" ContentType="image/png"/>
  <Override PartName="/ppt/media/image30.wmf" ContentType="image/x-wmf"/>
  <Override PartName="/ppt/media/push.wav" ContentType="audio/x-wav"/>
  <Override PartName="/ppt/media/image23.png" ContentType="image/png"/>
  <Override PartName="/ppt/media/image17.png" ContentType="image/png"/>
  <Override PartName="/ppt/media/type.wav" ContentType="audio/x-wav"/>
  <Override PartName="/ppt/media/image14.gif" ContentType="image/gif"/>
  <Override PartName="/ppt/media/SOUND181.WAV" ContentType="audio/x-wav"/>
  <Override PartName="/ppt/media/Misc_UFO_anim.wav" ContentType="audio/x-wav"/>
  <Override PartName="/ppt/media/click.wav" ContentType="audio/x-wav"/>
  <Override PartName="/ppt/media/image6.png" ContentType="image/png"/>
  <Override PartName="/ppt/media/0029%20-%20Windows%20error%20sound.wav" ContentType="audio/x-wav"/>
  <Override PartName="/ppt/media/0048%20-%20alert%20sound.wav" ContentType="audio/x-wav"/>
  <Override PartName="/ppt/media/Disconnect.wav" ContentType="audio/x-wav"/>
  <Override PartName="/ppt/media/0003%20-%20%D9%88%D9%86%D8%AF%D9%88%D8%B2%20%D8%A7%D9%84%D9%88%D8%B5%D9%88%D9%84.wav" ContentType="audio/x-wav"/>
  <Override PartName="/ppt/media/cashreg.wav" ContentType="audio/x-wav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FFBF-9605-41CC-8C51-D1D83C6E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E7F3-EF13-4391-B4C6-32351A67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204-D615-4286-8DB6-2460969E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946-141E-4E40-A013-9904911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2FC-623F-439C-8A42-CE7EB59D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CF9-9827-4665-9D57-25203F5F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8D0-8B3B-4E98-8421-9EA75F8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A25-4096-43D0-B497-FAC09F3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1D9-55BD-42AB-A6B3-9A00E48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8F-F8E8-4C29-87ED-9B917EAE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DC4-21D5-4B26-8B17-27D7114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660-09FC-408E-87F1-0F0F458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7E8-68D7-4604-A21C-B060821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A0A-774F-4684-8F91-145EC0D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41F2-3CA0-4E4F-9988-DDFD5A84BA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3.jpeg"/><Relationship Id="rId4" Type="http://schemas.openxmlformats.org/officeDocument/2006/relationships/audio" Target="../media/0003%20-%20&#1608;&#1606;&#1583;&#1608;&#1586;%20&#1575;&#1604;&#1608;&#1589;&#1608;&#1604;.wav"/><Relationship Id="rId5" Type="http://schemas.openxmlformats.org/officeDocument/2006/relationships/audio" Target="../media/coin.wav"/><Relationship Id="rId6" Type="http://schemas.openxmlformats.org/officeDocument/2006/relationships/audio" Target="../media/0142%20-%20bell%20jangl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cashreg.wav"/><Relationship Id="rId10" Type="http://schemas.openxmlformats.org/officeDocument/2006/relationships/audio" Target="../media/Misc_UFO_anim.wav"/><Relationship Id="rId11" Type="http://schemas.openxmlformats.org/officeDocument/2006/relationships/audio" Target="../media/0068%20-%20applause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0003%20-%20&#1608;&#1606;&#1583;&#1608;&#1586;%20&#1575;&#1604;&#1608;&#1589;&#1608;&#1604;.wav"/><Relationship Id="rId11" Type="http://schemas.openxmlformats.org/officeDocument/2006/relationships/audio" Target="../media/Disconnect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6.png"/><Relationship Id="rId20" Type="http://schemas.openxmlformats.org/officeDocument/2006/relationships/audio" Target="../media/0003%20-%20&#1608;&#1606;&#1583;&#1608;&#1586;%20&#1575;&#1604;&#1608;&#1589;&#1608;&#1604;.wav"/><Relationship Id="rId21" Type="http://schemas.openxmlformats.org/officeDocument/2006/relationships/audio" Target="../media/chimes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cashreg.wav"/><Relationship Id="rId30" Type="http://schemas.openxmlformats.org/officeDocument/2006/relationships/audio" Target="../media/cashreg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0068%20-%20applause.wav"/><Relationship Id="rId36" Type="http://schemas.openxmlformats.org/officeDocument/2006/relationships/audio" Target="../media/0068%20-%20applause.wav"/><Relationship Id="rId37" Type="http://schemas.openxmlformats.org/officeDocument/2006/relationships/audio" Target="../media/0068%20-%20applause.wav"/><Relationship Id="rId38" Type="http://schemas.openxmlformats.org/officeDocument/2006/relationships/audio" Target="../media/0068%20-%20applause.wav"/><Relationship Id="rId39" Type="http://schemas.openxmlformats.org/officeDocument/2006/relationships/audio" Target="../media/0068%20-%20applause.wav"/><Relationship Id="rId40" Type="http://schemas.openxmlformats.org/officeDocument/2006/relationships/audio" Target="../media/0068%20-%20applause.wav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audio" Target="../media/0003%20-%20&#1608;&#1606;&#1583;&#1608;&#1586;%20&#1575;&#1604;&#1608;&#1589;&#1608;&#1604;.wav"/><Relationship Id="rId6" Type="http://schemas.openxmlformats.org/officeDocument/2006/relationships/audio" Target="../media/SOUND22.WAV"/><Relationship Id="rId7" Type="http://schemas.openxmlformats.org/officeDocument/2006/relationships/audio" Target="../media/push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audio" Target="../media/0003%20-%20&#1608;&#1606;&#1583;&#1608;&#1586;%20&#1575;&#1604;&#1608;&#1589;&#1608;&#1604;.wav"/><Relationship Id="rId5" Type="http://schemas.openxmlformats.org/officeDocument/2006/relationships/audio" Target="../media/Misc_Lightning.wav"/><Relationship Id="rId6" Type="http://schemas.openxmlformats.org/officeDocument/2006/relationships/audio" Target="../media/0035%20-%20Windows%20error%20sound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7.jpeg"/><Relationship Id="rId12" Type="http://schemas.openxmlformats.org/officeDocument/2006/relationships/audio" Target="../media/0003%20-%20&#1608;&#1606;&#1583;&#1608;&#1586;%20&#1575;&#1604;&#1608;&#1589;&#1608;&#1604;.wav"/><Relationship Id="rId13" Type="http://schemas.openxmlformats.org/officeDocument/2006/relationships/audio" Target="../media/0048%20-%20alert%20sound.wav"/><Relationship Id="rId14" Type="http://schemas.openxmlformats.org/officeDocument/2006/relationships/audio" Target="../media/0048%20-%20alert%20sound.wav"/><Relationship Id="rId15" Type="http://schemas.openxmlformats.org/officeDocument/2006/relationships/audio" Target="../media/cp_empty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28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6.png"/><Relationship Id="rId14" Type="http://schemas.openxmlformats.org/officeDocument/2006/relationships/audio" Target="../media/0003%20-%20&#1608;&#1606;&#1583;&#1608;&#1586;%20&#1575;&#1604;&#1608;&#1589;&#1608;&#1604;.wav"/><Relationship Id="rId15" Type="http://schemas.openxmlformats.org/officeDocument/2006/relationships/audio" Target="../media/cp_empty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audio" Target="../media/0003%20-%20&#1608;&#1606;&#1583;&#1608;&#1586;%20&#1575;&#1604;&#1608;&#1589;&#1608;&#1604;.wav"/><Relationship Id="rId20" Type="http://schemas.openxmlformats.org/officeDocument/2006/relationships/audio" Target="../media/cp_empty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7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type.wav"/><Relationship Id="rId5" Type="http://schemas.openxmlformats.org/officeDocument/2006/relationships/audio" Target="../media/push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type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audio" Target="../media/0003%20-%20&#1608;&#1606;&#1583;&#1608;&#1586;%20&#1575;&#1604;&#1608;&#1589;&#1608;&#1604;.wav"/><Relationship Id="rId14" Type="http://schemas.openxmlformats.org/officeDocument/2006/relationships/audio" Target="../media/laser.wav"/><Relationship Id="rId15" Type="http://schemas.openxmlformats.org/officeDocument/2006/relationships/audio" Target="../media/&#1603;&#1587;&#1585;%20&#1608;&#1602;&#1601;&#1604;.WAV"/><Relationship Id="rId16" Type="http://schemas.openxmlformats.org/officeDocument/2006/relationships/audio" Target="../media/&#1603;&#1587;&#1585;%20&#1608;&#1602;&#1601;&#1604;.WAV"/><Relationship Id="rId17" Type="http://schemas.openxmlformats.org/officeDocument/2006/relationships/audio" Target="../media/&#1603;&#1587;&#1585;%20&#1608;&#1602;&#1601;&#1604;.WAV"/><Relationship Id="rId18" Type="http://schemas.openxmlformats.org/officeDocument/2006/relationships/audio" Target="../media/&#1603;&#1587;&#1585;%20&#1608;&#1602;&#1601;&#1604;.WAV"/><Relationship Id="rId19" Type="http://schemas.openxmlformats.org/officeDocument/2006/relationships/audio" Target="../media/&#1603;&#1587;&#1585;%20&#1608;&#1602;&#1601;&#1604;.WAV"/><Relationship Id="rId20" Type="http://schemas.openxmlformats.org/officeDocument/2006/relationships/audio" Target="../media/&#1603;&#1587;&#1585;%20&#1608;&#1602;&#1601;&#1604;.WAV"/><Relationship Id="rId21" Type="http://schemas.openxmlformats.org/officeDocument/2006/relationships/audio" Target="../media/&#1603;&#1587;&#1585;%20&#1608;&#1602;&#1601;&#1604;.WAV"/><Relationship Id="rId22" Type="http://schemas.openxmlformats.org/officeDocument/2006/relationships/audio" Target="../media/&#1603;&#1587;&#1585;%20&#1608;&#1602;&#1601;&#1604;.WAV"/><Relationship Id="rId23" Type="http://schemas.openxmlformats.org/officeDocument/2006/relationships/audio" Target="../media/&#1603;&#1587;&#1585;%20&#1608;&#1602;&#1601;&#1604;.WAV"/><Relationship Id="rId24" Type="http://schemas.openxmlformats.org/officeDocument/2006/relationships/audio" Target="../media/&#1603;&#1587;&#1585;%20&#1608;&#1602;&#1601;&#1604;.WAV"/><Relationship Id="rId25" Type="http://schemas.openxmlformats.org/officeDocument/2006/relationships/audio" Target="../media/&#1603;&#1587;&#1585;%20&#1608;&#1602;&#1601;&#1604;.WAV"/><Relationship Id="rId26" Type="http://schemas.openxmlformats.org/officeDocument/2006/relationships/audio" Target="../media/&#1603;&#1587;&#1585;%20&#1608;&#1602;&#1601;&#1604;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coin.wav"/><Relationship Id="rId5" Type="http://schemas.openxmlformats.org/officeDocument/2006/relationships/audio" Target="../media/SOUND827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audio" Target="../media/0003%20-%20&#1608;&#1606;&#1583;&#1608;&#1586;%20&#1575;&#1604;&#1608;&#1589;&#1608;&#1604;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7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audio" Target="../media/0003%20-%20&#1608;&#1606;&#1583;&#1608;&#1586;%20&#1575;&#1604;&#1608;&#1589;&#1608;&#1604;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audio" Target="../media/0068%20-%20applause.wav"/><Relationship Id="rId30" Type="http://schemas.openxmlformats.org/officeDocument/2006/relationships/audio" Target="../media/0068%20-%20applause.wav"/><Relationship Id="rId31" Type="http://schemas.openxmlformats.org/officeDocument/2006/relationships/audio" Target="../media/0068%20-%20applause.wav"/><Relationship Id="rId32" Type="http://schemas.openxmlformats.org/officeDocument/2006/relationships/audio" Target="../media/0068%20-%20applause.wav"/><Relationship Id="rId33" Type="http://schemas.openxmlformats.org/officeDocument/2006/relationships/audio" Target="../media/0068%20-%20applause.wav"/><Relationship Id="rId34" Type="http://schemas.openxmlformats.org/officeDocument/2006/relationships/audio" Target="../media/0068%20-%20applause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click.wav"/><Relationship Id="rId10" Type="http://schemas.openxmlformats.org/officeDocument/2006/relationships/audio" Target="../media/SOUND181.WAV"/><Relationship Id="rId11" Type="http://schemas.openxmlformats.org/officeDocument/2006/relationships/audio" Target="../media/0068%20-%20applause.wav"/><Relationship Id="rId12" Type="http://schemas.openxmlformats.org/officeDocument/2006/relationships/audio" Target="../media/0068%20-%20applaus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2.gif"/><Relationship Id="rId5" Type="http://schemas.openxmlformats.org/officeDocument/2006/relationships/image" Target="../media/image15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audio" Target="../media/0003%20-%20&#1608;&#1606;&#1583;&#1608;&#1586;%20&#1575;&#1604;&#1608;&#1589;&#1608;&#1604;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audio" Target="../media/0068%20-%20applause.wav"/><Relationship Id="rId20" Type="http://schemas.openxmlformats.org/officeDocument/2006/relationships/audio" Target="../media/0068%20-%20applause.wav"/><Relationship Id="rId21" Type="http://schemas.openxmlformats.org/officeDocument/2006/relationships/audio" Target="../media/0068%20-%20applause.wav"/><Relationship Id="rId22" Type="http://schemas.openxmlformats.org/officeDocument/2006/relationships/audio" Target="../media/0068%20-%20applause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7"/>
          <p:cNvSpPr txBox="1"/>
          <p:nvPr/>
        </p:nvSpPr>
        <p:spPr>
          <a:xfrm>
            <a:off x="5940360" y="33336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8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25560">
                <a:solidFill>
                  <a:srgbClr val="8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057400" y="2209680"/>
            <a:ext cx="6019920" cy="2133720"/>
          </a:xfrm>
          <a:prstGeom prst="downArrow">
            <a:avLst>
              <a:gd name="adj1" fmla="val 93287"/>
              <a:gd name="adj2" fmla="val 142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أَسْتَعْمِلُ النُّقودَ لأُمَثِّل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الْمَبْلَغَ نَفْسَهُ بِطَريقَةٍ أُخْ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0003%20-%20%D9%88%D9%86%D8%AF%D9%88%D8%B2%20%D8%A7%D9%84%D9%88%D8%B5%D9%88%D9%84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42%20-%20bell%20jang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11360" y="3429000"/>
            <a:ext cx="7670520" cy="28306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9"/>
          <p:cNvSpPr/>
          <p:nvPr/>
        </p:nvSpPr>
        <p:spPr>
          <a:xfrm>
            <a:off x="2209680" y="380880"/>
            <a:ext cx="5183280" cy="1067040"/>
          </a:xfrm>
          <a:custGeom>
            <a:avLst/>
            <a:gdLst>
              <a:gd name="textAreaLeft" fmla="*/ 958680 w 5183280"/>
              <a:gd name="textAreaRight" fmla="*/ 4224600 w 5183280"/>
              <a:gd name="textAreaTop" fmla="*/ 266760 h 1067040"/>
              <a:gd name="textAreaBottom" fmla="*/ 1016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30052"/>
                <a:lnTo>
                  <a:pt x="3996" y="20574"/>
                </a:lnTo>
                <a:arcTo wR="21600" hR="20153" stAng="6574904" swAng="-2349809"/>
                <a:lnTo>
                  <a:pt x="17604" y="17874"/>
                </a:lnTo>
                <a:arcTo wR="21600" hR="20153" stAng="4225096" swAng="-73005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01871"/>
                <a:lnTo>
                  <a:pt x="14904" y="5033"/>
                </a:lnTo>
                <a:arcTo wR="21600" hR="20153" stAng="4696914" swAng="1406172"/>
                <a:lnTo>
                  <a:pt x="6696" y="2333"/>
                </a:lnTo>
                <a:arcTo wR="21600" hR="20153" stAng="6103086" swAng="1201871"/>
                <a:lnTo>
                  <a:pt x="2700" y="9329"/>
                </a:lnTo>
                <a:close/>
              </a:path>
              <a:path fill="none" w="21600" h="21600">
                <a:moveTo>
                  <a:pt x="6696" y="5033"/>
                </a:moveTo>
                <a:arcTo wR="21600" hR="20153" stAng="6103086" swAng="471819"/>
                <a:lnTo>
                  <a:pt x="6696" y="2333"/>
                </a:lnTo>
              </a:path>
              <a:path fill="none" w="21600" h="21600">
                <a:moveTo>
                  <a:pt x="14904" y="5033"/>
                </a:moveTo>
                <a:arcTo wR="21600" hR="20153" stAng="4696914" swAng="-471819"/>
                <a:lnTo>
                  <a:pt x="14904" y="2333"/>
                </a:lnTo>
              </a:path>
              <a:path fill="none" w="21600" h="21600">
                <a:moveTo>
                  <a:pt x="3996" y="17874"/>
                </a:moveTo>
                <a:lnTo>
                  <a:pt x="3996" y="4374"/>
                </a:lnTo>
              </a:path>
              <a:path fill="none" w="21600" h="21600">
                <a:moveTo>
                  <a:pt x="17604" y="17874"/>
                </a:moveTo>
                <a:lnTo>
                  <a:pt x="17604" y="4374"/>
                </a:lnTo>
              </a:path>
            </a:pathLst>
          </a:custGeom>
          <a:solidFill>
            <a:srgbClr val="00808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lang="ar-EG" sz="4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أمُثَلِّ 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37</a:t>
            </a: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 رِيال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5 ريال سعودي"/>
          <p:cNvPicPr/>
          <p:nvPr/>
        </p:nvPicPr>
        <p:blipFill>
          <a:blip r:embed="rId2"/>
          <a:stretch/>
        </p:blipFill>
        <p:spPr>
          <a:xfrm>
            <a:off x="2971800" y="53211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-10f"/>
          <p:cNvPicPr/>
          <p:nvPr/>
        </p:nvPicPr>
        <p:blipFill>
          <a:blip r:embed="rId3"/>
          <a:stretch/>
        </p:blipFill>
        <p:spPr>
          <a:xfrm>
            <a:off x="2895480" y="34020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4-10f"/>
          <p:cNvPicPr/>
          <p:nvPr/>
        </p:nvPicPr>
        <p:blipFill>
          <a:blip r:embed="rId4"/>
          <a:stretch/>
        </p:blipFill>
        <p:spPr>
          <a:xfrm>
            <a:off x="1371600" y="34020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4-10f"/>
          <p:cNvPicPr/>
          <p:nvPr/>
        </p:nvPicPr>
        <p:blipFill>
          <a:blip r:embed="rId5"/>
          <a:stretch/>
        </p:blipFill>
        <p:spPr>
          <a:xfrm>
            <a:off x="2819520" y="43164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ريال6"/>
          <p:cNvPicPr/>
          <p:nvPr/>
        </p:nvPicPr>
        <p:blipFill>
          <a:blip r:embed="rId6"/>
          <a:stretch/>
        </p:blipFill>
        <p:spPr>
          <a:xfrm>
            <a:off x="1143000" y="53341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ريال6"/>
          <p:cNvPicPr/>
          <p:nvPr/>
        </p:nvPicPr>
        <p:blipFill>
          <a:blip r:embed="rId7"/>
          <a:stretch/>
        </p:blipFill>
        <p:spPr>
          <a:xfrm>
            <a:off x="1219320" y="4495680"/>
            <a:ext cx="1523880" cy="695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8" name="0003%20-%20%D9%88%D9%86%D8%AF%D9%88%D8%B2%20%D8%A7%D9%84%D9%88%D8%B5%D9%88%D9%84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isc_UFO_ani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6"/>
          <p:cNvSpPr/>
          <p:nvPr/>
        </p:nvSpPr>
        <p:spPr>
          <a:xfrm>
            <a:off x="1403280" y="476280"/>
            <a:ext cx="5183280" cy="906480"/>
          </a:xfrm>
          <a:custGeom>
            <a:avLst/>
            <a:gdLst>
              <a:gd name="textAreaLeft" fmla="*/ 1549440 w 5183280"/>
              <a:gd name="textAreaRight" fmla="*/ 3633840 w 5183280"/>
              <a:gd name="textAreaTop" fmla="*/ 225360 h 906480"/>
              <a:gd name="textAreaBottom" fmla="*/ 88956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6228"/>
                </a:moveTo>
                <a:arcTo wR="21600" hR="20153" stAng="7304956" swAng="-1160534"/>
                <a:lnTo>
                  <a:pt x="6457" y="21188"/>
                </a:lnTo>
                <a:arcTo wR="21600" hR="20153" stAng="6144422" swAng="-1488845"/>
                <a:lnTo>
                  <a:pt x="15143" y="18516"/>
                </a:lnTo>
                <a:arcTo wR="21600" hR="20153" stAng="4655578" swAng="-1160534"/>
                <a:lnTo>
                  <a:pt x="18900" y="9343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624500"/>
                <a:lnTo>
                  <a:pt x="12443" y="5314"/>
                </a:lnTo>
                <a:arcTo wR="21600" hR="20153" stAng="5119544" swAng="560912"/>
                <a:lnTo>
                  <a:pt x="9157" y="2642"/>
                </a:lnTo>
                <a:arcTo wR="21600" hR="20153" stAng="5680456" swAng="1624500"/>
                <a:lnTo>
                  <a:pt x="2700" y="9343"/>
                </a:lnTo>
                <a:close/>
              </a:path>
              <a:path fill="none" w="21600" h="21600">
                <a:moveTo>
                  <a:pt x="9157" y="5314"/>
                </a:moveTo>
                <a:arcTo wR="21600" hR="20153" stAng="5680456" swAng="463966"/>
                <a:lnTo>
                  <a:pt x="9157" y="2642"/>
                </a:lnTo>
              </a:path>
              <a:path fill="none" w="21600" h="21600">
                <a:moveTo>
                  <a:pt x="12443" y="5314"/>
                </a:moveTo>
                <a:arcTo wR="21600" hR="20153" stAng="5119544" swAng="-463966"/>
                <a:lnTo>
                  <a:pt x="12443" y="2642"/>
                </a:lnTo>
              </a:path>
              <a:path fill="none" w="21600" h="21600">
                <a:moveTo>
                  <a:pt x="6457" y="18516"/>
                </a:moveTo>
                <a:lnTo>
                  <a:pt x="6457" y="4960"/>
                </a:lnTo>
              </a:path>
              <a:path fill="none" w="21600" h="21600">
                <a:moveTo>
                  <a:pt x="15143" y="18516"/>
                </a:moveTo>
                <a:lnTo>
                  <a:pt x="15143" y="4960"/>
                </a:lnTo>
              </a:path>
            </a:pathLst>
          </a:custGeom>
          <a:solidFill>
            <a:srgbClr val="990099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أمُثَلِّ </a:t>
            </a: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40</a:t>
            </a:r>
            <a:r>
              <a:rPr b="0" lang="ar-SA" sz="3200" spc="-1" strike="noStrike">
                <a:solidFill>
                  <a:srgbClr val="99ff33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5 ريال سعودي"/>
          <p:cNvPicPr/>
          <p:nvPr/>
        </p:nvPicPr>
        <p:blipFill>
          <a:blip r:embed="rId1"/>
          <a:stretch/>
        </p:blipFill>
        <p:spPr>
          <a:xfrm>
            <a:off x="6629400" y="2895480"/>
            <a:ext cx="2057400" cy="851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4-10f"/>
          <p:cNvPicPr/>
          <p:nvPr/>
        </p:nvPicPr>
        <p:blipFill>
          <a:blip r:embed="rId2"/>
          <a:stretch/>
        </p:blipFill>
        <p:spPr>
          <a:xfrm>
            <a:off x="7315200" y="167652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5 ريال سعودي"/>
          <p:cNvPicPr/>
          <p:nvPr/>
        </p:nvPicPr>
        <p:blipFill>
          <a:blip r:embed="rId3"/>
          <a:stretch/>
        </p:blipFill>
        <p:spPr>
          <a:xfrm>
            <a:off x="4952880" y="2895480"/>
            <a:ext cx="1540080" cy="851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-10f"/>
          <p:cNvPicPr/>
          <p:nvPr/>
        </p:nvPicPr>
        <p:blipFill>
          <a:blip r:embed="rId4"/>
          <a:stretch/>
        </p:blipFill>
        <p:spPr>
          <a:xfrm>
            <a:off x="3962520" y="1676520"/>
            <a:ext cx="1612800" cy="94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4-10f"/>
          <p:cNvPicPr/>
          <p:nvPr/>
        </p:nvPicPr>
        <p:blipFill>
          <a:blip r:embed="rId5"/>
          <a:stretch/>
        </p:blipFill>
        <p:spPr>
          <a:xfrm>
            <a:off x="2666880" y="434340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4-10f"/>
          <p:cNvPicPr/>
          <p:nvPr/>
        </p:nvPicPr>
        <p:blipFill>
          <a:blip r:embed="rId6"/>
          <a:stretch/>
        </p:blipFill>
        <p:spPr>
          <a:xfrm>
            <a:off x="977760" y="434340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4-10f"/>
          <p:cNvPicPr/>
          <p:nvPr/>
        </p:nvPicPr>
        <p:blipFill>
          <a:blip r:embed="rId7"/>
          <a:stretch/>
        </p:blipFill>
        <p:spPr>
          <a:xfrm>
            <a:off x="2666880" y="5334120"/>
            <a:ext cx="1613160" cy="94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4-10f"/>
          <p:cNvPicPr/>
          <p:nvPr/>
        </p:nvPicPr>
        <p:blipFill>
          <a:blip r:embed="rId8"/>
          <a:stretch/>
        </p:blipFill>
        <p:spPr>
          <a:xfrm>
            <a:off x="914400" y="5334120"/>
            <a:ext cx="1612800" cy="94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4-10f"/>
          <p:cNvPicPr/>
          <p:nvPr/>
        </p:nvPicPr>
        <p:blipFill>
          <a:blip r:embed="rId9"/>
          <a:stretch/>
        </p:blipFill>
        <p:spPr>
          <a:xfrm>
            <a:off x="5638680" y="1676520"/>
            <a:ext cx="1536840" cy="946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0" name="0003%20-%20%D9%88%D9%86%D8%AF%D9%88%D8%B2%20%D8%A7%D9%84%D9%88%D8%B5%D9%88%D9%84.wav"/>
      </p:stSnd>
    </p:sndAc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7"/>
          <p:cNvSpPr/>
          <p:nvPr/>
        </p:nvSpPr>
        <p:spPr>
          <a:xfrm>
            <a:off x="1905120" y="533520"/>
            <a:ext cx="5182920" cy="906480"/>
          </a:xfrm>
          <a:custGeom>
            <a:avLst/>
            <a:gdLst>
              <a:gd name="textAreaLeft" fmla="*/ 958680 w 5182920"/>
              <a:gd name="textAreaRight" fmla="*/ 4224240 w 5182920"/>
              <a:gd name="textAreaTop" fmla="*/ 226440 h 906480"/>
              <a:gd name="textAreaBottom" fmla="*/ 8636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30052"/>
                <a:lnTo>
                  <a:pt x="3996" y="20574"/>
                </a:lnTo>
                <a:arcTo wR="21600" hR="20153" stAng="6574904" swAng="-2349809"/>
                <a:lnTo>
                  <a:pt x="17604" y="17874"/>
                </a:lnTo>
                <a:arcTo wR="21600" hR="20153" stAng="4225096" swAng="-73005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01871"/>
                <a:lnTo>
                  <a:pt x="14904" y="5033"/>
                </a:lnTo>
                <a:arcTo wR="21600" hR="20153" stAng="4696914" swAng="1406172"/>
                <a:lnTo>
                  <a:pt x="6696" y="2333"/>
                </a:lnTo>
                <a:arcTo wR="21600" hR="20153" stAng="6103086" swAng="1201871"/>
                <a:lnTo>
                  <a:pt x="2700" y="9329"/>
                </a:lnTo>
                <a:close/>
              </a:path>
              <a:path fill="none" w="21600" h="21600">
                <a:moveTo>
                  <a:pt x="6696" y="5033"/>
                </a:moveTo>
                <a:arcTo wR="21600" hR="20153" stAng="6103086" swAng="471819"/>
                <a:lnTo>
                  <a:pt x="6696" y="2333"/>
                </a:lnTo>
              </a:path>
              <a:path fill="none" w="21600" h="21600">
                <a:moveTo>
                  <a:pt x="14904" y="5033"/>
                </a:moveTo>
                <a:arcTo wR="21600" hR="20153" stAng="4696914" swAng="-471819"/>
                <a:lnTo>
                  <a:pt x="14904" y="2333"/>
                </a:lnTo>
              </a:path>
              <a:path fill="none" w="21600" h="21600">
                <a:moveTo>
                  <a:pt x="3996" y="17874"/>
                </a:moveTo>
                <a:lnTo>
                  <a:pt x="3996" y="4374"/>
                </a:lnTo>
              </a:path>
              <a:path fill="none" w="21600" h="21600">
                <a:moveTo>
                  <a:pt x="17604" y="17874"/>
                </a:moveTo>
                <a:lnTo>
                  <a:pt x="17604" y="4374"/>
                </a:lnTo>
              </a:path>
            </a:pathLst>
          </a:custGeom>
          <a:solidFill>
            <a:srgbClr val="ff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مُثَلِّ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5 ريال سعودي"/>
          <p:cNvPicPr/>
          <p:nvPr/>
        </p:nvPicPr>
        <p:blipFill>
          <a:blip r:embed="rId1"/>
          <a:stretch/>
        </p:blipFill>
        <p:spPr>
          <a:xfrm>
            <a:off x="4419720" y="1676520"/>
            <a:ext cx="1295280" cy="850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-10f"/>
          <p:cNvPicPr/>
          <p:nvPr/>
        </p:nvPicPr>
        <p:blipFill>
          <a:blip r:embed="rId2"/>
          <a:stretch/>
        </p:blipFill>
        <p:spPr>
          <a:xfrm>
            <a:off x="7467480" y="167652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ريال6"/>
          <p:cNvPicPr/>
          <p:nvPr/>
        </p:nvPicPr>
        <p:blipFill>
          <a:blip r:embed="rId3"/>
          <a:stretch/>
        </p:blipFill>
        <p:spPr>
          <a:xfrm>
            <a:off x="3352680" y="2666880"/>
            <a:ext cx="13687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4-10f"/>
          <p:cNvPicPr/>
          <p:nvPr/>
        </p:nvPicPr>
        <p:blipFill>
          <a:blip r:embed="rId4"/>
          <a:stretch/>
        </p:blipFill>
        <p:spPr>
          <a:xfrm>
            <a:off x="5943600" y="167652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5 ريال سعودي"/>
          <p:cNvPicPr/>
          <p:nvPr/>
        </p:nvPicPr>
        <p:blipFill>
          <a:blip r:embed="rId5"/>
          <a:stretch/>
        </p:blipFill>
        <p:spPr>
          <a:xfrm>
            <a:off x="2971800" y="1676520"/>
            <a:ext cx="1295280" cy="85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5 ريال سعودي"/>
          <p:cNvPicPr/>
          <p:nvPr/>
        </p:nvPicPr>
        <p:blipFill>
          <a:blip r:embed="rId6"/>
          <a:stretch/>
        </p:blipFill>
        <p:spPr>
          <a:xfrm>
            <a:off x="76201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5 ريال سعودي"/>
          <p:cNvPicPr/>
          <p:nvPr/>
        </p:nvPicPr>
        <p:blipFill>
          <a:blip r:embed="rId7"/>
          <a:stretch/>
        </p:blipFill>
        <p:spPr>
          <a:xfrm>
            <a:off x="62485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5 ريال سعودي"/>
          <p:cNvPicPr/>
          <p:nvPr/>
        </p:nvPicPr>
        <p:blipFill>
          <a:blip r:embed="rId8"/>
          <a:stretch/>
        </p:blipFill>
        <p:spPr>
          <a:xfrm>
            <a:off x="4876920" y="26668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ريال6"/>
          <p:cNvPicPr/>
          <p:nvPr/>
        </p:nvPicPr>
        <p:blipFill>
          <a:blip r:embed="rId9"/>
          <a:stretch/>
        </p:blipFill>
        <p:spPr>
          <a:xfrm>
            <a:off x="777240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ريال6"/>
          <p:cNvPicPr/>
          <p:nvPr/>
        </p:nvPicPr>
        <p:blipFill>
          <a:blip r:embed="rId10"/>
          <a:stretch/>
        </p:blipFill>
        <p:spPr>
          <a:xfrm>
            <a:off x="647712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ريال6"/>
          <p:cNvPicPr/>
          <p:nvPr/>
        </p:nvPicPr>
        <p:blipFill>
          <a:blip r:embed="rId11"/>
          <a:stretch/>
        </p:blipFill>
        <p:spPr>
          <a:xfrm>
            <a:off x="518148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ريال6"/>
          <p:cNvPicPr/>
          <p:nvPr/>
        </p:nvPicPr>
        <p:blipFill>
          <a:blip r:embed="rId12"/>
          <a:stretch/>
        </p:blipFill>
        <p:spPr>
          <a:xfrm>
            <a:off x="388620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ريال6"/>
          <p:cNvPicPr/>
          <p:nvPr/>
        </p:nvPicPr>
        <p:blipFill>
          <a:blip r:embed="rId13"/>
          <a:stretch/>
        </p:blipFill>
        <p:spPr>
          <a:xfrm>
            <a:off x="2590920" y="3581280"/>
            <a:ext cx="1216080" cy="7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4-10f"/>
          <p:cNvPicPr/>
          <p:nvPr/>
        </p:nvPicPr>
        <p:blipFill>
          <a:blip r:embed="rId14"/>
          <a:stretch/>
        </p:blipFill>
        <p:spPr>
          <a:xfrm>
            <a:off x="33526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4-10f"/>
          <p:cNvPicPr/>
          <p:nvPr/>
        </p:nvPicPr>
        <p:blipFill>
          <a:blip r:embed="rId15"/>
          <a:stretch/>
        </p:blipFill>
        <p:spPr>
          <a:xfrm>
            <a:off x="17524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4-10f"/>
          <p:cNvPicPr/>
          <p:nvPr/>
        </p:nvPicPr>
        <p:blipFill>
          <a:blip r:embed="rId16"/>
          <a:stretch/>
        </p:blipFill>
        <p:spPr>
          <a:xfrm>
            <a:off x="152280" y="495288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4-10f"/>
          <p:cNvPicPr/>
          <p:nvPr/>
        </p:nvPicPr>
        <p:blipFill>
          <a:blip r:embed="rId17"/>
          <a:stretch/>
        </p:blipFill>
        <p:spPr>
          <a:xfrm>
            <a:off x="3352680" y="59166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-10f"/>
          <p:cNvPicPr/>
          <p:nvPr/>
        </p:nvPicPr>
        <p:blipFill>
          <a:blip r:embed="rId18"/>
          <a:stretch/>
        </p:blipFill>
        <p:spPr>
          <a:xfrm>
            <a:off x="1752480" y="59166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ريال6"/>
          <p:cNvPicPr/>
          <p:nvPr/>
        </p:nvPicPr>
        <p:blipFill>
          <a:blip r:embed="rId19"/>
          <a:stretch/>
        </p:blipFill>
        <p:spPr>
          <a:xfrm>
            <a:off x="380880" y="6095880"/>
            <a:ext cx="1216080" cy="762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0" name="0003%20-%20%D9%88%D9%86%D8%AF%D9%88%D8%B2%20%D8%A7%D9%84%D9%88%D8%B5%D9%88%D9%84.wav"/>
      </p:stSnd>
    </p:sndAc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6"/>
          <p:cNvSpPr/>
          <p:nvPr/>
        </p:nvSpPr>
        <p:spPr>
          <a:xfrm>
            <a:off x="380880" y="1523880"/>
            <a:ext cx="5472360" cy="2819520"/>
          </a:xfrm>
          <a:prstGeom prst="horizontalScroll">
            <a:avLst>
              <a:gd name="adj" fmla="val 13657"/>
            </a:avLst>
          </a:prstGeom>
          <a:solidFill>
            <a:srgbClr val="00b0f0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مَسْأَلَةً عَنِ الأَوْراقِ النَّقْدِيَّةِ المُجَاوِرَةِ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ثُمَّ أَطْلُبُ إِلَى زَميِليِ أَنْ يَحُلَّ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029200" y="457200"/>
            <a:ext cx="3657600" cy="1008000"/>
          </a:xfrm>
          <a:custGeom>
            <a:avLst/>
            <a:gdLst>
              <a:gd name="textAreaLeft" fmla="*/ 581760 w 3657600"/>
              <a:gd name="textAreaRight" fmla="*/ 3075840 w 3657600"/>
              <a:gd name="textAreaTop" fmla="*/ 252000 h 1008000"/>
              <a:gd name="textAreaBottom" fmla="*/ 951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30701"/>
                <a:lnTo>
                  <a:pt x="3437" y="20393"/>
                </a:lnTo>
                <a:arcTo wR="21600" hR="20153" stAng="6674255" swAng="-2548511"/>
                <a:lnTo>
                  <a:pt x="18163" y="17693"/>
                </a:lnTo>
                <a:arcTo wR="21600" hR="20153" stAng="4125745" swAng="-63070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05080"/>
                <a:lnTo>
                  <a:pt x="15463" y="4925"/>
                </a:lnTo>
                <a:arcTo wR="21600" hR="20153" stAng="4600123" swAng="1599753"/>
                <a:lnTo>
                  <a:pt x="6137" y="2225"/>
                </a:lnTo>
                <a:arcTo wR="21600" hR="20153" stAng="6199877" swAng="1105080"/>
                <a:lnTo>
                  <a:pt x="2700" y="9329"/>
                </a:lnTo>
                <a:close/>
              </a:path>
              <a:path fill="none" w="21600" h="21600">
                <a:moveTo>
                  <a:pt x="6137" y="4925"/>
                </a:moveTo>
                <a:arcTo wR="21600" hR="20153" stAng="6199877" swAng="474379"/>
                <a:lnTo>
                  <a:pt x="6137" y="2225"/>
                </a:lnTo>
              </a:path>
              <a:path fill="none" w="21600" h="21600">
                <a:moveTo>
                  <a:pt x="15463" y="4925"/>
                </a:moveTo>
                <a:arcTo wR="21600" hR="20153" stAng="4600123" swAng="-474379"/>
                <a:lnTo>
                  <a:pt x="15463" y="2225"/>
                </a:lnTo>
              </a:path>
              <a:path fill="none" w="21600" h="21600">
                <a:moveTo>
                  <a:pt x="3437" y="17693"/>
                </a:moveTo>
                <a:lnTo>
                  <a:pt x="3437" y="4193"/>
                </a:lnTo>
              </a:path>
              <a:path fill="none" w="21600" h="21600">
                <a:moveTo>
                  <a:pt x="18163" y="17693"/>
                </a:moveTo>
                <a:lnTo>
                  <a:pt x="18163" y="4193"/>
                </a:lnTo>
              </a:path>
            </a:pathLst>
          </a:custGeom>
          <a:solidFill>
            <a:srgbClr val="ff9966"/>
          </a:solidFill>
          <a:ln w="57240">
            <a:solidFill>
              <a:srgbClr val="59cb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Calibri"/>
              </a:rPr>
              <a:t>أكت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4-10f"/>
          <p:cNvPicPr/>
          <p:nvPr/>
        </p:nvPicPr>
        <p:blipFill>
          <a:blip r:embed="rId1"/>
          <a:stretch/>
        </p:blipFill>
        <p:spPr>
          <a:xfrm>
            <a:off x="6705720" y="1600200"/>
            <a:ext cx="1460520" cy="94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5 ريال سعودي"/>
          <p:cNvPicPr/>
          <p:nvPr/>
        </p:nvPicPr>
        <p:blipFill>
          <a:blip r:embed="rId2"/>
          <a:stretch/>
        </p:blipFill>
        <p:spPr>
          <a:xfrm>
            <a:off x="7467480" y="2590920"/>
            <a:ext cx="1295640" cy="850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5 ريال سعودي"/>
          <p:cNvPicPr/>
          <p:nvPr/>
        </p:nvPicPr>
        <p:blipFill>
          <a:blip r:embed="rId3"/>
          <a:stretch/>
        </p:blipFill>
        <p:spPr>
          <a:xfrm>
            <a:off x="6095880" y="2590920"/>
            <a:ext cx="1295640" cy="850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ريال6"/>
          <p:cNvPicPr/>
          <p:nvPr/>
        </p:nvPicPr>
        <p:blipFill>
          <a:blip r:embed="rId4"/>
          <a:stretch/>
        </p:blipFill>
        <p:spPr>
          <a:xfrm>
            <a:off x="6781680" y="3505320"/>
            <a:ext cx="121608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7"/>
          <p:cNvSpPr/>
          <p:nvPr/>
        </p:nvSpPr>
        <p:spPr>
          <a:xfrm>
            <a:off x="685800" y="4576680"/>
            <a:ext cx="7537320" cy="204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838080" y="454968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أعطاني أب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أعطتني أمي 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وورقة نقدي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. كم 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ريالاً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0003%20-%20%D9%88%D9%86%D8%AF%D9%88%D8%B2%20%D8%A7%D9%84%D9%88%D8%B5%D9%88%D9%84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OUND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1403280" y="692280"/>
            <a:ext cx="432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+mn-cs"/>
              </a:rPr>
              <a:t>نشاط منز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+mn-cs"/>
              <a:ea typeface="+mn-cs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2340000" y="2924280"/>
            <a:ext cx="4968720" cy="2409840"/>
          </a:xfrm>
          <a:prstGeom prst="rightArrowCallout">
            <a:avLst>
              <a:gd name="adj1" fmla="val 22308"/>
              <a:gd name="adj2" fmla="val 25000"/>
              <a:gd name="adj3" fmla="val 29038"/>
              <a:gd name="adj4" fmla="val 84403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أستعمل أوراقاً نقدية لتك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 مبلغاً يقل عن </a:t>
            </a: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100</a:t>
            </a: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 ريال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ثم اطلب إلى طفلك أن ي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Calibri"/>
              </a:rPr>
              <a:t>هذا المبلغ بطريقة أخر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BARN01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0003%20-%20%D9%88%D9%86%D8%AF%D9%88%D8%B2%20%D8%A7%D9%84%D9%88%D8%B5%D9%88%D9%84.wav"/>
      </p:stSnd>
    </p:sndAc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isc_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35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286000" y="685800"/>
            <a:ext cx="432108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 rot="1201200">
            <a:off x="249120" y="588600"/>
            <a:ext cx="2186280" cy="1150920"/>
          </a:xfrm>
          <a:prstGeom prst="rightArrow">
            <a:avLst>
              <a:gd name="adj1" fmla="val 50000"/>
              <a:gd name="adj2" fmla="val 5824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35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2971800" y="3505320"/>
            <a:ext cx="3471840" cy="26668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89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190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7"/>
          <p:cNvGrpSpPr/>
          <p:nvPr/>
        </p:nvGrpSpPr>
        <p:grpSpPr>
          <a:xfrm>
            <a:off x="1760400" y="1628640"/>
            <a:ext cx="3800520" cy="1641600"/>
            <a:chOff x="1760400" y="1628640"/>
            <a:chExt cx="3800520" cy="1641600"/>
          </a:xfrm>
        </p:grpSpPr>
        <p:pic>
          <p:nvPicPr>
            <p:cNvPr id="193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1752120" y="2201760"/>
              <a:ext cx="194724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2284920" y="216792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2900880" y="213336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3526200" y="2153160"/>
              <a:ext cx="203580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9" descr="4-10f"/>
          <p:cNvPicPr/>
          <p:nvPr/>
        </p:nvPicPr>
        <p:blipFill>
          <a:blip r:embed="rId7"/>
          <a:stretch/>
        </p:blipFill>
        <p:spPr>
          <a:xfrm>
            <a:off x="4816440" y="3809880"/>
            <a:ext cx="1432080" cy="66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5 ريال سعودي"/>
          <p:cNvPicPr/>
          <p:nvPr/>
        </p:nvPicPr>
        <p:blipFill>
          <a:blip r:embed="rId8"/>
          <a:stretch/>
        </p:blipFill>
        <p:spPr>
          <a:xfrm>
            <a:off x="3200400" y="388620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5 ريال سعودي"/>
          <p:cNvPicPr/>
          <p:nvPr/>
        </p:nvPicPr>
        <p:blipFill>
          <a:blip r:embed="rId9"/>
          <a:stretch/>
        </p:blipFill>
        <p:spPr>
          <a:xfrm>
            <a:off x="4724280" y="449568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5 ريال سعودي"/>
          <p:cNvPicPr/>
          <p:nvPr/>
        </p:nvPicPr>
        <p:blipFill>
          <a:blip r:embed="rId10"/>
          <a:stretch/>
        </p:blipFill>
        <p:spPr>
          <a:xfrm>
            <a:off x="3200400" y="4572000"/>
            <a:ext cx="1406520" cy="622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4-10f"/>
          <p:cNvPicPr/>
          <p:nvPr/>
        </p:nvPicPr>
        <p:blipFill>
          <a:blip r:embed="rId11"/>
          <a:stretch/>
        </p:blipFill>
        <p:spPr>
          <a:xfrm>
            <a:off x="3962520" y="5257800"/>
            <a:ext cx="1431720" cy="66348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2" name="0003%20-%20%D9%88%D9%86%D8%AF%D9%88%D8%B2%20%D8%A7%D9%84%D9%88%D8%B5%D9%88%D9%84.wav"/>
      </p:stSnd>
    </p:sndAc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48%20-%20alert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48%20-%20alert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 rot="1201200">
            <a:off x="249120" y="588600"/>
            <a:ext cx="2186280" cy="1150920"/>
          </a:xfrm>
          <a:prstGeom prst="rightArrow">
            <a:avLst>
              <a:gd name="adj1" fmla="val 50000"/>
              <a:gd name="adj2" fmla="val 5824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41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2209680" y="3962520"/>
            <a:ext cx="5257800" cy="22096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206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207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7"/>
          <p:cNvGrpSpPr/>
          <p:nvPr/>
        </p:nvGrpSpPr>
        <p:grpSpPr>
          <a:xfrm>
            <a:off x="4808520" y="1476000"/>
            <a:ext cx="3800160" cy="1641600"/>
            <a:chOff x="4808520" y="1476000"/>
            <a:chExt cx="3800160" cy="1641600"/>
          </a:xfrm>
        </p:grpSpPr>
        <p:pic>
          <p:nvPicPr>
            <p:cNvPr id="210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800240" y="2049120"/>
              <a:ext cx="194688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5332680" y="201528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5949000" y="1980720"/>
              <a:ext cx="20358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6573960" y="2000520"/>
              <a:ext cx="203580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9" descr="4-10f"/>
          <p:cNvPicPr/>
          <p:nvPr/>
        </p:nvPicPr>
        <p:blipFill>
          <a:blip r:embed="rId7"/>
          <a:stretch/>
        </p:blipFill>
        <p:spPr>
          <a:xfrm>
            <a:off x="5638680" y="4410000"/>
            <a:ext cx="1432080" cy="663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4-10f"/>
          <p:cNvPicPr/>
          <p:nvPr/>
        </p:nvPicPr>
        <p:blipFill>
          <a:blip r:embed="rId8"/>
          <a:stretch/>
        </p:blipFill>
        <p:spPr>
          <a:xfrm>
            <a:off x="4038480" y="4410000"/>
            <a:ext cx="1432080" cy="663480"/>
          </a:xfrm>
          <a:prstGeom prst="rect">
            <a:avLst/>
          </a:prstGeom>
          <a:ln w="0">
            <a:noFill/>
          </a:ln>
        </p:spPr>
      </p:pic>
      <p:sp>
        <p:nvSpPr>
          <p:cNvPr id="216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5 ريال سعودي"/>
          <p:cNvPicPr/>
          <p:nvPr/>
        </p:nvPicPr>
        <p:blipFill>
          <a:blip r:embed="rId9"/>
          <a:stretch/>
        </p:blipFill>
        <p:spPr>
          <a:xfrm rot="19626000">
            <a:off x="4049640" y="1905120"/>
            <a:ext cx="1843200" cy="544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ريال6"/>
          <p:cNvPicPr/>
          <p:nvPr/>
        </p:nvPicPr>
        <p:blipFill>
          <a:blip r:embed="rId10"/>
          <a:stretch/>
        </p:blipFill>
        <p:spPr>
          <a:xfrm rot="19729200">
            <a:off x="3208320" y="1806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4-10f"/>
          <p:cNvPicPr/>
          <p:nvPr/>
        </p:nvPicPr>
        <p:blipFill>
          <a:blip r:embed="rId11"/>
          <a:stretch/>
        </p:blipFill>
        <p:spPr>
          <a:xfrm>
            <a:off x="2438280" y="4410000"/>
            <a:ext cx="1432080" cy="66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4-10f"/>
          <p:cNvPicPr/>
          <p:nvPr/>
        </p:nvPicPr>
        <p:blipFill>
          <a:blip r:embed="rId12"/>
          <a:stretch/>
        </p:blipFill>
        <p:spPr>
          <a:xfrm>
            <a:off x="4876920" y="5248440"/>
            <a:ext cx="1431720" cy="663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ريال6"/>
          <p:cNvPicPr/>
          <p:nvPr/>
        </p:nvPicPr>
        <p:blipFill>
          <a:blip r:embed="rId13"/>
          <a:stretch/>
        </p:blipFill>
        <p:spPr>
          <a:xfrm>
            <a:off x="2971800" y="5324400"/>
            <a:ext cx="1600200" cy="619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4" name="0003%20-%20%D9%88%D9%86%D8%AF%D9%88%D8%B2%20%D8%A7%D9%84%D9%88%D8%B5%D9%88%D9%84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4"/>
          <p:cNvSpPr/>
          <p:nvPr/>
        </p:nvSpPr>
        <p:spPr>
          <a:xfrm rot="1201200">
            <a:off x="247680" y="597960"/>
            <a:ext cx="2246400" cy="1151280"/>
          </a:xfrm>
          <a:prstGeom prst="rightArrow">
            <a:avLst>
              <a:gd name="adj1" fmla="val 50000"/>
              <a:gd name="adj2" fmla="val 58211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أمثل 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28</a:t>
            </a: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 ريال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5111" t="22819" r="56414" b="64141"/>
          <a:stretch/>
        </p:blipFill>
        <p:spPr>
          <a:xfrm>
            <a:off x="990720" y="3962520"/>
            <a:ext cx="7086600" cy="22096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225" name="Group 6"/>
          <p:cNvGrpSpPr/>
          <p:nvPr/>
        </p:nvGrpSpPr>
        <p:grpSpPr>
          <a:xfrm>
            <a:off x="2819520" y="533520"/>
            <a:ext cx="982440" cy="946080"/>
            <a:chOff x="2819520" y="533520"/>
            <a:chExt cx="982440" cy="946080"/>
          </a:xfrm>
        </p:grpSpPr>
        <p:pic>
          <p:nvPicPr>
            <p:cNvPr id="226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2819520" y="5335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8"/>
            <p:cNvSpPr/>
            <p:nvPr/>
          </p:nvSpPr>
          <p:spPr>
            <a:xfrm>
              <a:off x="3038400" y="533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4808520" y="1476000"/>
            <a:ext cx="3175200" cy="1641600"/>
            <a:chOff x="4808520" y="1476000"/>
            <a:chExt cx="3175200" cy="1641600"/>
          </a:xfrm>
        </p:grpSpPr>
        <p:pic>
          <p:nvPicPr>
            <p:cNvPr id="229" name="Picture 13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800240" y="2049120"/>
              <a:ext cx="1946880" cy="5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4" descr="4-10f"/>
            <p:cNvPicPr/>
            <p:nvPr/>
          </p:nvPicPr>
          <p:blipFill>
            <a:blip r:embed="rId4"/>
            <a:stretch/>
          </p:blipFill>
          <p:spPr>
            <a:xfrm rot="19625400">
              <a:off x="5332680" y="2015280"/>
              <a:ext cx="203544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5949000" y="1980720"/>
              <a:ext cx="203544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Picture 19" descr="4-10f"/>
          <p:cNvPicPr/>
          <p:nvPr/>
        </p:nvPicPr>
        <p:blipFill>
          <a:blip r:embed="rId6"/>
          <a:stretch/>
        </p:blipFill>
        <p:spPr>
          <a:xfrm>
            <a:off x="6477120" y="4038480"/>
            <a:ext cx="1431720" cy="66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4-10f"/>
          <p:cNvPicPr/>
          <p:nvPr/>
        </p:nvPicPr>
        <p:blipFill>
          <a:blip r:embed="rId7"/>
          <a:stretch/>
        </p:blipFill>
        <p:spPr>
          <a:xfrm>
            <a:off x="4876920" y="4038480"/>
            <a:ext cx="1431720" cy="66384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le 18"/>
          <p:cNvSpPr/>
          <p:nvPr/>
        </p:nvSpPr>
        <p:spPr>
          <a:xfrm>
            <a:off x="4191120" y="228600"/>
            <a:ext cx="4724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4191120" y="15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أستعمل النقود لأمث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Arial"/>
              </a:rPr>
              <a:t>المبلغ نفسه بطريقة أخ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ريال6"/>
          <p:cNvPicPr/>
          <p:nvPr/>
        </p:nvPicPr>
        <p:blipFill>
          <a:blip r:embed="rId8"/>
          <a:stretch/>
        </p:blipFill>
        <p:spPr>
          <a:xfrm rot="19729200">
            <a:off x="4158720" y="1893600"/>
            <a:ext cx="1600200" cy="61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ريال6"/>
          <p:cNvPicPr/>
          <p:nvPr/>
        </p:nvPicPr>
        <p:blipFill>
          <a:blip r:embed="rId9"/>
          <a:stretch/>
        </p:blipFill>
        <p:spPr>
          <a:xfrm>
            <a:off x="3124080" y="4038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ريال6"/>
          <p:cNvPicPr/>
          <p:nvPr/>
        </p:nvPicPr>
        <p:blipFill>
          <a:blip r:embed="rId10"/>
          <a:stretch/>
        </p:blipFill>
        <p:spPr>
          <a:xfrm rot="19729200">
            <a:off x="3321000" y="1740960"/>
            <a:ext cx="1600200" cy="61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ريال6"/>
          <p:cNvPicPr/>
          <p:nvPr/>
        </p:nvPicPr>
        <p:blipFill>
          <a:blip r:embed="rId11"/>
          <a:stretch/>
        </p:blipFill>
        <p:spPr>
          <a:xfrm rot="19729200">
            <a:off x="2101680" y="1817280"/>
            <a:ext cx="1600200" cy="61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ريال6"/>
          <p:cNvPicPr/>
          <p:nvPr/>
        </p:nvPicPr>
        <p:blipFill>
          <a:blip r:embed="rId12"/>
          <a:stretch/>
        </p:blipFill>
        <p:spPr>
          <a:xfrm>
            <a:off x="1447920" y="4038480"/>
            <a:ext cx="1600200" cy="619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ريال6"/>
          <p:cNvPicPr/>
          <p:nvPr/>
        </p:nvPicPr>
        <p:blipFill>
          <a:blip r:embed="rId13"/>
          <a:stretch/>
        </p:blipFill>
        <p:spPr>
          <a:xfrm>
            <a:off x="632448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ريال6"/>
          <p:cNvPicPr/>
          <p:nvPr/>
        </p:nvPicPr>
        <p:blipFill>
          <a:blip r:embed="rId14"/>
          <a:stretch/>
        </p:blipFill>
        <p:spPr>
          <a:xfrm>
            <a:off x="457200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ريال6"/>
          <p:cNvPicPr/>
          <p:nvPr/>
        </p:nvPicPr>
        <p:blipFill>
          <a:blip r:embed="rId15"/>
          <a:stretch/>
        </p:blipFill>
        <p:spPr>
          <a:xfrm>
            <a:off x="289548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ريال6"/>
          <p:cNvPicPr/>
          <p:nvPr/>
        </p:nvPicPr>
        <p:blipFill>
          <a:blip r:embed="rId16"/>
          <a:stretch/>
        </p:blipFill>
        <p:spPr>
          <a:xfrm>
            <a:off x="1219320" y="48769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ريال6"/>
          <p:cNvPicPr/>
          <p:nvPr/>
        </p:nvPicPr>
        <p:blipFill>
          <a:blip r:embed="rId17"/>
          <a:stretch/>
        </p:blipFill>
        <p:spPr>
          <a:xfrm>
            <a:off x="6324480" y="5562720"/>
            <a:ext cx="1600200" cy="61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ريال6"/>
          <p:cNvPicPr/>
          <p:nvPr/>
        </p:nvPicPr>
        <p:blipFill>
          <a:blip r:embed="rId18"/>
          <a:stretch/>
        </p:blipFill>
        <p:spPr>
          <a:xfrm>
            <a:off x="4572000" y="5562720"/>
            <a:ext cx="1600200" cy="618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9" name="0003%20-%20%D9%88%D9%86%D8%AF%D9%88%D8%B2%20%D8%A7%D9%84%D9%88%D8%B5%D9%88%D9%84.wav"/>
      </p:stSnd>
    </p:sndAc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00200" y="2666880"/>
            <a:ext cx="5705640" cy="277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800" spc="-1" strike="noStrike">
                <a:solidFill>
                  <a:srgbClr val="1f497d"/>
                </a:solidFill>
                <a:latin typeface="Calibri"/>
              </a:rPr>
              <a:t>4- </a:t>
            </a:r>
            <a:r>
              <a:rPr b="1" lang="ar-EG" sz="8800" spc="-1" strike="noStrike">
                <a:solidFill>
                  <a:srgbClr val="1f497d"/>
                </a:solidFill>
                <a:latin typeface="Calibri"/>
              </a:rPr>
              <a:t>المبالغ المتساوي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3" descr="BCKOC018"/>
          <p:cNvPicPr/>
          <p:nvPr/>
        </p:nvPicPr>
        <p:blipFill>
          <a:blip r:embed="rId1"/>
          <a:stretch/>
        </p:blipFill>
        <p:spPr>
          <a:xfrm rot="21318000">
            <a:off x="2847960" y="463680"/>
            <a:ext cx="5761080" cy="915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 rot="21245400">
            <a:off x="2809440" y="6519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أحل المسأل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ة</a:t>
            </a: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 مستعملاً النق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457200" y="1523880"/>
            <a:ext cx="7128000" cy="4319640"/>
          </a:xfrm>
          <a:custGeom>
            <a:avLst/>
            <a:gdLst>
              <a:gd name="textAreaLeft" fmla="*/ 1043640 w 7128000"/>
              <a:gd name="textAreaRight" fmla="*/ 6084360 w 7128000"/>
              <a:gd name="textAreaTop" fmla="*/ 632520 h 4319640"/>
              <a:gd name="textAreaBottom" fmla="*/ 36871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23" y="10800"/>
                </a:moveTo>
                <a:cubicBezTo>
                  <a:pt x="2123" y="15592"/>
                  <a:pt x="6008" y="19477"/>
                  <a:pt x="10800" y="19477"/>
                </a:cubicBezTo>
                <a:cubicBezTo>
                  <a:pt x="15592" y="19477"/>
                  <a:pt x="19477" y="15592"/>
                  <a:pt x="19477" y="10800"/>
                </a:cubicBezTo>
                <a:cubicBezTo>
                  <a:pt x="19477" y="6008"/>
                  <a:pt x="15592" y="2123"/>
                  <a:pt x="10800" y="2123"/>
                </a:cubicBezTo>
                <a:cubicBezTo>
                  <a:pt x="6008" y="2123"/>
                  <a:pt x="2123" y="6008"/>
                  <a:pt x="2123" y="10800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30240" y="2895480"/>
            <a:ext cx="611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ع مها ورقتان نقديتان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مع ليلى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وورقة من فئ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ريال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هل معهما المبلغ نفسه ؟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7467480" y="2362320"/>
            <a:ext cx="982440" cy="946080"/>
            <a:chOff x="7467480" y="2362320"/>
            <a:chExt cx="982440" cy="946080"/>
          </a:xfrm>
        </p:grpSpPr>
        <p:pic>
          <p:nvPicPr>
            <p:cNvPr id="252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7467480" y="23623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8"/>
            <p:cNvSpPr/>
            <p:nvPr/>
          </p:nvSpPr>
          <p:spPr>
            <a:xfrm>
              <a:off x="7686360" y="23623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3" descr="BCKOC018"/>
          <p:cNvPicPr/>
          <p:nvPr/>
        </p:nvPicPr>
        <p:blipFill>
          <a:blip r:embed="rId1"/>
          <a:stretch/>
        </p:blipFill>
        <p:spPr>
          <a:xfrm rot="21318000">
            <a:off x="2847960" y="463680"/>
            <a:ext cx="5761080" cy="915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 rot="21245400">
            <a:off x="2809440" y="6519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أحل المسأل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ة</a:t>
            </a:r>
            <a:r>
              <a:rPr b="1" lang="ar-EG" sz="3200" spc="-1" strike="noStrike">
                <a:solidFill>
                  <a:srgbClr val="1f497d"/>
                </a:solidFill>
                <a:latin typeface="Arial"/>
              </a:rPr>
              <a:t> مستعملاً النق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8"/>
          <p:cNvSpPr/>
          <p:nvPr/>
        </p:nvSpPr>
        <p:spPr>
          <a:xfrm>
            <a:off x="762120" y="2922480"/>
            <a:ext cx="7537320" cy="256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914400" y="289548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 مها ورقتان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ع ليلى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ات =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ما مع ليلى = ما مع م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4648320" y="2819520"/>
            <a:ext cx="316836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فِكْرَةُ الدَّرْس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09480" y="4114800"/>
            <a:ext cx="4572000" cy="19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80" y="21325"/>
                </a:moveTo>
                <a:lnTo>
                  <a:pt x="-2" y="21160"/>
                </a:lnTo>
                <a:lnTo>
                  <a:pt x="232" y="4349"/>
                </a:lnTo>
                <a:lnTo>
                  <a:pt x="102" y="21457"/>
                </a:lnTo>
              </a:path>
              <a:path w="21600" h="21600">
                <a:moveTo>
                  <a:pt x="80" y="0"/>
                </a:moveTo>
                <a:lnTo>
                  <a:pt x="80" y="21600"/>
                </a:lnTo>
              </a:path>
            </a:pathLst>
          </a:custGeom>
          <a:solidFill>
            <a:srgbClr val="59cb77"/>
          </a:solidFill>
          <a:ln w="76320">
            <a:solidFill>
              <a:srgbClr val="6d2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أُمَثِّلُ مَبْلَغًا مِنَ الْمال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بِطُرُقٍ مُخْتَلِفَة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rd_of_peace"/>
          <p:cNvPicPr/>
          <p:nvPr/>
        </p:nvPicPr>
        <p:blipFill>
          <a:blip r:embed="rId1"/>
          <a:stretch/>
        </p:blipFill>
        <p:spPr>
          <a:xfrm rot="21317400">
            <a:off x="90000" y="66600"/>
            <a:ext cx="1719360" cy="22608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 rot="1580400">
            <a:off x="5529240" y="623880"/>
            <a:ext cx="3024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Times New Roman"/>
              </a:rPr>
              <a:t>أستع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</p:spTree>
  </p:cSld>
  <p:transition>
    <p:dissolve/>
    <p:sndAc>
      <p:stSnd>
        <p:snd r:embed="rId2" name="0003%20-%20%D9%88%D9%86%D8%AF%D9%88%D8%B2%20%D8%A7%D9%84%D9%88%D8%B5%D9%88%D9%84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22951" t="0" r="34984" b="0"/>
          <a:stretch/>
        </p:blipFill>
        <p:spPr>
          <a:xfrm>
            <a:off x="3048120" y="3048120"/>
            <a:ext cx="2514600" cy="33829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1219320" y="0"/>
            <a:ext cx="6707160" cy="1447920"/>
          </a:xfrm>
          <a:prstGeom prst="leftArrow">
            <a:avLst>
              <a:gd name="adj1" fmla="val 50000"/>
              <a:gd name="adj2" fmla="val 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أُمَثِّلُ المَبْلَغَ نَفْسَهُ مِنَ النُّقودِ بِأَكْثَرَ مِنْ طَريق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ريال6"/>
          <p:cNvPicPr/>
          <p:nvPr/>
        </p:nvPicPr>
        <p:blipFill>
          <a:blip r:embed="rId2"/>
          <a:stretch/>
        </p:blipFill>
        <p:spPr>
          <a:xfrm>
            <a:off x="5715000" y="39528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4-10f"/>
          <p:cNvPicPr/>
          <p:nvPr/>
        </p:nvPicPr>
        <p:blipFill>
          <a:blip r:embed="rId3"/>
          <a:stretch/>
        </p:blipFill>
        <p:spPr>
          <a:xfrm>
            <a:off x="685800" y="35812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5 ريال سعودي"/>
          <p:cNvPicPr/>
          <p:nvPr/>
        </p:nvPicPr>
        <p:blipFill>
          <a:blip r:embed="rId4"/>
          <a:stretch/>
        </p:blipFill>
        <p:spPr>
          <a:xfrm>
            <a:off x="7391520" y="3200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5 ريال سعودي"/>
          <p:cNvPicPr/>
          <p:nvPr/>
        </p:nvPicPr>
        <p:blipFill>
          <a:blip r:embed="rId5"/>
          <a:stretch/>
        </p:blipFill>
        <p:spPr>
          <a:xfrm>
            <a:off x="5715000" y="3200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ريال6"/>
          <p:cNvPicPr/>
          <p:nvPr/>
        </p:nvPicPr>
        <p:blipFill>
          <a:blip r:embed="rId6"/>
          <a:stretch/>
        </p:blipFill>
        <p:spPr>
          <a:xfrm>
            <a:off x="7391520" y="39625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ريال6"/>
          <p:cNvPicPr/>
          <p:nvPr/>
        </p:nvPicPr>
        <p:blipFill>
          <a:blip r:embed="rId7"/>
          <a:stretch/>
        </p:blipFill>
        <p:spPr>
          <a:xfrm>
            <a:off x="5715000" y="48006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ريال6"/>
          <p:cNvPicPr/>
          <p:nvPr/>
        </p:nvPicPr>
        <p:blipFill>
          <a:blip r:embed="rId8"/>
          <a:stretch/>
        </p:blipFill>
        <p:spPr>
          <a:xfrm>
            <a:off x="7391520" y="480996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ريال6"/>
          <p:cNvPicPr/>
          <p:nvPr/>
        </p:nvPicPr>
        <p:blipFill>
          <a:blip r:embed="rId9"/>
          <a:stretch/>
        </p:blipFill>
        <p:spPr>
          <a:xfrm>
            <a:off x="6629400" y="55627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5 ريال سعودي"/>
          <p:cNvPicPr/>
          <p:nvPr/>
        </p:nvPicPr>
        <p:blipFill>
          <a:blip r:embed="rId10"/>
          <a:stretch/>
        </p:blipFill>
        <p:spPr>
          <a:xfrm>
            <a:off x="685800" y="4419720"/>
            <a:ext cx="1584360" cy="699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6553080" y="2438280"/>
            <a:ext cx="1524240" cy="1068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85800" y="2743200"/>
            <a:ext cx="1523880" cy="1068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0066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3" name="0003%20-%20%D9%88%D9%86%D8%AF%D9%88%D8%B2%20%D8%A7%D9%84%D9%88%D8%B5%D9%88%D9%84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9%83%D8%B3%D8%B1%20%D9%88%D9%82%D9%81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 rot="605400">
            <a:off x="6237360" y="785880"/>
            <a:ext cx="2089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295280" y="3200400"/>
            <a:ext cx="6553440" cy="1285920"/>
          </a:xfrm>
          <a:prstGeom prst="upArrowCallout">
            <a:avLst>
              <a:gd name="adj1" fmla="val 470413"/>
              <a:gd name="adj2" fmla="val 235185"/>
              <a:gd name="adj3" fmla="val 4319"/>
              <a:gd name="adj4" fmla="val 3283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َسْتَعْمِلُ النُّقُودَ، لأُمَثِّلَ الْمَبْلَغَ نَفْسَهُ بِطَريقَةٍ أُخْرَى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0003%20-%20%D9%88%D9%86%D8%AF%D9%88%D8%B2%20%D8%A7%D9%84%D9%88%D8%B5%D9%88%D9%84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"/>
          <p:cNvSpPr/>
          <p:nvPr/>
        </p:nvSpPr>
        <p:spPr>
          <a:xfrm rot="20628600">
            <a:off x="2918880" y="644400"/>
            <a:ext cx="2592720" cy="1081080"/>
          </a:xfrm>
          <a:prstGeom prst="leftArrow">
            <a:avLst>
              <a:gd name="adj1" fmla="val 50000"/>
              <a:gd name="adj2" fmla="val 59957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مُثَلِّ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7391520" y="380880"/>
            <a:ext cx="812520" cy="910080"/>
            <a:chOff x="7391520" y="380880"/>
            <a:chExt cx="812520" cy="910080"/>
          </a:xfrm>
        </p:grpSpPr>
        <p:pic>
          <p:nvPicPr>
            <p:cNvPr id="74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391520" y="3808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3"/>
            <p:cNvSpPr/>
            <p:nvPr/>
          </p:nvSpPr>
          <p:spPr>
            <a:xfrm>
              <a:off x="753876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4-10f"/>
          <p:cNvPicPr/>
          <p:nvPr/>
        </p:nvPicPr>
        <p:blipFill>
          <a:blip r:embed="rId3"/>
          <a:stretch/>
        </p:blipFill>
        <p:spPr>
          <a:xfrm>
            <a:off x="6858000" y="19051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ريال6"/>
          <p:cNvPicPr/>
          <p:nvPr/>
        </p:nvPicPr>
        <p:blipFill>
          <a:blip r:embed="rId4"/>
          <a:stretch/>
        </p:blipFill>
        <p:spPr>
          <a:xfrm>
            <a:off x="75438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4-10f"/>
          <p:cNvPicPr/>
          <p:nvPr/>
        </p:nvPicPr>
        <p:blipFill>
          <a:blip r:embed="rId5"/>
          <a:stretch/>
        </p:blipFill>
        <p:spPr>
          <a:xfrm>
            <a:off x="5092560" y="19051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ريال6"/>
          <p:cNvPicPr/>
          <p:nvPr/>
        </p:nvPicPr>
        <p:blipFill>
          <a:blip r:embed="rId6"/>
          <a:stretch/>
        </p:blipFill>
        <p:spPr>
          <a:xfrm>
            <a:off x="61722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ريال6"/>
          <p:cNvPicPr/>
          <p:nvPr/>
        </p:nvPicPr>
        <p:blipFill>
          <a:blip r:embed="rId7"/>
          <a:stretch/>
        </p:blipFill>
        <p:spPr>
          <a:xfrm>
            <a:off x="4800600" y="266688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4-10f"/>
          <p:cNvPicPr/>
          <p:nvPr/>
        </p:nvPicPr>
        <p:blipFill>
          <a:blip r:embed="rId8"/>
          <a:stretch/>
        </p:blipFill>
        <p:spPr>
          <a:xfrm>
            <a:off x="2286000" y="40384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ريال6"/>
          <p:cNvPicPr/>
          <p:nvPr/>
        </p:nvPicPr>
        <p:blipFill>
          <a:blip r:embed="rId9"/>
          <a:stretch/>
        </p:blipFill>
        <p:spPr>
          <a:xfrm>
            <a:off x="533520" y="48006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5 ريال سعودي"/>
          <p:cNvPicPr/>
          <p:nvPr/>
        </p:nvPicPr>
        <p:blipFill>
          <a:blip r:embed="rId10"/>
          <a:stretch/>
        </p:blipFill>
        <p:spPr>
          <a:xfrm>
            <a:off x="533520" y="40384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 ريال سعودي"/>
          <p:cNvPicPr/>
          <p:nvPr/>
        </p:nvPicPr>
        <p:blipFill>
          <a:blip r:embed="rId11"/>
          <a:stretch/>
        </p:blipFill>
        <p:spPr>
          <a:xfrm>
            <a:off x="2286000" y="48769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ريال6"/>
          <p:cNvPicPr/>
          <p:nvPr/>
        </p:nvPicPr>
        <p:blipFill>
          <a:blip r:embed="rId12"/>
          <a:stretch/>
        </p:blipFill>
        <p:spPr>
          <a:xfrm>
            <a:off x="533520" y="563868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ريال6"/>
          <p:cNvPicPr/>
          <p:nvPr/>
        </p:nvPicPr>
        <p:blipFill>
          <a:blip r:embed="rId13"/>
          <a:stretch/>
        </p:blipFill>
        <p:spPr>
          <a:xfrm>
            <a:off x="2286000" y="5638680"/>
            <a:ext cx="1523880" cy="695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4" name="0003%20-%20%D9%88%D9%86%D8%AF%D9%88%D8%B2%20%D8%A7%D9%84%D9%88%D8%B5%D9%88%D9%84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0"/>
          <p:cNvSpPr/>
          <p:nvPr/>
        </p:nvSpPr>
        <p:spPr>
          <a:xfrm rot="20628600">
            <a:off x="2918880" y="644400"/>
            <a:ext cx="2592720" cy="1081080"/>
          </a:xfrm>
          <a:prstGeom prst="leftArrow">
            <a:avLst>
              <a:gd name="adj1" fmla="val 50000"/>
              <a:gd name="adj2" fmla="val 59957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مُثَلِّ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رِ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391520" y="380880"/>
            <a:ext cx="812520" cy="910080"/>
            <a:chOff x="7391520" y="380880"/>
            <a:chExt cx="812520" cy="910080"/>
          </a:xfrm>
        </p:grpSpPr>
        <p:pic>
          <p:nvPicPr>
            <p:cNvPr id="89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391520" y="3808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753876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9" descr="4-10f"/>
          <p:cNvPicPr/>
          <p:nvPr/>
        </p:nvPicPr>
        <p:blipFill>
          <a:blip r:embed="rId3"/>
          <a:stretch/>
        </p:blipFill>
        <p:spPr>
          <a:xfrm>
            <a:off x="6858000" y="21193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ريال6"/>
          <p:cNvPicPr/>
          <p:nvPr/>
        </p:nvPicPr>
        <p:blipFill>
          <a:blip r:embed="rId4"/>
          <a:stretch/>
        </p:blipFill>
        <p:spPr>
          <a:xfrm>
            <a:off x="75438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4-10f"/>
          <p:cNvPicPr/>
          <p:nvPr/>
        </p:nvPicPr>
        <p:blipFill>
          <a:blip r:embed="rId5"/>
          <a:stretch/>
        </p:blipFill>
        <p:spPr>
          <a:xfrm>
            <a:off x="5092560" y="2119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ريال6"/>
          <p:cNvPicPr/>
          <p:nvPr/>
        </p:nvPicPr>
        <p:blipFill>
          <a:blip r:embed="rId6"/>
          <a:stretch/>
        </p:blipFill>
        <p:spPr>
          <a:xfrm>
            <a:off x="61722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ريال6"/>
          <p:cNvPicPr/>
          <p:nvPr/>
        </p:nvPicPr>
        <p:blipFill>
          <a:blip r:embed="rId7"/>
          <a:stretch/>
        </p:blipFill>
        <p:spPr>
          <a:xfrm>
            <a:off x="4800600" y="2881440"/>
            <a:ext cx="1368360" cy="6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4-10f"/>
          <p:cNvPicPr/>
          <p:nvPr/>
        </p:nvPicPr>
        <p:blipFill>
          <a:blip r:embed="rId8"/>
          <a:stretch/>
        </p:blipFill>
        <p:spPr>
          <a:xfrm>
            <a:off x="2286000" y="41814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ريال6"/>
          <p:cNvPicPr/>
          <p:nvPr/>
        </p:nvPicPr>
        <p:blipFill>
          <a:blip r:embed="rId9"/>
          <a:stretch/>
        </p:blipFill>
        <p:spPr>
          <a:xfrm>
            <a:off x="533520" y="49435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ريال6"/>
          <p:cNvPicPr/>
          <p:nvPr/>
        </p:nvPicPr>
        <p:blipFill>
          <a:blip r:embed="rId10"/>
          <a:stretch/>
        </p:blipFill>
        <p:spPr>
          <a:xfrm>
            <a:off x="533520" y="57816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ريال6"/>
          <p:cNvPicPr/>
          <p:nvPr/>
        </p:nvPicPr>
        <p:blipFill>
          <a:blip r:embed="rId11"/>
          <a:stretch/>
        </p:blipFill>
        <p:spPr>
          <a:xfrm>
            <a:off x="2362320" y="501984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5 ريال سعودي"/>
          <p:cNvPicPr/>
          <p:nvPr/>
        </p:nvPicPr>
        <p:blipFill>
          <a:blip r:embed="rId12"/>
          <a:stretch/>
        </p:blipFill>
        <p:spPr>
          <a:xfrm>
            <a:off x="3429000" y="211932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4-10f"/>
          <p:cNvPicPr/>
          <p:nvPr/>
        </p:nvPicPr>
        <p:blipFill>
          <a:blip r:embed="rId13"/>
          <a:stretch/>
        </p:blipFill>
        <p:spPr>
          <a:xfrm>
            <a:off x="609480" y="418140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ريال6"/>
          <p:cNvPicPr/>
          <p:nvPr/>
        </p:nvPicPr>
        <p:blipFill>
          <a:blip r:embed="rId14"/>
          <a:stretch/>
        </p:blipFill>
        <p:spPr>
          <a:xfrm>
            <a:off x="2286000" y="578160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ريال6"/>
          <p:cNvPicPr/>
          <p:nvPr/>
        </p:nvPicPr>
        <p:blipFill>
          <a:blip r:embed="rId15"/>
          <a:stretch/>
        </p:blipFill>
        <p:spPr>
          <a:xfrm>
            <a:off x="4114800" y="4952880"/>
            <a:ext cx="1523880" cy="69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ريال6"/>
          <p:cNvPicPr/>
          <p:nvPr/>
        </p:nvPicPr>
        <p:blipFill>
          <a:blip r:embed="rId16"/>
          <a:stretch/>
        </p:blipFill>
        <p:spPr>
          <a:xfrm>
            <a:off x="4114800" y="579132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ريال6"/>
          <p:cNvPicPr/>
          <p:nvPr/>
        </p:nvPicPr>
        <p:blipFill>
          <a:blip r:embed="rId17"/>
          <a:stretch/>
        </p:blipFill>
        <p:spPr>
          <a:xfrm>
            <a:off x="5943600" y="5029200"/>
            <a:ext cx="1523880" cy="69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ريال6"/>
          <p:cNvPicPr/>
          <p:nvPr/>
        </p:nvPicPr>
        <p:blipFill>
          <a:blip r:embed="rId18"/>
          <a:stretch/>
        </p:blipFill>
        <p:spPr>
          <a:xfrm>
            <a:off x="5867280" y="5791320"/>
            <a:ext cx="1524240" cy="6951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9" name="0003%20-%20%D9%88%D9%86%D8%AF%D9%88%D8%B2%20%D8%A7%D9%84%D9%88%D8%B5%D9%88%D9%84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4191120" y="0"/>
            <a:ext cx="280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حدث</a:t>
            </a:r>
            <a:endParaRPr b="0" lang="en-US" sz="3200" spc="1" strike="noStrike">
              <a:ln w="255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32040" y="2362320"/>
            <a:ext cx="6840360" cy="1063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بَيِّنُ كَيْفَ أُمَثِّل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 بِطرائقٍ مُخْتَلِف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8" descr="sanrio13"/>
          <p:cNvPicPr/>
          <p:nvPr/>
        </p:nvPicPr>
        <p:blipFill>
          <a:blip r:embed="rId3"/>
          <a:stretch/>
        </p:blipFill>
        <p:spPr>
          <a:xfrm rot="21318000">
            <a:off x="7994160" y="42480"/>
            <a:ext cx="110196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7114320" y="335520"/>
            <a:ext cx="1023120" cy="1074600"/>
            <a:chOff x="7114320" y="335520"/>
            <a:chExt cx="1023120" cy="1074600"/>
          </a:xfrm>
        </p:grpSpPr>
        <p:pic>
          <p:nvPicPr>
            <p:cNvPr id="111" name="Picture 32" descr="heart"/>
            <p:cNvPicPr/>
            <p:nvPr/>
          </p:nvPicPr>
          <p:blipFill>
            <a:blip r:embed="rId4"/>
            <a:stretch/>
          </p:blipFill>
          <p:spPr>
            <a:xfrm rot="945600">
              <a:off x="7219440" y="429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9"/>
            <p:cNvSpPr/>
            <p:nvPr/>
          </p:nvSpPr>
          <p:spPr>
            <a:xfrm rot="945600">
              <a:off x="7344720" y="5680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Horizontal Scroll 7"/>
          <p:cNvSpPr/>
          <p:nvPr/>
        </p:nvSpPr>
        <p:spPr>
          <a:xfrm>
            <a:off x="1219320" y="4370400"/>
            <a:ext cx="6705360" cy="203040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486400" y="4812480"/>
            <a:ext cx="22860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الطريقة الأو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5 ريال سعودي"/>
          <p:cNvPicPr/>
          <p:nvPr/>
        </p:nvPicPr>
        <p:blipFill>
          <a:blip r:embed="rId6"/>
          <a:stretch/>
        </p:blipFill>
        <p:spPr>
          <a:xfrm>
            <a:off x="4191120" y="494028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5 ريال سعودي"/>
          <p:cNvPicPr/>
          <p:nvPr/>
        </p:nvPicPr>
        <p:blipFill>
          <a:blip r:embed="rId7"/>
          <a:stretch/>
        </p:blipFill>
        <p:spPr>
          <a:xfrm>
            <a:off x="2590920" y="4940280"/>
            <a:ext cx="1295280" cy="851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8" name="0003%20-%20%D9%88%D9%86%D8%AF%D9%88%D8%B2%20%D8%A7%D9%84%D9%88%D8%B5%D9%88%D9%84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OUND1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4191120" y="0"/>
            <a:ext cx="280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+mn-cs"/>
              </a:rPr>
              <a:t>أتحدث</a:t>
            </a:r>
            <a:endParaRPr b="0" lang="en-US" sz="3200" spc="1" strike="noStrike">
              <a:ln w="2556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pic>
        <p:nvPicPr>
          <p:cNvPr id="118" name="Picture 28" descr="sanrio13"/>
          <p:cNvPicPr/>
          <p:nvPr/>
        </p:nvPicPr>
        <p:blipFill>
          <a:blip r:embed="rId3"/>
          <a:stretch/>
        </p:blipFill>
        <p:spPr>
          <a:xfrm rot="21318000">
            <a:off x="7994160" y="42480"/>
            <a:ext cx="110196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7"/>
          <p:cNvGrpSpPr/>
          <p:nvPr/>
        </p:nvGrpSpPr>
        <p:grpSpPr>
          <a:xfrm>
            <a:off x="7114320" y="335520"/>
            <a:ext cx="1023120" cy="1074600"/>
            <a:chOff x="7114320" y="335520"/>
            <a:chExt cx="1023120" cy="1074600"/>
          </a:xfrm>
        </p:grpSpPr>
        <p:pic>
          <p:nvPicPr>
            <p:cNvPr id="120" name="Picture 32" descr="heart"/>
            <p:cNvPicPr/>
            <p:nvPr/>
          </p:nvPicPr>
          <p:blipFill>
            <a:blip r:embed="rId4"/>
            <a:stretch/>
          </p:blipFill>
          <p:spPr>
            <a:xfrm rot="945600">
              <a:off x="7219440" y="429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 rot="945600">
              <a:off x="7344720" y="5680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Horizontal Scroll 7"/>
          <p:cNvSpPr/>
          <p:nvPr/>
        </p:nvSpPr>
        <p:spPr>
          <a:xfrm>
            <a:off x="304920" y="4370400"/>
            <a:ext cx="8305560" cy="218268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934320" y="4306680"/>
            <a:ext cx="144756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</a:rPr>
              <a:t>الطريقة الثان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ريال6"/>
          <p:cNvPicPr/>
          <p:nvPr/>
        </p:nvPicPr>
        <p:blipFill>
          <a:blip r:embed="rId6"/>
          <a:stretch/>
        </p:blipFill>
        <p:spPr>
          <a:xfrm>
            <a:off x="441972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ريال6"/>
          <p:cNvPicPr/>
          <p:nvPr/>
        </p:nvPicPr>
        <p:blipFill>
          <a:blip r:embed="rId7"/>
          <a:stretch/>
        </p:blipFill>
        <p:spPr>
          <a:xfrm>
            <a:off x="563868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ريال6"/>
          <p:cNvPicPr/>
          <p:nvPr/>
        </p:nvPicPr>
        <p:blipFill>
          <a:blip r:embed="rId8"/>
          <a:stretch/>
        </p:blipFill>
        <p:spPr>
          <a:xfrm>
            <a:off x="198108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ريال6"/>
          <p:cNvPicPr/>
          <p:nvPr/>
        </p:nvPicPr>
        <p:blipFill>
          <a:blip r:embed="rId9"/>
          <a:stretch/>
        </p:blipFill>
        <p:spPr>
          <a:xfrm>
            <a:off x="3200400" y="48006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ريال6"/>
          <p:cNvPicPr/>
          <p:nvPr/>
        </p:nvPicPr>
        <p:blipFill>
          <a:blip r:embed="rId10"/>
          <a:stretch/>
        </p:blipFill>
        <p:spPr>
          <a:xfrm>
            <a:off x="441972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ريال6"/>
          <p:cNvPicPr/>
          <p:nvPr/>
        </p:nvPicPr>
        <p:blipFill>
          <a:blip r:embed="rId11"/>
          <a:stretch/>
        </p:blipFill>
        <p:spPr>
          <a:xfrm>
            <a:off x="563868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ريال6"/>
          <p:cNvPicPr/>
          <p:nvPr/>
        </p:nvPicPr>
        <p:blipFill>
          <a:blip r:embed="rId12"/>
          <a:stretch/>
        </p:blipFill>
        <p:spPr>
          <a:xfrm>
            <a:off x="198108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ريال6"/>
          <p:cNvPicPr/>
          <p:nvPr/>
        </p:nvPicPr>
        <p:blipFill>
          <a:blip r:embed="rId13"/>
          <a:stretch/>
        </p:blipFill>
        <p:spPr>
          <a:xfrm>
            <a:off x="320040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ريال6"/>
          <p:cNvPicPr/>
          <p:nvPr/>
        </p:nvPicPr>
        <p:blipFill>
          <a:blip r:embed="rId14"/>
          <a:stretch/>
        </p:blipFill>
        <p:spPr>
          <a:xfrm>
            <a:off x="762120" y="548640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ريال6"/>
          <p:cNvPicPr/>
          <p:nvPr/>
        </p:nvPicPr>
        <p:blipFill>
          <a:blip r:embed="rId15"/>
          <a:stretch/>
        </p:blipFill>
        <p:spPr>
          <a:xfrm>
            <a:off x="762120" y="4800600"/>
            <a:ext cx="1143000" cy="6094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932040" y="2362320"/>
            <a:ext cx="6840360" cy="1063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بَيِّنُ كَيْفَ أُمَثِّل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 بِطرائقٍ مُخْتَلِفَة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6" name="0003%20-%20%D9%88%D9%86%D8%AF%D9%88%D8%B2%20%D8%A7%D9%84%D9%88%D8%B5%D9%88%D9%84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4:35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48:21Z</dcterms:modified>
  <cp:revision>55</cp:revision>
  <dc:subject>4- المبالغ المتساوية</dc:subject>
  <dc:title>رياضيات 1ب - الفصل الثالث عشر</dc:title>
</cp:coreProperties>
</file>