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8.png" ContentType="image/png"/>
  <Override PartName="/ppt/media/image1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A4C-5ADF-4FAD-9ED5-1BC4CCF9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335-5424-4D13-8CF6-C0A50C61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B74-B56A-4DFF-972B-12D4F09A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F6E-243E-42D2-A3B4-2E21E891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4BD1-3310-4235-A0A9-E3630D1B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1314-327A-4107-AAC8-EA5FAA72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984D-A6ED-435D-BD68-D5368B99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5C5A-E5B8-4ECB-9313-E674E718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BDA7-CB05-4DAE-B1B6-0235DE27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5E08-0FB1-4B43-95DE-DE8C1384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9B46-D9C8-41B4-9277-159DF8C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A92-AE4A-4DA4-AD56-E76E3E66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F998-A9EE-4317-9C9F-1B690D6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5298-FDE7-4E52-AA9B-31F1433C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5BAC-0D13-4270-A95C-7C990EFC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AD8B-ACB1-4E4C-8959-2A5877F9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C744-6DF4-4E43-80E8-B68A47ED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8656-6650-4B96-8ED3-78C63201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E158-E34E-413D-8279-F68DEC5F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78AD-1BF1-47D2-8BC7-23F9EE7D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6EF5-F054-4676-AC1B-82D0F537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4AE3-2531-4929-958E-15589DD0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942-57B8-409B-ABC6-EF6EF8A9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78D9-11A0-4B0A-9DB6-9E051376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AAF9-6638-4C4A-87E8-F71A47DC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F64D-AECE-4170-B8CE-E04825BC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B70A-A8DE-4F30-9352-9698BEC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D506-E101-4536-A04C-8FAEB0F7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3BCBD-A03B-4FAE-8BDE-F049FF9A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2F12-FDEE-4AED-8DD6-9DFFCABF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0F91-8CAF-47CD-81C1-28B5837B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9D1C7-6E01-4F53-8F3D-79905856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D199B-0C1A-4FDC-83B9-8E8A66ED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C75-F7D1-4477-99DE-D60DD3C0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9004D-8391-4BFE-92D2-4B570E7C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C9F67-B347-43D3-94A7-520F26F0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BF78-A43C-426B-A761-2C09E9D9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3A72F-8469-4696-A8F3-8C1CB58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75D1-8DDD-41D5-980B-EBB7058A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9924-71EA-4EFB-87D2-81FA09E4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7665-ACC5-47C3-A999-0837BE9F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B8128-CD59-48AB-B660-50162489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C2C0-EB53-48F6-9E62-E53C42F9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8C4A7-6F09-457A-816A-65804B2D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83A-84DB-4AAC-BE29-276B070D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5BC5D-30F9-4299-881E-5262E680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49CF3-3262-4102-BA67-D0809508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88F9A-68E0-4783-8BAC-43CF7BDB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0C688-CE0D-4FA8-8621-C77BC7D2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D653-5DB1-4572-8533-01C3DA1F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A60B3-2984-4015-BC6F-91D2A909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217EC-8CAE-4F4D-9A91-3DAEB4BB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3654D-754E-4006-9877-23748F7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5EDC-9F37-4F62-8038-F98CD970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244EB-46DA-4CCD-895D-8F7D34B1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499-54C2-4D97-AFA5-65B77085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BD42-25B8-4947-87F9-BE483D5D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DBEC-588E-4DFE-8CB3-705E77EC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6810C-EE6F-4A04-98E7-8F7518A0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62D03-905B-4069-8E54-23C3DA31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22374-F9F6-4457-AD54-12F2AF83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3B23-1B5F-4F5E-B9A1-6EB05185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FFFA2-BAD1-41C3-8EF7-DE1366B3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D697D-3845-4C4D-9CE0-763B3C36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E6DC6-B5E1-4A9F-B110-A2F4F41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AA001-11C8-4F5A-9FFA-B87EE1BC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826-34D5-443A-A468-40EA9867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9C875-93BE-485F-81B4-51132CC5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978C4-A712-4152-96FF-B3ECC19B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B59CB-669F-4508-8E09-CC5D7904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CDB9B-DE12-4CB8-ABC3-13EE35F4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51964-0E7B-448F-9FCA-57D384A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D7C13-1DFE-4F7F-BBFD-A379E499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22A77-3711-481A-B5E6-32DFD022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6AE47-6461-4D56-A72D-94CC82CB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7E2F4-C169-4996-9B32-0E683B93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218AE-3BEB-48E7-B425-B47381B0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460-3E31-4515-942D-19B4201E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F31F7-7CF4-489C-892E-472E7C5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9EAB9-5054-4C61-B27C-ECE60A9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1F81B-76B3-463F-8673-4B935419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42F77-4DDA-4A55-ABCD-50D9B27B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529BF-1F37-4EA8-8539-6D837387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1E8-6D6C-4075-BAD5-B3780B1F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5284-C1B7-4C7B-85E4-BC82C10F8602}" type="datetime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AAF0-8C69-4250-A1B6-F4AED11EDF5B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D733-8296-44C0-BF9A-5786BEE57872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A786-07AF-45B1-92A6-25BDF1A87A0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0BE7-B874-42AC-9419-B8F80468E296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1A95-884A-45E8-A1CB-F02999020E1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E3B4-C767-456F-92DC-EB1D3B5920F0}" type="datetime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8666-6172-4919-96BC-720E96571023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BF6A-C969-40C6-9E7E-71AA93E2EA2C}" type="datetime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9DCD-5061-4911-9D25-B8DD3667B259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C84B-5F2C-484E-B5B6-D72EAFAB9CA9}" type="datetime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4424-62FC-49E1-ADD1-9FEEB0BFA4DD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F337-EE53-4B7E-8429-D3BA854B0D90}" type="datetime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C71E-02B2-4804-A57B-A7201D4E48D0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3 Rectángulo"/>
          <p:cNvSpPr/>
          <p:nvPr/>
        </p:nvSpPr>
        <p:spPr>
          <a:xfrm>
            <a:off x="2643120" y="214200"/>
            <a:ext cx="6072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d25d"/>
                </a:solidFill>
                <a:latin typeface="Bookman Old Style"/>
              </a:rPr>
              <a:t>UNIVERSIDAD DE SAN CARLOS DE GUATEMALA </a:t>
            </a:r>
            <a:br>
              <a:rPr sz="3000"/>
            </a:br>
            <a:r>
              <a:rPr b="1" lang="es-ES" sz="3000" spc="-1" strike="noStrike">
                <a:solidFill>
                  <a:srgbClr val="ffd25d"/>
                </a:solidFill>
                <a:latin typeface="Bookman Old Style"/>
              </a:rPr>
              <a:t>EXTENSIÓN POPTÚN PETÉ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214200" y="2071800"/>
            <a:ext cx="87156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c00000"/>
                </a:solidFill>
                <a:latin typeface="Corbel"/>
              </a:rPr>
              <a:t>Sexto Semest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c00000"/>
                </a:solidFill>
                <a:latin typeface="Corbel"/>
              </a:rPr>
              <a:t>Carrera: Profesorado en Enseñanza Media con Orientación Ambiental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c00000"/>
                </a:solidFill>
                <a:latin typeface="Corbel"/>
              </a:rPr>
              <a:t>Curso: Química Ambienta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900" spc="-1" strike="noStrike" u="sng">
                <a:solidFill>
                  <a:srgbClr val="00b050"/>
                </a:solidFill>
                <a:uFillTx/>
                <a:latin typeface="Corbel"/>
              </a:rPr>
              <a:t>Unidad IV. Química estratosférica: la capa de ozono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642960" y="5286240"/>
            <a:ext cx="8001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ffc000"/>
                </a:solidFill>
                <a:latin typeface="Constantia"/>
              </a:rPr>
              <a:t>Por: Ing. Ftal. Carlos Augusto Rodas Castell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ffc000"/>
                </a:solidFill>
                <a:latin typeface="Constantia"/>
              </a:rPr>
              <a:t>http://ingcarlosrodas.blogspot.com</a:t>
            </a:r>
            <a:br>
              <a:rPr sz="2400"/>
            </a:br>
            <a:r>
              <a:rPr b="0" lang="es-GT" sz="2400" spc="-1" strike="noStrike">
                <a:solidFill>
                  <a:srgbClr val="ffc000"/>
                </a:solidFill>
                <a:latin typeface="Constantia"/>
              </a:rPr>
              <a:t>carlosrodasc@yahoo.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0E18-9603-4813-81F9-4EE8DCFA846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8 Imagen" descr="LogoUSAC.gif"/>
          <p:cNvPicPr/>
          <p:nvPr/>
        </p:nvPicPr>
        <p:blipFill>
          <a:blip r:embed="rId1"/>
          <a:stretch/>
        </p:blipFill>
        <p:spPr>
          <a:xfrm>
            <a:off x="0" y="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1" name="Imagen 7" descr="http://erikaaro.files.wordpress.com/2010/07/1253105729_ozono-16-09-2008.jpg"/>
          <p:cNvPicPr/>
          <p:nvPr/>
        </p:nvPicPr>
        <p:blipFill>
          <a:blip r:embed="rId2"/>
          <a:stretch/>
        </p:blipFill>
        <p:spPr>
          <a:xfrm>
            <a:off x="3143160" y="1571760"/>
            <a:ext cx="5864400" cy="507204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32" name="4 CuadroTexto"/>
          <p:cNvSpPr/>
          <p:nvPr/>
        </p:nvSpPr>
        <p:spPr>
          <a:xfrm>
            <a:off x="285840" y="3214800"/>
            <a:ext cx="1643040" cy="2111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Cómo actúa la capa de 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5 Flecha a la derecha con bandas"/>
          <p:cNvSpPr/>
          <p:nvPr/>
        </p:nvSpPr>
        <p:spPr>
          <a:xfrm>
            <a:off x="1928880" y="4000680"/>
            <a:ext cx="1214280" cy="500040"/>
          </a:xfrm>
          <a:custGeom>
            <a:avLst/>
            <a:gdLst>
              <a:gd name="textAreaLeft" fmla="*/ 78120 w 1214280"/>
              <a:gd name="textAreaRight" fmla="*/ 1089360 w 12142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1214437" h="500063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964406" y="125016"/>
                </a:lnTo>
                <a:lnTo>
                  <a:pt x="964406" y="0"/>
                </a:lnTo>
                <a:lnTo>
                  <a:pt x="1214437" y="250032"/>
                </a:lnTo>
                <a:lnTo>
                  <a:pt x="964406" y="500063"/>
                </a:lnTo>
                <a:lnTo>
                  <a:pt x="964406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92d05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49976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Corbel"/>
              </a:rPr>
              <a:t>Atmósfera terrestre: 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parte gaseosa de la tierra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Constituida por varios gases que varían en cantidad , según la presión a diversas altur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ta mezcla de gases se llama AI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l 75% de la atmósfera se localiza en los primeros 11 kms de altura s.n.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 la responsable de que las noches no sean gélidas (extremadamente frías) y los días no sean extremadamente caliente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La atmósfera está compuesta por capa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1. Trop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su altura va desde 6 km en zonas polares y entre los 18 y 20 en zonas intertropicales (razón: altitud s.n.m.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2. Estrat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se ubica en estratos más o menos horizontales. Va desde 9 a 18 (zona polar) y 50 km (zona intertropical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3. Ozon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de 15 a 40 km s.n.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4. Mes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se ubica entre los 50 y 80 km s.n.m. Zona más fría de la atmósfera (-80°C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5. Ion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se ubica entre 69 y 80 km, hasta 600 – 800 km.  La temperatura cambia con la actividad sol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6. Ex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se ubica entre los 600 – 800, hasta 2000 y 10000 km.  Los átomos químicos se escapan hacia el espaci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41" name="Imagen 8" descr="Archivo:Atmosphere layers-es.svg"/>
          <p:cNvPicPr/>
          <p:nvPr/>
        </p:nvPicPr>
        <p:blipFill>
          <a:blip r:embed="rId2"/>
          <a:stretch/>
        </p:blipFill>
        <p:spPr>
          <a:xfrm>
            <a:off x="5643720" y="1500120"/>
            <a:ext cx="2233440" cy="518796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42" name="4 CuadroTexto"/>
          <p:cNvSpPr/>
          <p:nvPr/>
        </p:nvSpPr>
        <p:spPr>
          <a:xfrm>
            <a:off x="357120" y="2236680"/>
            <a:ext cx="4071960" cy="3445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Arial"/>
              </a:rPr>
              <a:t>5. Exósf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Arial"/>
              </a:rPr>
              <a:t>4. Termósf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Arial"/>
              </a:rPr>
              <a:t>3. Mesósf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Arial"/>
              </a:rPr>
              <a:t>2. Estratósf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Arial"/>
              </a:rPr>
              <a:t>Tropósf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6 Conector recto de flecha"/>
          <p:cNvCxnSpPr/>
          <p:nvPr/>
        </p:nvCxnSpPr>
        <p:spPr>
          <a:xfrm>
            <a:off x="3642840" y="5500800"/>
            <a:ext cx="2001240" cy="1000800"/>
          </a:xfrm>
          <a:prstGeom prst="straightConnector1">
            <a:avLst/>
          </a:prstGeom>
          <a:ln cap="rnd" w="63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4" name="9 Conector recto de flecha"/>
          <p:cNvCxnSpPr/>
          <p:nvPr/>
        </p:nvCxnSpPr>
        <p:spPr>
          <a:xfrm>
            <a:off x="3857760" y="3429000"/>
            <a:ext cx="1715040" cy="2160"/>
          </a:xfrm>
          <a:prstGeom prst="straightConnector1">
            <a:avLst/>
          </a:prstGeom>
          <a:ln cap="rnd" w="63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5" name="10 Conector recto de flecha"/>
          <p:cNvCxnSpPr/>
          <p:nvPr/>
        </p:nvCxnSpPr>
        <p:spPr>
          <a:xfrm>
            <a:off x="4071960" y="4785840"/>
            <a:ext cx="1572480" cy="1072440"/>
          </a:xfrm>
          <a:prstGeom prst="straightConnector1">
            <a:avLst/>
          </a:prstGeom>
          <a:ln cap="rnd" w="63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6" name="11 Conector recto de flecha"/>
          <p:cNvCxnSpPr/>
          <p:nvPr/>
        </p:nvCxnSpPr>
        <p:spPr>
          <a:xfrm>
            <a:off x="3642840" y="4142880"/>
            <a:ext cx="2001240" cy="1072440"/>
          </a:xfrm>
          <a:prstGeom prst="straightConnector1">
            <a:avLst/>
          </a:prstGeom>
          <a:ln cap="rnd" w="63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7" name="12 Conector recto de flecha"/>
          <p:cNvCxnSpPr/>
          <p:nvPr/>
        </p:nvCxnSpPr>
        <p:spPr>
          <a:xfrm flipV="1">
            <a:off x="3285720" y="1928160"/>
            <a:ext cx="2358360" cy="857880"/>
          </a:xfrm>
          <a:prstGeom prst="straightConnector1">
            <a:avLst/>
          </a:prstGeom>
          <a:ln cap="rnd" w="63360">
            <a:solidFill>
              <a:srgbClr val="c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15280" cy="1427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 la forma de expresar cómo se encuentran los gases distribuidos en el ambiente natural, expresado en forma numérica muy exact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Partes por millón (ppm), por ejemp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Son usados en la industria, como en la investigación científic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Puede ser diluida o concentrada, o también:  insaturada, saturada o sobresaturad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64600" cy="1427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6840" y="1571760"/>
            <a:ext cx="8472600" cy="4829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Disolución diluid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la cantidad de soluto está en pequeña proporción en un volumen. Ej. Una taza de café muy ral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Disolución concentrad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que tiene una cantidad considerable de soluto en un volumen. Ej. Una taza de café concentrad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Disolución insaturad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tiene una menor cantidad de soluto que el máximo que pudiera contener a una temperatura y presión dados.  Ej. Taza de café rala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64600" cy="14274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285840" y="1571760"/>
            <a:ext cx="8572320" cy="500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Disolución saturada: 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que tiene la máxima cantidad de soluto que puede contener a una temperatura y presión dadas.  Ej. Una taza de café expres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Disolución sobresaturada: 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 contiene un exceso de soluto a temperatura y presión determinadas. Ej. Una taza de café expreso, corto o ristretto, el cual lleva 7 gr de café molido, entre 15 y 20 segundos, con 15 ml de agua.  El doble de café, que de agu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64600" cy="1427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Archivo:Dilution-concentration simple example-es-2009-01-06.png"/>
          <p:cNvPicPr/>
          <p:nvPr/>
        </p:nvPicPr>
        <p:blipFill>
          <a:blip r:embed="rId2"/>
          <a:stretch/>
        </p:blipFill>
        <p:spPr>
          <a:xfrm>
            <a:off x="642960" y="2000160"/>
            <a:ext cx="8040600" cy="2000520"/>
          </a:xfrm>
          <a:prstGeom prst="rect">
            <a:avLst/>
          </a:prstGeom>
          <a:ln w="0">
            <a:noFill/>
          </a:ln>
        </p:spPr>
      </p:pic>
      <p:sp>
        <p:nvSpPr>
          <p:cNvPr id="356" name="4 CuadroTexto"/>
          <p:cNvSpPr/>
          <p:nvPr/>
        </p:nvSpPr>
        <p:spPr>
          <a:xfrm>
            <a:off x="571680" y="4214880"/>
            <a:ext cx="814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0000"/>
                </a:solidFill>
                <a:latin typeface="Corbel"/>
              </a:rPr>
              <a:t>Estos vasos, que contienen un tinte rojo, muestran cambios cualitativos en la concentración. Las disoluciones a la izquierda están más diluidas, comparadas con las disoluciones más concentradas de la dere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1 Título" descr=""/>
          <p:cNvPicPr/>
          <p:nvPr/>
        </p:nvPicPr>
        <p:blipFill>
          <a:blip r:embed="rId1"/>
          <a:stretch/>
        </p:blipFill>
        <p:spPr>
          <a:xfrm>
            <a:off x="433440" y="152280"/>
            <a:ext cx="831384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La capa de ozono es un gas compuesto por moléculas de tres átomos de oxigeno. Rodea al planeta tierra en forma de capa que absorbe los rayos ultravioleta y protege al hombre de los efectos negativos de los rayos solar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A nivel del suelo las concentraciones de O3 son perjudiciales para el ser human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43B7-739A-4C4C-9A50-6D186E839C0F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9976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orbel"/>
              </a:rPr>
              <a:t>Aire:</a:t>
            </a: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 mezcla de gases de la atmósfera terrestre, que permanecen alrededor de la Tierra por la acción de la fuerza de gravedad.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Es esencial para la vida en el planeta, es delicado, fino y etéreo, transparente en las distancias cortas y medias si está limpio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Compuesto por N2 (78%), O</a:t>
            </a:r>
            <a:r>
              <a:rPr b="0" lang="es-ES" sz="31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 (21%), vapor de agua (entre 0 y 7%), O</a:t>
            </a:r>
            <a:r>
              <a:rPr b="0" lang="es-ES" sz="31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, CO</a:t>
            </a:r>
            <a:r>
              <a:rPr b="0" lang="es-ES" sz="31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 (0.04%), H y algunos gases nobles como el Criptón o Argón, (1% de otras sustancias)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1 Título" descr=""/>
          <p:cNvPicPr/>
          <p:nvPr/>
        </p:nvPicPr>
        <p:blipFill>
          <a:blip r:embed="rId1"/>
          <a:stretch/>
        </p:blipFill>
        <p:spPr>
          <a:xfrm>
            <a:off x="433440" y="152280"/>
            <a:ext cx="831384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E9E2-C584-4DEC-990C-739A6E55EA08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n 2" descr="http://katheba.files.wordpress.com/2010/05/capa-ozono-2.jpg"/>
          <p:cNvPicPr/>
          <p:nvPr/>
        </p:nvPicPr>
        <p:blipFill>
          <a:blip r:embed="rId2"/>
          <a:stretch/>
        </p:blipFill>
        <p:spPr>
          <a:xfrm>
            <a:off x="5940360" y="1773360"/>
            <a:ext cx="3203640" cy="46800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63" name="5 CuadroTexto"/>
          <p:cNvSpPr/>
          <p:nvPr/>
        </p:nvSpPr>
        <p:spPr>
          <a:xfrm>
            <a:off x="0" y="1484280"/>
            <a:ext cx="594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Calibri"/>
              </a:rPr>
              <a:t>En 1970 los científicos descubren que algunos compuestos de Flúor (Clorofluorocarbonados o CFCs), utilizados por mucho tiempo como refrigerantes y propelentes en aerosoloes, son una posible amenaza para la capa de oz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Calibri"/>
              </a:rPr>
              <a:t>La capa de O3 se está reduciendo entre 2 y 3% anualmente (un misteri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Calibri"/>
              </a:rPr>
              <a:t>Los CFC es un gas liviano muy estable puede permanecer allí por centenas de añ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os rayos UV en contacto con los CFC, producen una reacción química que libera Cl y Br y destruye el O3.  Aquí surge el verdadero asesino del O3, el Clor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Científicos descubren en la Antártida una impresionante disminución desde 1979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Así, aquello que hoy se conoce como "hueco del ozono", ya ha alcanzado una dimensión igual al doble de la superficie de los Estados Uni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4D79-37EE-48ED-8A66-C42C1AA42456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Una molécula de cloro puede continuar de este modo por más de un siglo, destruyendo así unas 100.000 moléculas de ozono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Y, en el futuro existe un riesgo de destrucción importante, por el posible aumento del cloro en la estratosfer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5023-413A-4322-ABEF-DFABDBDACEEE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839440" cy="14274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Sarampión, herpes, malaria, lepra, varicela y cáncer de piel, todas de origen cutáne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La exposición a la radiación UV ocasiona trastornos oculares y cataratas (ceguera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Menos alimentos: las radiaciones UV afectan la capacidad de las plantas de absorber la luz del sol en el proceso de fotosíntesis.  También puede verse reducido el contenido nutritivo y el crecimiento de las plant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5C63-0CAB-470C-87BF-5371735867F7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839440" cy="14274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El clima: variará por las emisiones de CFC, las cuales pueden contribuyen al calentamiento globa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La disminución de la capa de ozono parece hacerse cada día más evidente y dramática. Recientemente se descubrió un nuevo hueco, sobre Australia y Nueva Zeland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D98A-750C-4CE9-9D91-A967A6999DD5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Al exponerse al sol, utilizar ropa adecuada (ropa cerrada y sombrero de ala ancha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Al exponerse utilizar protector sol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Tratar de no exponerse entre las 10 y las 15 hr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Utilizar lentes de sol de alta ca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vitar compuestos que contengan CFCs (FOGEL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BEA7-F838-43FD-A8B3-917132CA61AD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725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Capa de ozono estratosférico = smog fotoquímic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COVs: Compuestos orgánicos volátiles, son las substancias que se evaporan fácilmente, incluidos los hidrocarbur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Contaminantes primarios: substancias que se emiten inicialmente al aire (NO, hidrocarburo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Contaminantes secundarios: los que se forman a partir de NO e hidrocarburos (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, HN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82" name="Imagen 2" descr="http://www.iescampanillas.es/revista0607/images/fotos%20central/2.jpg"/>
          <p:cNvPicPr/>
          <p:nvPr/>
        </p:nvPicPr>
        <p:blipFill>
          <a:blip r:embed="rId2"/>
          <a:stretch/>
        </p:blipFill>
        <p:spPr>
          <a:xfrm>
            <a:off x="117360" y="1500120"/>
            <a:ext cx="8832960" cy="51436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214200" y="1357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Se forma cuando la humedad en el aire se combina con los óxidos de nitrógeno y los ácidos de azufre, emitidos por fábricas, centrales eléctricas y automóviles (carbón o derivados del petróleo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tos se unen al vapor de agua, formando ácido sulfúrico y ácidos nítricos, con lo que se forma la lluvia ácid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tos contaminantes pueden recorrer cientos y miles de kms., hasta que precipita en forma de rocío, nieve, lluvia, granizo, neblina, etc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214200" y="150012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000000"/>
                </a:solidFill>
                <a:latin typeface="Corbel"/>
              </a:rPr>
              <a:t>Acidificación de las aguas de ríos, lagos y mares (muerte de la ictiofauna)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000000"/>
                </a:solidFill>
                <a:latin typeface="Corbel"/>
              </a:rPr>
              <a:t>Daña la vegetación (muerte de la flora), consecuentemente la fauna herbívora se queda sin aliment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000000"/>
                </a:solidFill>
                <a:latin typeface="Corbel"/>
              </a:rPr>
              <a:t>Si no precipita líquidamente, cae en forma de sedimentación seca, que daña los suelo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000000"/>
                </a:solidFill>
                <a:latin typeface="Corbel"/>
              </a:rPr>
              <a:t>Corroe las infraestructura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Hay empobrecimiento en ciertos nutrientes esenciales y el denominado </a:t>
            </a:r>
            <a:r>
              <a:rPr b="0" i="1" lang="es-ES" sz="3000" spc="-1" strike="noStrike">
                <a:solidFill>
                  <a:srgbClr val="000000"/>
                </a:solidFill>
                <a:latin typeface="Corbel"/>
              </a:rPr>
              <a:t>estrés en las plantas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, que las hace más vulnerables a las plaga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1" name="Imagen 4" descr="Archivo:Proporción de gases de la atmósfera.svg"/>
          <p:cNvPicPr/>
          <p:nvPr/>
        </p:nvPicPr>
        <p:blipFill>
          <a:blip r:embed="rId2"/>
          <a:stretch/>
        </p:blipFill>
        <p:spPr>
          <a:xfrm>
            <a:off x="6215040" y="1571760"/>
            <a:ext cx="2500200" cy="52084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12" name="4 CuadroTexto"/>
          <p:cNvSpPr/>
          <p:nvPr/>
        </p:nvSpPr>
        <p:spPr>
          <a:xfrm>
            <a:off x="500040" y="3429000"/>
            <a:ext cx="4214880" cy="1068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Composición del aire en la atmósf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Flecha a la derecha con bandas"/>
          <p:cNvSpPr/>
          <p:nvPr/>
        </p:nvSpPr>
        <p:spPr>
          <a:xfrm>
            <a:off x="4714920" y="3714840"/>
            <a:ext cx="1214280" cy="500040"/>
          </a:xfrm>
          <a:custGeom>
            <a:avLst/>
            <a:gdLst>
              <a:gd name="textAreaLeft" fmla="*/ 78120 w 1214280"/>
              <a:gd name="textAreaRight" fmla="*/ 1089360 w 12142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1214438" h="500063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964407" y="125016"/>
                </a:lnTo>
                <a:lnTo>
                  <a:pt x="964407" y="0"/>
                </a:lnTo>
                <a:lnTo>
                  <a:pt x="1214438" y="250032"/>
                </a:lnTo>
                <a:lnTo>
                  <a:pt x="964407" y="500063"/>
                </a:lnTo>
                <a:lnTo>
                  <a:pt x="964407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92d05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57176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Polución = contaminac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Forma más obvia de contaminación del aire: humo negro que sale de camiones diese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Humo: constituido por partículas materia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Las partículas pueden verse al ojo desnudo  y en conjunto forman una neblina que disminuye la visi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n Europa y EEUU es común observar en verano  el cielo blanco lechoso, en lugar de azu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Corbel"/>
              </a:rPr>
              <a:t>Energía químic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manifestación de la energ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 la que mueve los automóviles, buques, aviones, etc., que se da en el estrecho y reducido espacio de los cilindros de un motor de explos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La radiación solar, también es una forma de energía químic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7" name="Imagen 6" descr="[energia.jpg]"/>
          <p:cNvPicPr/>
          <p:nvPr/>
        </p:nvPicPr>
        <p:blipFill>
          <a:blip r:embed="rId2"/>
          <a:stretch/>
        </p:blipFill>
        <p:spPr>
          <a:xfrm>
            <a:off x="5019840" y="1500120"/>
            <a:ext cx="3503520" cy="52866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18" name="4 CuadroTexto"/>
          <p:cNvSpPr/>
          <p:nvPr/>
        </p:nvSpPr>
        <p:spPr>
          <a:xfrm>
            <a:off x="500040" y="3429000"/>
            <a:ext cx="3143160" cy="1068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Energía química so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5 Flecha a la derecha con bandas"/>
          <p:cNvSpPr/>
          <p:nvPr/>
        </p:nvSpPr>
        <p:spPr>
          <a:xfrm>
            <a:off x="3643200" y="3714840"/>
            <a:ext cx="1214640" cy="500040"/>
          </a:xfrm>
          <a:custGeom>
            <a:avLst/>
            <a:gdLst>
              <a:gd name="textAreaLeft" fmla="*/ 78120 w 1214640"/>
              <a:gd name="textAreaRight" fmla="*/ 1089720 w 12146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1214437" h="500063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964406" y="125016"/>
                </a:lnTo>
                <a:lnTo>
                  <a:pt x="964406" y="0"/>
                </a:lnTo>
                <a:lnTo>
                  <a:pt x="1214437" y="250032"/>
                </a:lnTo>
                <a:lnTo>
                  <a:pt x="964406" y="500063"/>
                </a:lnTo>
                <a:lnTo>
                  <a:pt x="964406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92d05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La energía que irradia el sol (helio) es utilizada por las plantas para realizar la fotosíntesis (alimentación, excreción, crecimiento)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l ingreso de la radiación solar hace que el (C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) ingrese a la planta, y ésta, en su proceso libera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, que es utilizado por el resto de los seres vivos (humanos y animale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3" name="Imagen 5" descr="http://2.bp.blogspot.com/_jzyv6kXDyJA/Rjy5JGA30oI/AAAAAAAAAB4/DavtYj8Ostg/s320/quimica.jpg"/>
          <p:cNvPicPr/>
          <p:nvPr/>
        </p:nvPicPr>
        <p:blipFill>
          <a:blip r:embed="rId2"/>
          <a:stretch/>
        </p:blipFill>
        <p:spPr>
          <a:xfrm>
            <a:off x="4714920" y="1571760"/>
            <a:ext cx="4381560" cy="507204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24" name="4 CuadroTexto"/>
          <p:cNvSpPr/>
          <p:nvPr/>
        </p:nvSpPr>
        <p:spPr>
          <a:xfrm>
            <a:off x="285840" y="3214800"/>
            <a:ext cx="3143160" cy="2111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Proceso de fotosíntesis (energía solar, H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Arial"/>
              </a:rPr>
              <a:t>2,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5 Flecha a la derecha con bandas"/>
          <p:cNvSpPr/>
          <p:nvPr/>
        </p:nvSpPr>
        <p:spPr>
          <a:xfrm>
            <a:off x="3429000" y="3857760"/>
            <a:ext cx="1214280" cy="500040"/>
          </a:xfrm>
          <a:custGeom>
            <a:avLst/>
            <a:gdLst>
              <a:gd name="textAreaLeft" fmla="*/ 78120 w 1214280"/>
              <a:gd name="textAreaRight" fmla="*/ 1089360 w 12142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1214438" h="500063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964407" y="125016"/>
                </a:lnTo>
                <a:lnTo>
                  <a:pt x="964407" y="0"/>
                </a:lnTo>
                <a:lnTo>
                  <a:pt x="1214438" y="250032"/>
                </a:lnTo>
                <a:lnTo>
                  <a:pt x="964407" y="500063"/>
                </a:lnTo>
                <a:lnTo>
                  <a:pt x="964407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92d05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49976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Ozono = O3, Ozonósfera = filtro natural de rayos UV a la tierr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Ozonósfera = se ubica entre 15 y 40 kms s.n.m., reúne el 90% del O3 en la atmósfera y absorbe entre el 97 y 99% de los rayos UV de alta frecuenci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Sin ese filtro, aumentarán los casos de cáncer en la piel, cataratas oculares, suprimirá el sistema inmunitario en humanos y eliminará plantas que no soportan los rayos UV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Método para su preservación: eliminar todas las formas  de uso de compuestos químicos como clorofluorocarbonados (refrigerantes, propelentes), y fungicidas (bromuro de metilo) que son 50 veces más nocivos para la capa de 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04:19Z</dcterms:created>
  <dc:creator>LUPITA</dc:creator>
  <dc:description/>
  <dc:language>en-US</dc:language>
  <cp:lastModifiedBy>sony</cp:lastModifiedBy>
  <dcterms:modified xsi:type="dcterms:W3CDTF">2012-09-23T03:47:51Z</dcterms:modified>
  <cp:revision>123</cp:revision>
  <dc:subject/>
  <dc:title>Diapositiva 1</dc:title>
</cp:coreProperties>
</file>