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8.png" ContentType="image/png"/>
  <Override PartName="/ppt/media/image1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29F-6679-4014-8D87-0EC06E7E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019-B0EF-45C7-88CC-7B72EBA4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85C-0175-405A-96C5-9999FBE5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32C-DA3B-4F0F-B529-79BEDB1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E4E6-B82C-47B9-B4A7-1BD05338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F19B-68C7-4135-A2FC-0E4658A2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4BF-8C6C-4745-9D9D-05BFBA97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91D-8673-481A-BD04-FA1C20B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6912-A71C-429D-ADD8-A6BF58F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3023-F094-4DA2-9818-96810B94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044E-1786-4C2E-AB88-C2111E5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AC6-20C5-4D86-B170-691E7108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755-4DAA-4E7F-9791-2DB4DEB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CE90-8420-4F36-A6EB-2BAB4A99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5C8B-0A10-48AA-B37C-E510E52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E17A-3B51-4C3F-8BB7-9DB7F44A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FC82-E7AD-4493-B391-FEB6EB14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5689-3E92-4025-95BD-11C1F58B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CE3A-E126-454E-AABE-80C45C72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E1D2-7A48-487E-A4DE-AD12EBF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548C-5B0E-4610-8A40-B585A4AE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1A6A-98F0-4648-AB6A-CB383C7E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C6A-DE1A-404E-B48B-A9E279D5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B1B9-DE68-4F95-B803-455D56AD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333B-6A69-4B9B-9B2E-E634CA7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3A5A-043D-495B-B830-41511595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D91B-F67F-4FC6-9981-2CE3A0E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498D3-0A1B-4442-BD2D-95F109D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C77D5-7E13-4A2A-AE8E-5D746F92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5E3D3-5A32-4EB3-B0DF-5051704A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4F6B1-2849-461F-91F6-9C0B2107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CB834-E7A8-4941-8273-ECE1F1BC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2AF42-2F99-467E-98F3-9566EC98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0BA-6A36-4407-85F0-B59DEB2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DE0D7-A76A-408A-9CD8-158F6D4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8DEA-A316-46E7-97C3-629B35D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7ABC-B065-4F70-ACDB-E6D0A489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502D3-038F-4659-854A-BCE19D91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90F4-134C-41F6-951A-6D15B8D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4922-F4AB-4B68-8F1B-B987CABD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1766-88F1-4FD4-8BE7-21FB8F1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7E4F-3B7A-47BF-844A-9A973045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07EF-6CF5-4B64-B7AE-300C2B19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011AC-67FA-4FFF-AAD3-74882967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E35-C79A-4949-9541-BE292E7C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C01D-E4A9-4BF8-A90D-FA552CB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2A99E-7A3B-4010-AAB2-767853E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A759-C00A-492A-8552-506FA35B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EAA31-E0F7-4001-BE21-A8069CCC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13CF8-DA80-4490-A8E4-96E1B8F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0797-C00F-4724-A820-0CC4141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D9D3-0EB7-44E0-940A-01A9E99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8392-FD18-4C79-B45A-948984A2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2B63F-0D8C-425C-B4F6-0E3256A3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2A94-E745-4651-9A96-059F7437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2C4-328D-4A64-9B27-8BEE75E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2E49-05D0-44C5-894B-AEC566FF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A6411-4D9B-4A96-8835-85888CFC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3D83-0AE1-441B-9DCF-6399B22E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9718A-71D4-4FC9-92C9-029398F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9BC4-1C54-4B2D-B2A0-B97C8D94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110E-BB92-469B-872D-4DD77F2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E00F1-56AD-462D-A154-BC802DA4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3433-651E-4392-ABBA-E2B4965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8C76D-76E2-4D4B-9BE6-5D578FF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BE570-983F-43AA-A34D-9D77056A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BD7-CB4A-4140-AE32-D8631694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82F0-7FC7-46EC-B9A4-277996E7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D946-8E2A-4164-B314-6631872D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58532-D454-4E8E-87B7-3353B107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B0980-5908-4615-9635-5782A17F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52E29-06F2-412E-9A76-807113E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12E1-7CC8-420E-A970-599292D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3A797-7ED5-4C58-B8C9-50564FE7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E4F6-40CB-4771-9870-93BC7FFB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2275-62A4-4AAB-8894-EDD327B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26E5-5C73-4A0A-AF5B-1D743BDF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AF0-F9F4-43AE-B2C7-84F60C8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A2366-C26F-43E6-9039-3894C30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DF91-4E4A-4A2F-A274-FC80079D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D1F6-91BC-4EE6-8228-CE4FA041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2EDCF-18D7-4649-B233-00DEB392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0F2F-92BB-4A3C-BC55-2238716D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DE0-1689-4E0D-B29E-CF35BE5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89A-21FA-4430-8E9F-522493F6E44D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8893-E53D-413D-A23D-15D56AE1763A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971-405D-4BE4-B28F-A1F548F00454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E820-5AF5-4B63-8D43-0B83ACF4187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6AD-5209-4803-947B-41A9C310B3FB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CDBD-5F88-4DAB-8148-9C200325AB8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F5E-4DE1-4882-8FCC-73C57A8F184A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620-54D2-48C3-9FA6-EEE8A3561E53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4565-50EB-404D-A019-C744FB5A2AD9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4053-AEC4-44B4-9123-A49977591AE7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74AA-4285-4F5C-925F-AEAE7E88AC64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B14-B588-49A1-A6C4-2C18510867BD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C97-FFCD-40D6-A304-FA1B0300D91E}" type="datetime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B5E-F949-46E5-AFCA-3E60117BAE20}" type="slidenum">
              <a:rPr b="0" lang="es-E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3 Rectángulo"/>
          <p:cNvSpPr/>
          <p:nvPr/>
        </p:nvSpPr>
        <p:spPr>
          <a:xfrm>
            <a:off x="2643120" y="214200"/>
            <a:ext cx="6072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d25d"/>
                </a:solidFill>
                <a:latin typeface="Bookman Old Style"/>
              </a:rPr>
              <a:t>UNIVERSIDAD DE SAN CARLOS DE GUATEMALA </a:t>
            </a:r>
            <a:br>
              <a:rPr sz="3000"/>
            </a:br>
            <a:r>
              <a:rPr b="1" lang="es-ES" sz="3000" spc="-1" strike="noStrike">
                <a:solidFill>
                  <a:srgbClr val="ffd25d"/>
                </a:solidFill>
                <a:latin typeface="Bookman Old Style"/>
              </a:rPr>
              <a:t>EXTENSIÓN POPTÚN PETÉ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214200" y="2071800"/>
            <a:ext cx="87156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Sexto Semest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Carrera: Profesorado en Enseñanza Media con Orientación Ambiental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c00000"/>
                </a:solidFill>
                <a:latin typeface="Corbel"/>
              </a:rPr>
              <a:t>Curso: Química Ambienta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900" spc="-1" strike="noStrike" u="sng">
                <a:solidFill>
                  <a:srgbClr val="00b050"/>
                </a:solidFill>
                <a:uFillTx/>
                <a:latin typeface="Corbel"/>
              </a:rPr>
              <a:t>Unidad IV. Química estratosférica: la capa de ozono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642960" y="5286240"/>
            <a:ext cx="800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Por: Ing. Ftal. Carlos Augusto Rodas Castell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http://ingcarlosrodas.blogspot.com</a:t>
            </a:r>
            <a:br>
              <a:rPr sz="2400"/>
            </a:br>
            <a:r>
              <a:rPr b="0" lang="es-GT" sz="2400" spc="-1" strike="noStrike">
                <a:solidFill>
                  <a:srgbClr val="ffc000"/>
                </a:solidFill>
                <a:latin typeface="Constantia"/>
              </a:rPr>
              <a:t>carlosrodasc@yahoo.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69CB-A642-4A24-AA6A-B45C40CC12D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8 Imagen" descr="LogoUSAC.gif"/>
          <p:cNvPicPr/>
          <p:nvPr/>
        </p:nvPicPr>
        <p:blipFill>
          <a:blip r:embed="rId1"/>
          <a:stretch/>
        </p:blipFill>
        <p:spPr>
          <a:xfrm>
            <a:off x="0" y="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31" name="Imagen 7" descr="http://erikaaro.files.wordpress.com/2010/07/1253105729_ozono-16-09-2008.jpg"/>
          <p:cNvPicPr/>
          <p:nvPr/>
        </p:nvPicPr>
        <p:blipFill>
          <a:blip r:embed="rId2"/>
          <a:stretch/>
        </p:blipFill>
        <p:spPr>
          <a:xfrm>
            <a:off x="3143160" y="1571760"/>
            <a:ext cx="5864400" cy="50720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32" name="4 CuadroTexto"/>
          <p:cNvSpPr/>
          <p:nvPr/>
        </p:nvSpPr>
        <p:spPr>
          <a:xfrm>
            <a:off x="285840" y="3214800"/>
            <a:ext cx="1643040" cy="21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Cómo actúa la capa de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5 Flecha a la derecha con bandas"/>
          <p:cNvSpPr/>
          <p:nvPr/>
        </p:nvSpPr>
        <p:spPr>
          <a:xfrm>
            <a:off x="1928880" y="400068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7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6" y="125016"/>
                </a:lnTo>
                <a:lnTo>
                  <a:pt x="964406" y="0"/>
                </a:lnTo>
                <a:lnTo>
                  <a:pt x="1214437" y="250032"/>
                </a:lnTo>
                <a:lnTo>
                  <a:pt x="964406" y="500063"/>
                </a:lnTo>
                <a:lnTo>
                  <a:pt x="964406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Corbel"/>
              </a:rPr>
              <a:t>Atmósfera terrestre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arte gaseosa de la tierra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stituida por varios gases que varían en cantidad , según la presión a diversas altur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a mezcla de gases se llama AI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l 75% de la atmósfera se localiza en los primeros 11 kms de altura s.n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responsable de que las noches no sean gélidas (extremadamente frías) y los días no sean extremadamente calient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 atmósfera está compuesta por capa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1. Trop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u altura va desde 6 km en zonas polares y entre los 18 y 20 en zonas intertropicales (razón: altitud s.n.m.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2. Estrat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 estratos más o menos horizontales. Va desde 9 a 18 (zona polar) y 50 km (zona intertropical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3. Ozon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de 15 a 40 km s.n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4. Mes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los 50 y 80 km s.n.m. Zona más fría de la atmósfera (-80°C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5. Ion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69 y 80 km, hasta 600 – 800 km.  La temperatura cambia con la actividad so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6. Exósfer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se ubica entre los 600 – 800, hasta 2000 y 10000 km.  Los átomos químicos se escapan hacia el espaci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41" name="Imagen 8" descr="Archivo:Atmosphere layers-es.svg"/>
          <p:cNvPicPr/>
          <p:nvPr/>
        </p:nvPicPr>
        <p:blipFill>
          <a:blip r:embed="rId2"/>
          <a:stretch/>
        </p:blipFill>
        <p:spPr>
          <a:xfrm>
            <a:off x="5643720" y="1500120"/>
            <a:ext cx="2233440" cy="518796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42" name="4 CuadroTexto"/>
          <p:cNvSpPr/>
          <p:nvPr/>
        </p:nvSpPr>
        <p:spPr>
          <a:xfrm>
            <a:off x="357120" y="2236680"/>
            <a:ext cx="4071960" cy="3445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5. Ex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4. Term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3. Mes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2. Estrat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Arial"/>
              </a:rPr>
              <a:t>Tropósf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6 Conector recto de flecha"/>
          <p:cNvCxnSpPr/>
          <p:nvPr/>
        </p:nvCxnSpPr>
        <p:spPr>
          <a:xfrm>
            <a:off x="3642840" y="5500800"/>
            <a:ext cx="2001240" cy="100080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4" name="9 Conector recto de flecha"/>
          <p:cNvCxnSpPr/>
          <p:nvPr/>
        </p:nvCxnSpPr>
        <p:spPr>
          <a:xfrm>
            <a:off x="3857760" y="3429000"/>
            <a:ext cx="1715040" cy="216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5" name="10 Conector recto de flecha"/>
          <p:cNvCxnSpPr/>
          <p:nvPr/>
        </p:nvCxnSpPr>
        <p:spPr>
          <a:xfrm>
            <a:off x="4071960" y="4785840"/>
            <a:ext cx="1572480" cy="107244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6" name="11 Conector recto de flecha"/>
          <p:cNvCxnSpPr/>
          <p:nvPr/>
        </p:nvCxnSpPr>
        <p:spPr>
          <a:xfrm>
            <a:off x="3642840" y="4142880"/>
            <a:ext cx="2001240" cy="107244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47" name="12 Conector recto de flecha"/>
          <p:cNvCxnSpPr/>
          <p:nvPr/>
        </p:nvCxnSpPr>
        <p:spPr>
          <a:xfrm flipV="1">
            <a:off x="3285720" y="1928160"/>
            <a:ext cx="2358360" cy="857880"/>
          </a:xfrm>
          <a:prstGeom prst="straightConnector1">
            <a:avLst/>
          </a:prstGeom>
          <a:ln cap="rnd" w="63360">
            <a:solidFill>
              <a:srgbClr val="c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15280" cy="1427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forma de expresar cómo se encuentran los gases distribuidos en el ambiente natural, expresado en forma numérica muy exact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artes por millón (ppm), por ejemp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on usados en la industria, como en la investigación científic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uede ser diluida o concentrada, o también:  insaturada, saturada o sobresatur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6840" y="1571760"/>
            <a:ext cx="8472600" cy="48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dilui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la cantidad de soluto está en pequeña proporción en un volumen. Ej. Una taza de café muy ral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concentra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que tiene una cantidad considerable de soluto en un volumen. Ej. Una taza de café concentra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insaturad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tiene una menor cantidad de soluto que el máximo que pudiera contener a una temperatura y presión dados.  Ej. Taza de café rala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285840" y="1571760"/>
            <a:ext cx="857232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saturada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que tiene la máxima cantidad de soluto que puede contener a una temperatura y presión dadas.  Ej. Una taza de café expres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 u="sng">
                <a:solidFill>
                  <a:srgbClr val="000000"/>
                </a:solidFill>
                <a:uFillTx/>
                <a:latin typeface="Corbel"/>
              </a:rPr>
              <a:t>Disolución sobresaturada: 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 contiene un exceso de soluto a temperatura y presión determinadas. Ej. Una taza de café expreso, corto o ristretto, el cual lleva 7 gr de café molido, entre 15 y 20 segundos, con 15 ml de agua.  El doble de café, que de agu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364600" cy="1427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Archivo:Dilution-concentration simple example-es-2009-01-06.png"/>
          <p:cNvPicPr/>
          <p:nvPr/>
        </p:nvPicPr>
        <p:blipFill>
          <a:blip r:embed="rId2"/>
          <a:stretch/>
        </p:blipFill>
        <p:spPr>
          <a:xfrm>
            <a:off x="642960" y="2000160"/>
            <a:ext cx="8040600" cy="2000520"/>
          </a:xfrm>
          <a:prstGeom prst="rect">
            <a:avLst/>
          </a:prstGeom>
          <a:ln w="0">
            <a:noFill/>
          </a:ln>
        </p:spPr>
      </p:pic>
      <p:sp>
        <p:nvSpPr>
          <p:cNvPr id="356" name="4 CuadroTexto"/>
          <p:cNvSpPr/>
          <p:nvPr/>
        </p:nvSpPr>
        <p:spPr>
          <a:xfrm>
            <a:off x="571680" y="4214880"/>
            <a:ext cx="814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orbel"/>
              </a:rPr>
              <a:t>Estos vasos, que contienen un tinte rojo, muestran cambios cualitativos en la concentración. Las disoluciones a la izquierda están más diluidas, comparadas con las disoluciones más concentradas de la dere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1 Título" descr=""/>
          <p:cNvPicPr/>
          <p:nvPr/>
        </p:nvPicPr>
        <p:blipFill>
          <a:blip r:embed="rId1"/>
          <a:stretch/>
        </p:blipFill>
        <p:spPr>
          <a:xfrm>
            <a:off x="433440" y="152280"/>
            <a:ext cx="831384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 capa de ozono es un gas compuesto por moléculas de tres átomos de oxigeno. Rodea al planeta tierra en forma de capa que absorbe los rayos ultravioleta y protege al hombre de los efectos negativos de los rayos sola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A nivel del suelo las concentraciones de O3 son perjudiciales para el ser human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50D1-84DB-45ED-BE07-A12025CA33DD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orbel"/>
              </a:rPr>
              <a:t>Aire: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 mezcla de gases de la atmósfera terrestre, que permanecen alrededor de la Tierra por la acción de la fuerza de gravedad.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Es esencial para la vida en el planeta, es delicado, fino y etéreo, transparente en las distancias cortas y medias si está limpio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Compuesto por N2 (78%), 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(21%), vapor de agua (entre 0 y 7%), 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, CO</a:t>
            </a:r>
            <a:r>
              <a:rPr b="0" lang="es-ES" sz="31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100" spc="-1" strike="noStrike">
                <a:solidFill>
                  <a:srgbClr val="000000"/>
                </a:solidFill>
                <a:latin typeface="Corbel"/>
              </a:rPr>
              <a:t> (0.04%), H y algunos gases nobles como el Criptón o Argón, (1% de otras sustancias).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433440" y="152280"/>
            <a:ext cx="831384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F6A5-F110-4B3B-97FD-3DE979633BEC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n 2" descr="http://katheba.files.wordpress.com/2010/05/capa-ozono-2.jpg"/>
          <p:cNvPicPr/>
          <p:nvPr/>
        </p:nvPicPr>
        <p:blipFill>
          <a:blip r:embed="rId2"/>
          <a:stretch/>
        </p:blipFill>
        <p:spPr>
          <a:xfrm>
            <a:off x="5940360" y="1773360"/>
            <a:ext cx="3203640" cy="46800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63" name="5 CuadroTexto"/>
          <p:cNvSpPr/>
          <p:nvPr/>
        </p:nvSpPr>
        <p:spPr>
          <a:xfrm>
            <a:off x="0" y="1484280"/>
            <a:ext cx="59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En 1970 los científicos descubren que algunos compuestos de Flúor (Clorofluorocarbonados o CFCs), utilizados por mucho tiempo como refrigerantes y propelentes en aerosoloes, son una posible amenaza para la capa de oz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La capa de O3 se está reduciendo entre 2 y 3% anualmente (un misteri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  <a:ea typeface="Calibri"/>
              </a:rPr>
              <a:t>Los CFC es un gas liviano muy estable puede permanecer allí por centenas de añ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os rayos UV en contacto con los CFC, producen una reacción química que libera Cl y Br y destruye el O3.  Aquí surge el verdadero asesino del O3, el Clor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Científicos descubren en la Antártida una impresionante disminución desde 1979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Así, aquello que hoy se conoce como "hueco del ozono", ya ha alcanzado una dimensión igual al doble de la superficie de los Estados Uni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281-DF2F-4ED7-A62D-FFE3F33A05DF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Una molécula de cloro puede continuar de este modo por más de un siglo, destruyendo así unas 100.000 moléculas de ozono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Y, en el futuro existe un riesgo de destrucción importante, por el posible aumento del cloro en la estratosfer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DA7F-7599-4B0E-8C08-B91F934D951E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839440" cy="14274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Sarampión, herpes, malaria, lepra, varicela y cáncer de piel, todas de origen cutáne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 exposición a la radiación UV ocasiona trastornos oculares y cataratas (ceguer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Menos alimentos: las radiaciones UV afectan la capacidad de las plantas de absorber la luz del sol en el proceso de fotosíntesis.  También puede verse reducido el contenido nutritivo y el crecimiento de las plant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58CA-00B2-45D1-BF89-3DFA6CF524EE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839440" cy="14274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El clima: variará por las emisiones de CFC, las cuales pueden contribuyen al calentamiento globa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orbel"/>
              </a:rPr>
              <a:t>La disminución de la capa de ozono parece hacerse cada día más evidente y dramática. Recientemente se descubrió un nuevo hueco, sobre Australia y Nueva Zelan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AAE2-AC9D-44F3-8F18-0347A3368F36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Al exponerse al sol, utilizar ropa adecuada (ropa cerrada y sombrero de ala anch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Al exponerse utilizar protector so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Tratar de no exponerse entre las 10 y las 15 hr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Utilizar lentes de sol de alta ca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vitar compuestos que contengan CFCs (FOGEL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7238-F973-47A7-8079-7A110B7A0144}" type="slidenum">
              <a:rPr b="0" lang="es-E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725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apa de ozono estratosférico = smog fotoquímic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Vs: Compuestos orgánicos volátiles, son las substancias que se evaporan fácilmente, incluidos los hidrocarbur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taminantes primarios: substancias que se emiten inicialmente al aire (NO, hidrocarburo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Contaminantes secundarios: los que se forman a partir de NO e hidrocarburos (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, HN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2" descr="http://www.iescampanillas.es/revista0607/images/fotos%20central/2.jpg"/>
          <p:cNvPicPr/>
          <p:nvPr/>
        </p:nvPicPr>
        <p:blipFill>
          <a:blip r:embed="rId2"/>
          <a:stretch/>
        </p:blipFill>
        <p:spPr>
          <a:xfrm>
            <a:off x="117360" y="1500120"/>
            <a:ext cx="8832960" cy="51436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14200" y="1357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e forma cuando la humedad en el aire se combina con los óxidos de nitrógeno y los ácidos de azufre, emitidos por fábricas, centrales eléctricas y automóviles (carbón o derivados del petróle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os se unen al vapor de agua, formando ácido sulfúrico y ácidos nítricos, con lo que se forma la lluvia ácid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tos contaminantes pueden recorrer cientos y miles de kms., hasta que precipita en forma de rocío, nieve, lluvia, granizo, neblina, etc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14200" y="1500120"/>
            <a:ext cx="8715600" cy="5143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Acidificación de las aguas de ríos, lagos y mares (muerte de la ictiofauna)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Daña la vegetación (muerte de la flora), consecuentemente la fauna herbívora se queda sin alimen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Si no precipita líquidamente, cae en forma de sedimentación seca, que daña los suel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000000"/>
                </a:solidFill>
                <a:latin typeface="Corbel"/>
              </a:rPr>
              <a:t>Corroe las infraestructura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Hay empobrecimiento en ciertos nutrientes esenciales y el denominado </a:t>
            </a:r>
            <a:r>
              <a:rPr b="0" i="1" lang="es-ES" sz="3000" spc="-1" strike="noStrike">
                <a:solidFill>
                  <a:srgbClr val="000000"/>
                </a:solidFill>
                <a:latin typeface="Corbel"/>
              </a:rPr>
              <a:t>estrés en las plantas</a:t>
            </a:r>
            <a:r>
              <a:rPr b="0" lang="es-ES" sz="3000" spc="-1" strike="noStrike">
                <a:solidFill>
                  <a:srgbClr val="000000"/>
                </a:solidFill>
                <a:latin typeface="Corbel"/>
              </a:rPr>
              <a:t>, que las hace más vulnerables a las plaga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Imagen 4" descr="Archivo:Proporción de gases de la atmósfera.svg"/>
          <p:cNvPicPr/>
          <p:nvPr/>
        </p:nvPicPr>
        <p:blipFill>
          <a:blip r:embed="rId2"/>
          <a:stretch/>
        </p:blipFill>
        <p:spPr>
          <a:xfrm>
            <a:off x="6215040" y="1571760"/>
            <a:ext cx="2500200" cy="52084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12" name="4 CuadroTexto"/>
          <p:cNvSpPr/>
          <p:nvPr/>
        </p:nvSpPr>
        <p:spPr>
          <a:xfrm>
            <a:off x="500040" y="3429000"/>
            <a:ext cx="421488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Composición del aire en la atmó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5 Flecha a la derecha con bandas"/>
          <p:cNvSpPr/>
          <p:nvPr/>
        </p:nvSpPr>
        <p:spPr>
          <a:xfrm>
            <a:off x="4714920" y="371484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7" y="125016"/>
                </a:lnTo>
                <a:lnTo>
                  <a:pt x="964407" y="0"/>
                </a:lnTo>
                <a:lnTo>
                  <a:pt x="1214438" y="250032"/>
                </a:lnTo>
                <a:lnTo>
                  <a:pt x="964407" y="500063"/>
                </a:lnTo>
                <a:lnTo>
                  <a:pt x="964407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57176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Polución = contamin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Forma más obvia de contaminación del aire: humo negro que sale de camiones diese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Humo: constituido por partículas materia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s partículas pueden verse al ojo desnudo  y en conjunto forman una neblina que disminuye la visi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n Europa y EEUU es común observar en verano  el cielo blanco lechoso, en lugar de azul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000000"/>
                </a:solidFill>
                <a:latin typeface="Corbel"/>
              </a:rPr>
              <a:t>Energía química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: manifestación de la energí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Es la que mueve los automóviles, buques, aviones, etc., que se da en el estrecho y reducido espacio de los cilindros de un motor de explos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La radiación solar, también es una forma de energía químic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17" name="Imagen 6" descr="[energia.jpg]"/>
          <p:cNvPicPr/>
          <p:nvPr/>
        </p:nvPicPr>
        <p:blipFill>
          <a:blip r:embed="rId2"/>
          <a:stretch/>
        </p:blipFill>
        <p:spPr>
          <a:xfrm>
            <a:off x="5019840" y="1500120"/>
            <a:ext cx="3503520" cy="52866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18" name="4 CuadroTexto"/>
          <p:cNvSpPr/>
          <p:nvPr/>
        </p:nvSpPr>
        <p:spPr>
          <a:xfrm>
            <a:off x="500040" y="3429000"/>
            <a:ext cx="314316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Energía química s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5 Flecha a la derecha con bandas"/>
          <p:cNvSpPr/>
          <p:nvPr/>
        </p:nvSpPr>
        <p:spPr>
          <a:xfrm>
            <a:off x="3643200" y="3714840"/>
            <a:ext cx="1214640" cy="500040"/>
          </a:xfrm>
          <a:custGeom>
            <a:avLst/>
            <a:gdLst>
              <a:gd name="textAreaLeft" fmla="*/ 78120 w 1214640"/>
              <a:gd name="textAreaRight" fmla="*/ 1089720 w 12146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7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6" y="125016"/>
                </a:lnTo>
                <a:lnTo>
                  <a:pt x="964406" y="0"/>
                </a:lnTo>
                <a:lnTo>
                  <a:pt x="1214437" y="250032"/>
                </a:lnTo>
                <a:lnTo>
                  <a:pt x="964406" y="500063"/>
                </a:lnTo>
                <a:lnTo>
                  <a:pt x="964406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La energía que irradia el sol (helio) es utilizada por las plantas para realizar la fotosíntesis (alimentación, excreción, crecimiento)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El ingreso de la radiación solar hace que el (C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) ingrese a la planta, y ésta, en su proceso libera O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Corbel"/>
              </a:rPr>
              <a:t>, que es utilizado por el resto de los seres vivos (humanos y animale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3" name="Imagen 5" descr="http://2.bp.blogspot.com/_jzyv6kXDyJA/Rjy5JGA30oI/AAAAAAAAAB4/DavtYj8Ostg/s320/quimica.jpg"/>
          <p:cNvPicPr/>
          <p:nvPr/>
        </p:nvPicPr>
        <p:blipFill>
          <a:blip r:embed="rId2"/>
          <a:stretch/>
        </p:blipFill>
        <p:spPr>
          <a:xfrm>
            <a:off x="4714920" y="1571760"/>
            <a:ext cx="4381560" cy="507204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sp>
        <p:nvSpPr>
          <p:cNvPr id="324" name="4 CuadroTexto"/>
          <p:cNvSpPr/>
          <p:nvPr/>
        </p:nvSpPr>
        <p:spPr>
          <a:xfrm>
            <a:off x="285840" y="3214800"/>
            <a:ext cx="3143160" cy="2111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Proceso de fotosíntesis (energía solar, H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O, C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es-GT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5 Flecha a la derecha con bandas"/>
          <p:cNvSpPr/>
          <p:nvPr/>
        </p:nvSpPr>
        <p:spPr>
          <a:xfrm>
            <a:off x="3429000" y="3857760"/>
            <a:ext cx="1214280" cy="500040"/>
          </a:xfrm>
          <a:custGeom>
            <a:avLst/>
            <a:gdLst>
              <a:gd name="textAreaLeft" fmla="*/ 78120 w 1214280"/>
              <a:gd name="textAreaRight" fmla="*/ 1089360 w 12142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1214438" h="500063">
                <a:moveTo>
                  <a:pt x="0" y="125016"/>
                </a:moveTo>
                <a:lnTo>
                  <a:pt x="15627" y="125016"/>
                </a:lnTo>
                <a:lnTo>
                  <a:pt x="15627" y="375047"/>
                </a:lnTo>
                <a:lnTo>
                  <a:pt x="0" y="375047"/>
                </a:lnTo>
                <a:close/>
                <a:moveTo>
                  <a:pt x="31254" y="125016"/>
                </a:moveTo>
                <a:lnTo>
                  <a:pt x="62508" y="125016"/>
                </a:lnTo>
                <a:lnTo>
                  <a:pt x="62508" y="375047"/>
                </a:lnTo>
                <a:lnTo>
                  <a:pt x="31254" y="375047"/>
                </a:lnTo>
                <a:close/>
                <a:moveTo>
                  <a:pt x="78135" y="125016"/>
                </a:moveTo>
                <a:lnTo>
                  <a:pt x="964407" y="125016"/>
                </a:lnTo>
                <a:lnTo>
                  <a:pt x="964407" y="0"/>
                </a:lnTo>
                <a:lnTo>
                  <a:pt x="1214438" y="250032"/>
                </a:lnTo>
                <a:lnTo>
                  <a:pt x="964407" y="500063"/>
                </a:lnTo>
                <a:lnTo>
                  <a:pt x="964407" y="375047"/>
                </a:lnTo>
                <a:lnTo>
                  <a:pt x="78135" y="375047"/>
                </a:lnTo>
                <a:close/>
              </a:path>
            </a:pathLst>
          </a:custGeom>
          <a:solidFill>
            <a:srgbClr val="92d050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49976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Ozono = O3, Ozonósfera = filtro natural de rayos UV a la tierr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Ozonósfera = se ubica entre 15 y 40 kms s.n.m., reúne el 90% del O3 en la atmósfera y absorbe entre el 97 y 99% de los rayos UV de alta frecuenci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Sin ese filtro, aumentarán los casos de cáncer en la piel, cataratas oculares, suprimirá el sistema inmunitario en humanos y eliminará plantas que no soportan los rayos UV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1 Título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just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Método para su preservación: eliminar todas las formas  de uso de compuestos químicos como clorofluorocarbonados (refrigerantes, propelentes), y fungicidas (bromuro de metilo) que son 50 veces más nocivos para la capa de O</a:t>
            </a:r>
            <a:r>
              <a:rPr b="0" lang="es-GT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s-G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04:19Z</dcterms:created>
  <dc:creator>LUPITA</dc:creator>
  <dc:description/>
  <dc:language>en-US</dc:language>
  <cp:lastModifiedBy>sony</cp:lastModifiedBy>
  <dcterms:modified xsi:type="dcterms:W3CDTF">2012-09-23T03:47:51Z</dcterms:modified>
  <cp:revision>123</cp:revision>
  <dc:subject/>
  <dc:title>Diapositiva 1</dc:title>
</cp:coreProperties>
</file>